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D262-FEC3-4916-9FBA-62A88600F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617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843D-BA0F-44EB-964F-1C30C274A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617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617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C3E0-C8D7-4F49-82F0-1B6705F51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617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617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617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D842-DF55-421A-94B5-68C30B559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B85C-2292-4196-84D4-0D2DA4D58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EC60-7FAF-4241-95F7-0451E6C7B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087E-525F-403E-B112-0846072B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2E34-7ECC-4462-A9E4-5195BDC8F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26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91BA-A161-4985-A204-FCC1C4996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617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DBE1-DD74-46B3-8F1A-581009E67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617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EF58-55E7-4CA9-B58C-1E190D1C1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617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1872-A3EC-48E4-BE2C-54C488547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aa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52120" y="6476760"/>
            <a:ext cx="5257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777777"/>
                </a:solidFill>
                <a:latin typeface="Arial"/>
              </a:rPr>
              <a:t>ICIP’06 (Atlanta) Tuesday Plenary Talk, D. Taub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F75-ED12-469B-8D86-E8493A3E1D2B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52360"/>
            <a:ext cx="8666280" cy="6172200"/>
          </a:xfrm>
          <a:prstGeom prst="rect">
            <a:avLst/>
          </a:prstGeom>
          <a:noFill/>
          <a:ln w="19080">
            <a:solidFill>
              <a:srgbClr val="82919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3760" y="309600"/>
            <a:ext cx="8665920" cy="6172200"/>
          </a:xfrm>
          <a:prstGeom prst="rect">
            <a:avLst/>
          </a:prstGeom>
          <a:noFill/>
          <a:ln w="19080">
            <a:solidFill>
              <a:srgbClr val="82919e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28760" y="128520"/>
            <a:ext cx="1239840" cy="304920"/>
          </a:xfrm>
          <a:prstGeom prst="rect">
            <a:avLst/>
          </a:prstGeom>
          <a:solidFill>
            <a:srgbClr val="dc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5757"/>
                </a:solidFill>
                <a:latin typeface="Baskerville Old Face"/>
              </a:rPr>
              <a:t>UNSW – EE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pip://nbtaubman/catscan_mct.jpx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Efficient Representation and Distribution of Video</a:t>
            </a:r>
            <a:br>
              <a:rPr sz="3600"/>
            </a:b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(and Related Media)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Taub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Electrical Engineering &amp; Telecommun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New South Wa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dney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92360" y="5867280"/>
            <a:ext cx="449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ote: If you reproduce any portion of this present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quote the source according to the footer on each sl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JPEG2000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dimensions of scalability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3211560" y="1824120"/>
            <a:ext cx="3376440" cy="2465280"/>
            <a:chOff x="3211560" y="1824120"/>
            <a:chExt cx="3376440" cy="2465280"/>
          </a:xfrm>
        </p:grpSpPr>
        <p:sp>
          <p:nvSpPr>
            <p:cNvPr id="1022" name=""/>
            <p:cNvSpPr/>
            <p:nvPr/>
          </p:nvSpPr>
          <p:spPr>
            <a:xfrm>
              <a:off x="6130800" y="2384640"/>
              <a:ext cx="457200" cy="1904760"/>
            </a:xfrm>
            <a:prstGeom prst="wedgeRoundRectCallout">
              <a:avLst>
                <a:gd name="adj1" fmla="val -109722"/>
                <a:gd name="adj2" fmla="val -46500"/>
                <a:gd name="adj3" fmla="val 16667"/>
              </a:avLst>
            </a:prstGeom>
            <a:solidFill>
              <a:srgbClr val="009999"/>
            </a:solidFill>
            <a:ln w="93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11560" y="1824120"/>
              <a:ext cx="2157120" cy="760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68d02"/>
                  </a:solidFill>
                  <a:latin typeface="Times New Roman"/>
                </a:rPr>
                <a:t>subset having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f68d02"/>
                  </a:solidFill>
                  <a:latin typeface="Times New Roman"/>
                </a:rPr>
                <a:t>low resolution,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f68d02"/>
                  </a:solidFill>
                  <a:latin typeface="Times New Roman"/>
                </a:rPr>
                <a:t>at very high 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4" name=""/>
            <p:cNvCxnSpPr>
              <a:stCxn id="1023" idx="3"/>
              <a:endCxn id="1022" idx="0"/>
            </p:cNvCxnSpPr>
            <p:nvPr/>
          </p:nvCxnSpPr>
          <p:spPr>
            <a:xfrm>
              <a:off x="5368320" y="2205000"/>
              <a:ext cx="489600" cy="246960"/>
            </a:xfrm>
            <a:prstGeom prst="curvedConnector5">
              <a:avLst>
                <a:gd name="adj1" fmla="val 77924"/>
                <a:gd name="adj2" fmla="val 49927"/>
                <a:gd name="adj3" fmla="val 77924"/>
              </a:avLst>
            </a:prstGeom>
            <a:ln w="19080">
              <a:solidFill>
                <a:srgbClr val="00ffff"/>
              </a:solidFill>
              <a:miter/>
              <a:tailEnd len="lg" type="stealth" w="lg"/>
            </a:ln>
          </p:spPr>
        </p:cxnSp>
      </p:grpSp>
      <p:grpSp>
        <p:nvGrpSpPr>
          <p:cNvPr id="1025" name=""/>
          <p:cNvGrpSpPr/>
          <p:nvPr/>
        </p:nvGrpSpPr>
        <p:grpSpPr>
          <a:xfrm>
            <a:off x="6130800" y="3908520"/>
            <a:ext cx="2986200" cy="1731960"/>
            <a:chOff x="6130800" y="3908520"/>
            <a:chExt cx="2986200" cy="1731960"/>
          </a:xfrm>
        </p:grpSpPr>
        <p:sp>
          <p:nvSpPr>
            <p:cNvPr id="1026" name=""/>
            <p:cNvSpPr/>
            <p:nvPr/>
          </p:nvSpPr>
          <p:spPr>
            <a:xfrm>
              <a:off x="6130800" y="3908520"/>
              <a:ext cx="1676520" cy="457200"/>
            </a:xfrm>
            <a:prstGeom prst="wedgeRoundRectCallout">
              <a:avLst>
                <a:gd name="adj1" fmla="val 0"/>
                <a:gd name="adj2" fmla="val 93402"/>
                <a:gd name="adj3" fmla="val 16667"/>
              </a:avLst>
            </a:prstGeom>
            <a:solidFill>
              <a:srgbClr val="cc66ff"/>
            </a:solidFill>
            <a:ln w="93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24640" y="4822920"/>
              <a:ext cx="2592360" cy="81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66ff"/>
                  </a:solidFill>
                  <a:latin typeface="Times New Roman"/>
                </a:rPr>
                <a:t>subset having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cc66ff"/>
                  </a:solidFill>
                  <a:latin typeface="Times New Roman"/>
                </a:rPr>
                <a:t>moderate resolution,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cc66ff"/>
                  </a:solidFill>
                  <a:latin typeface="Times New Roman"/>
                </a:rPr>
                <a:t>with coarse quant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8" name=""/>
            <p:cNvCxnSpPr>
              <a:stCxn id="1027" idx="1"/>
            </p:cNvCxnSpPr>
            <p:nvPr/>
          </p:nvCxnSpPr>
          <p:spPr>
            <a:xfrm flipH="1" rot="10800000">
              <a:off x="6523560" y="4545000"/>
              <a:ext cx="454680" cy="687960"/>
            </a:xfrm>
            <a:prstGeom prst="curvedConnector5">
              <a:avLst>
                <a:gd name="adj1" fmla="val -50316"/>
                <a:gd name="adj2" fmla="val 46439"/>
                <a:gd name="adj3" fmla="val -50316"/>
              </a:avLst>
            </a:prstGeom>
            <a:ln w="19080">
              <a:solidFill>
                <a:srgbClr val="00ffff"/>
              </a:solidFill>
              <a:miter/>
              <a:tailEnd len="lg" type="stealth" w="lg"/>
            </a:ln>
          </p:spPr>
        </p:cxnSp>
      </p:grpSp>
      <p:sp>
        <p:nvSpPr>
          <p:cNvPr id="1029" name=""/>
          <p:cNvSpPr/>
          <p:nvPr/>
        </p:nvSpPr>
        <p:spPr>
          <a:xfrm>
            <a:off x="1843200" y="4410000"/>
            <a:ext cx="3889440" cy="1249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43200" y="4498920"/>
            <a:ext cx="2528640" cy="107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43200" y="4678200"/>
            <a:ext cx="1263600" cy="712800"/>
          </a:xfrm>
          <a:prstGeom prst="ellipse">
            <a:avLst/>
          </a:prstGeom>
          <a:solidFill>
            <a:srgbClr val="665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892160" y="4938840"/>
            <a:ext cx="116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048120" y="4819680"/>
            <a:ext cx="13618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Re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rot="16200000">
            <a:off x="-938160" y="2712600"/>
            <a:ext cx="39085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rot="16200000">
            <a:off x="-256320" y="3481920"/>
            <a:ext cx="2541600" cy="105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rot="16200000">
            <a:off x="380160" y="4293000"/>
            <a:ext cx="1269720" cy="699840"/>
          </a:xfrm>
          <a:prstGeom prst="ellipse">
            <a:avLst/>
          </a:prstGeom>
          <a:solidFill>
            <a:srgbClr val="665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rot="16200000">
            <a:off x="426240" y="4515480"/>
            <a:ext cx="1173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y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rot="16200000">
            <a:off x="320760" y="3333240"/>
            <a:ext cx="136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y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334080" y="2041920"/>
            <a:ext cx="1366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y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5978520" y="1850760"/>
            <a:ext cx="0" cy="2438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972040" y="4295880"/>
            <a:ext cx="30258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207120" y="3984480"/>
            <a:ext cx="304920" cy="30492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07120" y="3679920"/>
            <a:ext cx="304920" cy="30456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207120" y="3375000"/>
            <a:ext cx="304920" cy="30492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207120" y="3070080"/>
            <a:ext cx="304920" cy="30492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07120" y="2765520"/>
            <a:ext cx="304920" cy="30456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207120" y="2460600"/>
            <a:ext cx="304920" cy="30492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207120" y="2155680"/>
            <a:ext cx="304920" cy="304920"/>
          </a:xfrm>
          <a:prstGeom prst="rect">
            <a:avLst/>
          </a:prstGeom>
          <a:solidFill>
            <a:srgbClr val="6652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16600" y="398448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16600" y="3679920"/>
            <a:ext cx="304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816600" y="337500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16600" y="307008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16600" y="2765520"/>
            <a:ext cx="304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816600" y="246060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16600" y="215568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426440" y="398448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426440" y="3679920"/>
            <a:ext cx="3045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426440" y="337500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426440" y="307008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426440" y="2765520"/>
            <a:ext cx="3045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426440" y="246060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426440" y="2155680"/>
            <a:ext cx="3045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035920" y="3984480"/>
            <a:ext cx="304920" cy="30492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8035920" y="3679920"/>
            <a:ext cx="304920" cy="30456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035920" y="3375000"/>
            <a:ext cx="304920" cy="30492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035920" y="3070080"/>
            <a:ext cx="304920" cy="30492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035920" y="2765520"/>
            <a:ext cx="304920" cy="30456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035920" y="2460600"/>
            <a:ext cx="304920" cy="30492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035920" y="2155680"/>
            <a:ext cx="304920" cy="304920"/>
          </a:xfrm>
          <a:prstGeom prst="rect">
            <a:avLst/>
          </a:prstGeom>
          <a:solidFill>
            <a:srgbClr val="f68d02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964640" y="4343400"/>
            <a:ext cx="93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916280" y="5699160"/>
            <a:ext cx="3816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olution Scalable Emb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rot="16200000">
            <a:off x="230040" y="3149280"/>
            <a:ext cx="316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y Scalable Emb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207120" y="1503360"/>
            <a:ext cx="26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olution and Distor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alable Emb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370400" y="4818240"/>
            <a:ext cx="13622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Re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5012640" y="3383280"/>
            <a:ext cx="143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lity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9529-AC54-4E5C-9152-785B2D932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JPEG2000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– JPIP interactivity (IS15444-9)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ends “window reques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gion, resolution, component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ends “JPIP stream”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escribing, arbitrarily 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emptable, server optimized data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typically models client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redundan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05240" y="2482920"/>
            <a:ext cx="1060200" cy="41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c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253360" y="1952280"/>
            <a:ext cx="58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806560" y="1744200"/>
            <a:ext cx="250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dow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70040" y="1349280"/>
            <a:ext cx="1136520" cy="690480"/>
          </a:xfrm>
          <a:prstGeom prst="rect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PIP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308560" y="1349280"/>
            <a:ext cx="1062000" cy="690480"/>
          </a:xfrm>
          <a:prstGeom prst="rect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PIP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2173320"/>
            <a:ext cx="1744920" cy="722160"/>
          </a:xfrm>
          <a:prstGeom prst="rect">
            <a:avLst/>
          </a:prstGeom>
          <a:solidFill>
            <a:srgbClr val="9f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ile or code-stre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205760" y="2482920"/>
            <a:ext cx="1592280" cy="411120"/>
          </a:xfrm>
          <a:prstGeom prst="rect">
            <a:avLst/>
          </a:prstGeom>
          <a:solidFill>
            <a:srgbClr val="9fff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mpress/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205760" y="1347840"/>
            <a:ext cx="1592280" cy="412560"/>
          </a:xfrm>
          <a:prstGeom prst="rect">
            <a:avLst/>
          </a:prstGeom>
          <a:solidFill>
            <a:srgbClr val="a1c6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6" name=""/>
          <p:cNvCxnSpPr>
            <a:stCxn id="1078" idx="1"/>
            <a:endCxn id="1081" idx="2"/>
          </p:cNvCxnSpPr>
          <p:nvPr/>
        </p:nvCxnSpPr>
        <p:spPr>
          <a:xfrm rot="10800000">
            <a:off x="2237760" y="2039040"/>
            <a:ext cx="267120" cy="6501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87" name=""/>
          <p:cNvCxnSpPr>
            <a:stCxn id="1088" idx="0"/>
            <a:endCxn id="1082" idx="2"/>
          </p:cNvCxnSpPr>
          <p:nvPr/>
        </p:nvCxnSpPr>
        <p:spPr>
          <a:xfrm flipV="1">
            <a:off x="5841720" y="2039040"/>
            <a:ext cx="1080" cy="4438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9" name=""/>
          <p:cNvSpPr/>
          <p:nvPr/>
        </p:nvSpPr>
        <p:spPr>
          <a:xfrm>
            <a:off x="2806560" y="1450800"/>
            <a:ext cx="250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806560" y="1967040"/>
            <a:ext cx="250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90720" y="1199880"/>
            <a:ext cx="250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PIP stream + response hea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2" name=""/>
          <p:cNvCxnSpPr>
            <a:stCxn id="1083" idx="0"/>
            <a:endCxn id="1081" idx="1"/>
          </p:cNvCxnSpPr>
          <p:nvPr/>
        </p:nvCxnSpPr>
        <p:spPr>
          <a:xfrm flipH="1" flipV="1" rot="5400000">
            <a:off x="1222200" y="1725120"/>
            <a:ext cx="478440" cy="41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8" name=""/>
          <p:cNvSpPr/>
          <p:nvPr/>
        </p:nvSpPr>
        <p:spPr>
          <a:xfrm>
            <a:off x="5308560" y="2482920"/>
            <a:ext cx="1062000" cy="41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70560" y="268920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813800" y="1760400"/>
            <a:ext cx="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8191440" y="1760040"/>
            <a:ext cx="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09720" y="195228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370560" y="145080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500160" y="12189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370560" y="165888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564960" y="1636200"/>
            <a:ext cx="42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21080" y="1660680"/>
            <a:ext cx="1295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743200" y="1082520"/>
            <a:ext cx="259092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0" y="2317680"/>
            <a:ext cx="1523880" cy="7621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1FCB-FF8F-446F-83D6-166E012A6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What can you do with JPIP?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monstrates interactive remote browsing of a large 3D medical volume, compressed using a 3D wavelet transform, fully conforming to the JPEG2000 (Part 2) and JPIP standards (IS 15444-2 and IS15444-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9590-32A4-4618-8E1E-403A10A5E1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calable video </a:t>
            </a: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– things that don’t work so well</a:t>
            </a:r>
            <a:endParaRPr b="0" lang="en-US" sz="28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wavelet transform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– (Karlsson &amp; Vetterli, ICASSP’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filtering ineffective with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pass frames corrupted by “ghos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energy 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998640" y="110952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92000" y="1316160"/>
            <a:ext cx="14414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7520" y="1523880"/>
            <a:ext cx="1439640" cy="103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380880" y="1730520"/>
            <a:ext cx="1438560" cy="1033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380880" y="1730520"/>
            <a:ext cx="1441440" cy="10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98640" y="110952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92000" y="1316160"/>
            <a:ext cx="14414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87520" y="1523880"/>
            <a:ext cx="1439640" cy="103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1905840" y="2533680"/>
            <a:ext cx="140040" cy="252000"/>
            <a:chOff x="1905840" y="2533680"/>
            <a:chExt cx="140040" cy="252000"/>
          </a:xfrm>
        </p:grpSpPr>
        <p:sp>
          <p:nvSpPr>
            <p:cNvPr id="1117" name=""/>
            <p:cNvSpPr/>
            <p:nvPr/>
          </p:nvSpPr>
          <p:spPr>
            <a:xfrm>
              <a:off x="1987200" y="2648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05840" y="253368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2117880" y="2332080"/>
            <a:ext cx="129600" cy="252000"/>
            <a:chOff x="2117880" y="2332080"/>
            <a:chExt cx="129600" cy="252000"/>
          </a:xfrm>
        </p:grpSpPr>
        <p:sp>
          <p:nvSpPr>
            <p:cNvPr id="1120" name=""/>
            <p:cNvSpPr/>
            <p:nvPr/>
          </p:nvSpPr>
          <p:spPr>
            <a:xfrm>
              <a:off x="2188800" y="2446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880" y="233208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2318040" y="2131920"/>
            <a:ext cx="142200" cy="252360"/>
            <a:chOff x="2318040" y="2131920"/>
            <a:chExt cx="142200" cy="252360"/>
          </a:xfrm>
        </p:grpSpPr>
        <p:sp>
          <p:nvSpPr>
            <p:cNvPr id="1123" name=""/>
            <p:cNvSpPr/>
            <p:nvPr/>
          </p:nvSpPr>
          <p:spPr>
            <a:xfrm>
              <a:off x="2401560" y="2246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18040" y="213192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2524320" y="1914480"/>
            <a:ext cx="138960" cy="249840"/>
            <a:chOff x="2524320" y="1914480"/>
            <a:chExt cx="138960" cy="249840"/>
          </a:xfrm>
        </p:grpSpPr>
        <p:sp>
          <p:nvSpPr>
            <p:cNvPr id="1126" name=""/>
            <p:cNvSpPr/>
            <p:nvPr/>
          </p:nvSpPr>
          <p:spPr>
            <a:xfrm>
              <a:off x="2604600" y="2026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24320" y="1914480"/>
              <a:ext cx="8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380880" y="1730520"/>
            <a:ext cx="1438560" cy="103320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380880" y="1730520"/>
            <a:ext cx="1441440" cy="10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98640" y="110952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92000" y="1316160"/>
            <a:ext cx="14414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87520" y="1523880"/>
            <a:ext cx="1439640" cy="103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3"/>
          <a:stretch/>
        </p:blipFill>
        <p:spPr>
          <a:xfrm>
            <a:off x="380880" y="1730520"/>
            <a:ext cx="1438560" cy="103320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380880" y="1730520"/>
            <a:ext cx="1441440" cy="10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3137040" y="2016000"/>
            <a:ext cx="1442880" cy="1036800"/>
            <a:chOff x="3137040" y="2016000"/>
            <a:chExt cx="1442880" cy="1036800"/>
          </a:xfrm>
        </p:grpSpPr>
        <p:sp>
          <p:nvSpPr>
            <p:cNvPr id="1136" name=""/>
            <p:cNvSpPr/>
            <p:nvPr/>
          </p:nvSpPr>
          <p:spPr>
            <a:xfrm>
              <a:off x="3139560" y="2016000"/>
              <a:ext cx="1440000" cy="103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39560" y="2016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58480" y="2016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39560" y="253332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58480" y="253332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498840" y="2016000"/>
              <a:ext cx="144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137040" y="2274120"/>
              <a:ext cx="714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2933640" y="2222640"/>
            <a:ext cx="1441440" cy="1038240"/>
            <a:chOff x="2933640" y="2222640"/>
            <a:chExt cx="1441440" cy="1038240"/>
          </a:xfrm>
        </p:grpSpPr>
        <p:sp>
          <p:nvSpPr>
            <p:cNvPr id="1144" name=""/>
            <p:cNvSpPr/>
            <p:nvPr/>
          </p:nvSpPr>
          <p:spPr>
            <a:xfrm>
              <a:off x="2935080" y="2222640"/>
              <a:ext cx="1439640" cy="1038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35080" y="222264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54360" y="222264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35080" y="274032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54360" y="274032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94000" y="2222640"/>
              <a:ext cx="108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33640" y="2481840"/>
              <a:ext cx="71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727360" y="2430360"/>
            <a:ext cx="1442880" cy="1036800"/>
            <a:chOff x="2727360" y="2430360"/>
            <a:chExt cx="1442880" cy="1036800"/>
          </a:xfrm>
        </p:grpSpPr>
        <p:sp>
          <p:nvSpPr>
            <p:cNvPr id="1152" name=""/>
            <p:cNvSpPr/>
            <p:nvPr/>
          </p:nvSpPr>
          <p:spPr>
            <a:xfrm>
              <a:off x="2729880" y="2430360"/>
              <a:ext cx="1440000" cy="103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29880" y="2430360"/>
              <a:ext cx="721440" cy="51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48800" y="2430360"/>
              <a:ext cx="721440" cy="51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9880" y="294768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48800" y="294768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89160" y="2430360"/>
              <a:ext cx="144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27360" y="2688120"/>
              <a:ext cx="714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9" name="" descr=""/>
          <p:cNvPicPr/>
          <p:nvPr/>
        </p:nvPicPr>
        <p:blipFill>
          <a:blip r:embed="rId4"/>
          <a:stretch/>
        </p:blipFill>
        <p:spPr>
          <a:xfrm>
            <a:off x="2522520" y="2637000"/>
            <a:ext cx="1438200" cy="1033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"/>
          <p:cNvGrpSpPr/>
          <p:nvPr/>
        </p:nvGrpSpPr>
        <p:grpSpPr>
          <a:xfrm>
            <a:off x="2522520" y="2637000"/>
            <a:ext cx="1442520" cy="1036440"/>
            <a:chOff x="2522520" y="2637000"/>
            <a:chExt cx="1442520" cy="1036440"/>
          </a:xfrm>
        </p:grpSpPr>
        <p:sp>
          <p:nvSpPr>
            <p:cNvPr id="1161" name=""/>
            <p:cNvSpPr/>
            <p:nvPr/>
          </p:nvSpPr>
          <p:spPr>
            <a:xfrm>
              <a:off x="2523960" y="2637000"/>
              <a:ext cx="1441080" cy="103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83240" y="2637000"/>
              <a:ext cx="108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522520" y="2894760"/>
              <a:ext cx="71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523960" y="2637000"/>
            <a:ext cx="1441080" cy="1036080"/>
            <a:chOff x="2523960" y="2637000"/>
            <a:chExt cx="1441080" cy="1036080"/>
          </a:xfrm>
        </p:grpSpPr>
        <p:sp>
          <p:nvSpPr>
            <p:cNvPr id="1165" name=""/>
            <p:cNvSpPr/>
            <p:nvPr/>
          </p:nvSpPr>
          <p:spPr>
            <a:xfrm>
              <a:off x="2523960" y="2637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43600" y="2637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23960" y="3152880"/>
              <a:ext cx="72144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43600" y="3152880"/>
              <a:ext cx="72144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2634840" y="3264480"/>
              <a:ext cx="508320" cy="277560"/>
              <a:chOff x="2634840" y="3264480"/>
              <a:chExt cx="508320" cy="277560"/>
            </a:xfrm>
          </p:grpSpPr>
          <p:sp>
            <p:nvSpPr>
              <p:cNvPr id="1170" name=""/>
              <p:cNvSpPr/>
              <p:nvPr/>
            </p:nvSpPr>
            <p:spPr>
              <a:xfrm>
                <a:off x="3084480" y="3404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947680" y="329040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33560" y="32904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634840" y="328248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745000" y="32644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3325680" y="3264480"/>
              <a:ext cx="537120" cy="277560"/>
              <a:chOff x="3325680" y="3264480"/>
              <a:chExt cx="537120" cy="277560"/>
            </a:xfrm>
          </p:grpSpPr>
          <p:sp>
            <p:nvSpPr>
              <p:cNvPr id="1176" name=""/>
              <p:cNvSpPr/>
              <p:nvPr/>
            </p:nvSpPr>
            <p:spPr>
              <a:xfrm>
                <a:off x="3804120" y="34045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537000" y="329040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H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325680" y="328248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435480" y="32644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3330720" y="2752920"/>
              <a:ext cx="520560" cy="273240"/>
              <a:chOff x="3330720" y="2752920"/>
              <a:chExt cx="520560" cy="273240"/>
            </a:xfrm>
          </p:grpSpPr>
          <p:sp>
            <p:nvSpPr>
              <p:cNvPr id="1181" name=""/>
              <p:cNvSpPr/>
              <p:nvPr/>
            </p:nvSpPr>
            <p:spPr>
              <a:xfrm>
                <a:off x="3792600" y="288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77400" y="277884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41320" y="277884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330720" y="277272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440880" y="275292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3137040" y="2016000"/>
            <a:ext cx="1442880" cy="1036800"/>
            <a:chOff x="3137040" y="2016000"/>
            <a:chExt cx="1442880" cy="1036800"/>
          </a:xfrm>
        </p:grpSpPr>
        <p:sp>
          <p:nvSpPr>
            <p:cNvPr id="1187" name=""/>
            <p:cNvSpPr/>
            <p:nvPr/>
          </p:nvSpPr>
          <p:spPr>
            <a:xfrm>
              <a:off x="3139560" y="2016000"/>
              <a:ext cx="1440000" cy="103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139560" y="2016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8480" y="2016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139560" y="253332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8480" y="253332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98840" y="2016000"/>
              <a:ext cx="144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37040" y="2274120"/>
              <a:ext cx="714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933640" y="2222640"/>
            <a:ext cx="1441440" cy="1038240"/>
            <a:chOff x="2933640" y="2222640"/>
            <a:chExt cx="1441440" cy="1038240"/>
          </a:xfrm>
        </p:grpSpPr>
        <p:sp>
          <p:nvSpPr>
            <p:cNvPr id="1195" name=""/>
            <p:cNvSpPr/>
            <p:nvPr/>
          </p:nvSpPr>
          <p:spPr>
            <a:xfrm>
              <a:off x="2935080" y="2222640"/>
              <a:ext cx="1439640" cy="1038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935080" y="222264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54360" y="222264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5080" y="274032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54360" y="2740320"/>
              <a:ext cx="72072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94000" y="2222640"/>
              <a:ext cx="108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933640" y="2481840"/>
              <a:ext cx="71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727360" y="2430360"/>
            <a:ext cx="1442880" cy="1036800"/>
            <a:chOff x="2727360" y="2430360"/>
            <a:chExt cx="1442880" cy="1036800"/>
          </a:xfrm>
        </p:grpSpPr>
        <p:sp>
          <p:nvSpPr>
            <p:cNvPr id="1203" name=""/>
            <p:cNvSpPr/>
            <p:nvPr/>
          </p:nvSpPr>
          <p:spPr>
            <a:xfrm>
              <a:off x="2729880" y="2430360"/>
              <a:ext cx="1440000" cy="103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29880" y="2430360"/>
              <a:ext cx="721440" cy="51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448800" y="2430360"/>
              <a:ext cx="721440" cy="51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29880" y="294768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48800" y="294768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89160" y="2430360"/>
              <a:ext cx="144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27360" y="2688120"/>
              <a:ext cx="714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522520" y="2637000"/>
            <a:ext cx="1442880" cy="1036440"/>
            <a:chOff x="2522520" y="2637000"/>
            <a:chExt cx="1442880" cy="1036440"/>
          </a:xfrm>
        </p:grpSpPr>
        <p:sp>
          <p:nvSpPr>
            <p:cNvPr id="1211" name=""/>
            <p:cNvSpPr/>
            <p:nvPr/>
          </p:nvSpPr>
          <p:spPr>
            <a:xfrm>
              <a:off x="2523960" y="2637000"/>
              <a:ext cx="1441080" cy="1036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23960" y="2637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43960" y="2637000"/>
              <a:ext cx="72144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23960" y="3152880"/>
              <a:ext cx="72144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43960" y="3152880"/>
              <a:ext cx="72144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83240" y="2637000"/>
              <a:ext cx="108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22520" y="2894760"/>
              <a:ext cx="71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551400" y="211932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551400" y="211932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344760" y="2325600"/>
            <a:ext cx="7225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344760" y="2325600"/>
            <a:ext cx="7225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139920" y="2016000"/>
            <a:ext cx="144000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9920" y="201600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859200" y="2016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139920" y="253368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859200" y="253368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500280" y="201600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137040" y="227484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139920" y="2016000"/>
            <a:ext cx="144000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139920" y="201600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9200" y="2016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139920" y="253368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59200" y="253368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00280" y="201600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137040" y="227484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935440" y="2222640"/>
            <a:ext cx="14396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93544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65436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93544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5436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294000" y="2222640"/>
            <a:ext cx="180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933640" y="2481120"/>
            <a:ext cx="71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935440" y="2222640"/>
            <a:ext cx="14396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93544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65436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3544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5436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294000" y="2222640"/>
            <a:ext cx="180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933640" y="2481120"/>
            <a:ext cx="71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730600" y="243036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730600" y="243036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48080" y="243036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730600" y="294804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448080" y="294804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089160" y="243036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727360" y="2687760"/>
            <a:ext cx="71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730600" y="243036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730600" y="243036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448080" y="243036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30600" y="294804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448080" y="294804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089160" y="243036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727360" y="2687760"/>
            <a:ext cx="71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523960" y="2637000"/>
            <a:ext cx="1441440" cy="1036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23960" y="2637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243240" y="263700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523960" y="315288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243240" y="3152880"/>
            <a:ext cx="722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882880" y="2637000"/>
            <a:ext cx="1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22520" y="2895480"/>
            <a:ext cx="71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523960" y="2637000"/>
            <a:ext cx="1441440" cy="1036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523960" y="2637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243240" y="263700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523960" y="315288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243240" y="3152880"/>
            <a:ext cx="722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882880" y="2637000"/>
            <a:ext cx="1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522520" y="2895480"/>
            <a:ext cx="71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551400" y="211932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551400" y="211932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344760" y="2325600"/>
            <a:ext cx="7225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344760" y="2325600"/>
            <a:ext cx="7225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2016000"/>
            <a:ext cx="144000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139920" y="201600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59200" y="2016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139920" y="253368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59200" y="253368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500280" y="201600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137040" y="227484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39920" y="2016000"/>
            <a:ext cx="144000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139920" y="201600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859200" y="2016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139920" y="2533680"/>
            <a:ext cx="7225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59200" y="253368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500280" y="201600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37040" y="227484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35440" y="2222640"/>
            <a:ext cx="14396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3544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65436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93544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65436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294000" y="2222640"/>
            <a:ext cx="180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933640" y="2481120"/>
            <a:ext cx="71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935440" y="2222640"/>
            <a:ext cx="14396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3544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654360" y="222264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93544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654360" y="2739960"/>
            <a:ext cx="7207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294000" y="2222640"/>
            <a:ext cx="180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33640" y="2481120"/>
            <a:ext cx="71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730600" y="243036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730600" y="243036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48080" y="243036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730600" y="294804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448080" y="294804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089160" y="243036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27360" y="2687760"/>
            <a:ext cx="71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730600" y="2430360"/>
            <a:ext cx="143964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730600" y="243036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448080" y="243036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730600" y="294804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448080" y="294804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089160" y="243036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27360" y="2687760"/>
            <a:ext cx="71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4461480" y="3035160"/>
            <a:ext cx="392760" cy="277560"/>
            <a:chOff x="4461480" y="3035160"/>
            <a:chExt cx="392760" cy="277560"/>
          </a:xfrm>
        </p:grpSpPr>
        <p:sp>
          <p:nvSpPr>
            <p:cNvPr id="1325" name=""/>
            <p:cNvSpPr/>
            <p:nvPr/>
          </p:nvSpPr>
          <p:spPr>
            <a:xfrm>
              <a:off x="4795560" y="3175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52280" y="30610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61480" y="30564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45000" y="30351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4663080" y="2828880"/>
            <a:ext cx="400680" cy="277920"/>
            <a:chOff x="4663080" y="2828880"/>
            <a:chExt cx="400680" cy="277920"/>
          </a:xfrm>
        </p:grpSpPr>
        <p:sp>
          <p:nvSpPr>
            <p:cNvPr id="1330" name=""/>
            <p:cNvSpPr/>
            <p:nvPr/>
          </p:nvSpPr>
          <p:spPr>
            <a:xfrm>
              <a:off x="5005080" y="2969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54240" y="2855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63080" y="2850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746600" y="2828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4254840" y="3241800"/>
            <a:ext cx="402480" cy="273240"/>
            <a:chOff x="4254840" y="3241800"/>
            <a:chExt cx="402480" cy="273240"/>
          </a:xfrm>
        </p:grpSpPr>
        <p:sp>
          <p:nvSpPr>
            <p:cNvPr id="1335" name=""/>
            <p:cNvSpPr/>
            <p:nvPr/>
          </p:nvSpPr>
          <p:spPr>
            <a:xfrm>
              <a:off x="4598640" y="3377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446360" y="32688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54840" y="3263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38360" y="32418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046760" y="3465360"/>
            <a:ext cx="361080" cy="268200"/>
            <a:chOff x="4046760" y="3465360"/>
            <a:chExt cx="361080" cy="268200"/>
          </a:xfrm>
        </p:grpSpPr>
        <p:sp>
          <p:nvSpPr>
            <p:cNvPr id="1340" name=""/>
            <p:cNvSpPr/>
            <p:nvPr/>
          </p:nvSpPr>
          <p:spPr>
            <a:xfrm>
              <a:off x="4349160" y="3596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31080" y="3492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046760" y="3486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30280" y="3465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4" name="" descr=""/>
          <p:cNvPicPr/>
          <p:nvPr/>
        </p:nvPicPr>
        <p:blipFill>
          <a:blip r:embed="rId5"/>
          <a:stretch/>
        </p:blipFill>
        <p:spPr>
          <a:xfrm>
            <a:off x="2522520" y="2637000"/>
            <a:ext cx="1438200" cy="103320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2523960" y="2637000"/>
            <a:ext cx="1441440" cy="10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882880" y="2637000"/>
            <a:ext cx="1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522520" y="2895480"/>
            <a:ext cx="71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23960" y="2637000"/>
            <a:ext cx="1441440" cy="10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882880" y="2637000"/>
            <a:ext cx="1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522520" y="2895480"/>
            <a:ext cx="71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523960" y="2637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243240" y="263700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23960" y="315288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243240" y="3152880"/>
            <a:ext cx="722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2634120" y="3265560"/>
            <a:ext cx="508680" cy="277560"/>
            <a:chOff x="2634120" y="3265560"/>
            <a:chExt cx="508680" cy="277560"/>
          </a:xfrm>
        </p:grpSpPr>
        <p:sp>
          <p:nvSpPr>
            <p:cNvPr id="1356" name=""/>
            <p:cNvSpPr/>
            <p:nvPr/>
          </p:nvSpPr>
          <p:spPr>
            <a:xfrm>
              <a:off x="3084120" y="340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47320" y="32914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33200" y="3291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34120" y="32835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44280" y="3265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326040" y="3265560"/>
            <a:ext cx="537480" cy="277560"/>
            <a:chOff x="3326040" y="3265560"/>
            <a:chExt cx="537480" cy="277560"/>
          </a:xfrm>
        </p:grpSpPr>
        <p:sp>
          <p:nvSpPr>
            <p:cNvPr id="1362" name=""/>
            <p:cNvSpPr/>
            <p:nvPr/>
          </p:nvSpPr>
          <p:spPr>
            <a:xfrm>
              <a:off x="3804840" y="340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537360" y="329148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26040" y="32835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435840" y="3265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3331080" y="2754360"/>
            <a:ext cx="519840" cy="273240"/>
            <a:chOff x="3331080" y="2754360"/>
            <a:chExt cx="519840" cy="273240"/>
          </a:xfrm>
        </p:grpSpPr>
        <p:sp>
          <p:nvSpPr>
            <p:cNvPr id="1367" name=""/>
            <p:cNvSpPr/>
            <p:nvPr/>
          </p:nvSpPr>
          <p:spPr>
            <a:xfrm>
              <a:off x="3792240" y="28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77400" y="2780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41320" y="2780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31080" y="27741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0520" y="2754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2523960" y="2637000"/>
            <a:ext cx="72072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243240" y="2637000"/>
            <a:ext cx="722160" cy="51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23960" y="3152880"/>
            <a:ext cx="720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43240" y="3152880"/>
            <a:ext cx="722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2634120" y="3265560"/>
            <a:ext cx="508680" cy="277560"/>
            <a:chOff x="2634120" y="3265560"/>
            <a:chExt cx="508680" cy="277560"/>
          </a:xfrm>
        </p:grpSpPr>
        <p:sp>
          <p:nvSpPr>
            <p:cNvPr id="1377" name=""/>
            <p:cNvSpPr/>
            <p:nvPr/>
          </p:nvSpPr>
          <p:spPr>
            <a:xfrm>
              <a:off x="3084120" y="340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47320" y="32914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33200" y="3291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4120" y="32835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4280" y="3265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3326040" y="3265560"/>
            <a:ext cx="537480" cy="277560"/>
            <a:chOff x="3326040" y="3265560"/>
            <a:chExt cx="537480" cy="277560"/>
          </a:xfrm>
        </p:grpSpPr>
        <p:sp>
          <p:nvSpPr>
            <p:cNvPr id="1383" name=""/>
            <p:cNvSpPr/>
            <p:nvPr/>
          </p:nvSpPr>
          <p:spPr>
            <a:xfrm>
              <a:off x="3804840" y="3405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537360" y="329148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26040" y="32835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35840" y="32655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3331080" y="2754360"/>
            <a:ext cx="519840" cy="273240"/>
            <a:chOff x="3331080" y="2754360"/>
            <a:chExt cx="519840" cy="273240"/>
          </a:xfrm>
        </p:grpSpPr>
        <p:sp>
          <p:nvSpPr>
            <p:cNvPr id="1388" name=""/>
            <p:cNvSpPr/>
            <p:nvPr/>
          </p:nvSpPr>
          <p:spPr>
            <a:xfrm>
              <a:off x="3792240" y="28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677400" y="2780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41320" y="2780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31080" y="27741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440520" y="2754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1147680" y="2911320"/>
            <a:ext cx="1168560" cy="414360"/>
          </a:xfrm>
          <a:custGeom>
            <a:avLst/>
            <a:gdLst/>
            <a:ahLst/>
            <a:rect l="l" t="t" r="r" b="b"/>
            <a:pathLst>
              <a:path w="771" h="272">
                <a:moveTo>
                  <a:pt x="0" y="0"/>
                </a:moveTo>
                <a:lnTo>
                  <a:pt x="0" y="272"/>
                </a:lnTo>
                <a:lnTo>
                  <a:pt x="771" y="2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6"/>
          <a:stretch/>
        </p:blipFill>
        <p:spPr>
          <a:xfrm>
            <a:off x="5343480" y="1239840"/>
            <a:ext cx="3419640" cy="272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DFDB-B4E8-4695-84AB-2391BE614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Traditional video coding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– MC DPCM</a:t>
            </a:r>
            <a:endParaRPr b="0" lang="en-US" sz="28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04920" y="4114800"/>
            <a:ext cx="85629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" descr=""/>
          <p:cNvPicPr/>
          <p:nvPr/>
        </p:nvPicPr>
        <p:blipFill>
          <a:blip r:embed="rId1"/>
          <a:stretch/>
        </p:blipFill>
        <p:spPr>
          <a:xfrm>
            <a:off x="5403960" y="1219320"/>
            <a:ext cx="1239840" cy="9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98" name="" descr=""/>
          <p:cNvPicPr/>
          <p:nvPr/>
        </p:nvPicPr>
        <p:blipFill>
          <a:blip r:embed="rId2"/>
          <a:stretch/>
        </p:blipFill>
        <p:spPr>
          <a:xfrm>
            <a:off x="2120760" y="1219320"/>
            <a:ext cx="1239840" cy="92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99" name="" descr=""/>
          <p:cNvPicPr/>
          <p:nvPr/>
        </p:nvPicPr>
        <p:blipFill>
          <a:blip r:embed="rId3"/>
          <a:stretch/>
        </p:blipFill>
        <p:spPr>
          <a:xfrm>
            <a:off x="2128680" y="2971800"/>
            <a:ext cx="1222560" cy="92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0" name="" descr=""/>
          <p:cNvPicPr/>
          <p:nvPr/>
        </p:nvPicPr>
        <p:blipFill>
          <a:blip r:embed="rId4"/>
          <a:stretch/>
        </p:blipFill>
        <p:spPr>
          <a:xfrm>
            <a:off x="5415120" y="2971800"/>
            <a:ext cx="1220760" cy="92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1" name="" descr=""/>
          <p:cNvPicPr/>
          <p:nvPr/>
        </p:nvPicPr>
        <p:blipFill>
          <a:blip r:embed="rId5"/>
          <a:stretch/>
        </p:blipFill>
        <p:spPr>
          <a:xfrm>
            <a:off x="5411880" y="5241960"/>
            <a:ext cx="1239840" cy="9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2" name="" descr=""/>
          <p:cNvPicPr/>
          <p:nvPr/>
        </p:nvPicPr>
        <p:blipFill>
          <a:blip r:embed="rId6"/>
          <a:stretch/>
        </p:blipFill>
        <p:spPr>
          <a:xfrm>
            <a:off x="2120760" y="5241960"/>
            <a:ext cx="1239840" cy="9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3" name=""/>
          <p:cNvSpPr/>
          <p:nvPr/>
        </p:nvSpPr>
        <p:spPr>
          <a:xfrm>
            <a:off x="2587680" y="2438280"/>
            <a:ext cx="306360" cy="32400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4" name=""/>
          <p:cNvCxnSpPr>
            <a:stCxn id="1398" idx="2"/>
            <a:endCxn id="1403" idx="0"/>
          </p:cNvCxnSpPr>
          <p:nvPr/>
        </p:nvCxnSpPr>
        <p:spPr>
          <a:xfrm>
            <a:off x="2741400" y="215748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5" name=""/>
          <p:cNvCxnSpPr>
            <a:stCxn id="1403" idx="4"/>
            <a:endCxn id="1399" idx="0"/>
          </p:cNvCxnSpPr>
          <p:nvPr/>
        </p:nvCxnSpPr>
        <p:spPr>
          <a:xfrm flipH="1">
            <a:off x="2739240" y="2771640"/>
            <a:ext cx="252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6" name=""/>
          <p:cNvSpPr/>
          <p:nvPr/>
        </p:nvSpPr>
        <p:spPr>
          <a:xfrm>
            <a:off x="5869080" y="2438280"/>
            <a:ext cx="304560" cy="32400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7" name=""/>
          <p:cNvCxnSpPr>
            <a:stCxn id="1397" idx="2"/>
            <a:endCxn id="1406" idx="0"/>
          </p:cNvCxnSpPr>
          <p:nvPr/>
        </p:nvCxnSpPr>
        <p:spPr>
          <a:xfrm flipH="1">
            <a:off x="6020640" y="2158920"/>
            <a:ext cx="3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8" name=""/>
          <p:cNvCxnSpPr>
            <a:stCxn id="1406" idx="4"/>
            <a:endCxn id="1400" idx="0"/>
          </p:cNvCxnSpPr>
          <p:nvPr/>
        </p:nvCxnSpPr>
        <p:spPr>
          <a:xfrm>
            <a:off x="6021000" y="2771640"/>
            <a:ext cx="540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9" name=""/>
          <p:cNvSpPr/>
          <p:nvPr/>
        </p:nvSpPr>
        <p:spPr>
          <a:xfrm>
            <a:off x="3587760" y="3048120"/>
            <a:ext cx="105552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0" name=""/>
          <p:cNvCxnSpPr>
            <a:stCxn id="1399" idx="3"/>
            <a:endCxn id="1409" idx="1"/>
          </p:cNvCxnSpPr>
          <p:nvPr/>
        </p:nvCxnSpPr>
        <p:spPr>
          <a:xfrm>
            <a:off x="3360240" y="3431880"/>
            <a:ext cx="218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3602160" y="4343400"/>
            <a:ext cx="103176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quantiz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87680" y="4567320"/>
            <a:ext cx="306360" cy="32364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3" name=""/>
          <p:cNvCxnSpPr>
            <a:stCxn id="1412" idx="4"/>
            <a:endCxn id="1402" idx="0"/>
          </p:cNvCxnSpPr>
          <p:nvPr/>
        </p:nvCxnSpPr>
        <p:spPr>
          <a:xfrm>
            <a:off x="2741400" y="4900320"/>
            <a:ext cx="108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4" name=""/>
          <p:cNvCxnSpPr>
            <a:stCxn id="1411" idx="1"/>
            <a:endCxn id="1412" idx="6"/>
          </p:cNvCxnSpPr>
          <p:nvPr/>
        </p:nvCxnSpPr>
        <p:spPr>
          <a:xfrm flipH="1" flipV="1">
            <a:off x="2903040" y="4728960"/>
            <a:ext cx="68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5" name=""/>
          <p:cNvSpPr/>
          <p:nvPr/>
        </p:nvSpPr>
        <p:spPr>
          <a:xfrm>
            <a:off x="5021640" y="240984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89400" y="141912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6673680" y="14191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3446640" y="5187960"/>
                <a:ext cx="355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6702480" y="5187960"/>
                <a:ext cx="534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20" name=""/>
          <p:cNvSpPr/>
          <p:nvPr/>
        </p:nvSpPr>
        <p:spPr>
          <a:xfrm>
            <a:off x="2379600" y="250992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2786040" y="2282760"/>
            <a:ext cx="108000" cy="108000"/>
            <a:chOff x="2786040" y="2282760"/>
            <a:chExt cx="108000" cy="108000"/>
          </a:xfrm>
        </p:grpSpPr>
        <p:sp>
          <p:nvSpPr>
            <p:cNvPr id="1422" name=""/>
            <p:cNvSpPr/>
            <p:nvPr/>
          </p:nvSpPr>
          <p:spPr>
            <a:xfrm>
              <a:off x="2786040" y="233532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2837160" y="228276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5681520" y="2505240"/>
            <a:ext cx="10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6087960" y="2278080"/>
            <a:ext cx="109440" cy="108000"/>
            <a:chOff x="6087960" y="2278080"/>
            <a:chExt cx="109440" cy="108000"/>
          </a:xfrm>
        </p:grpSpPr>
        <p:sp>
          <p:nvSpPr>
            <p:cNvPr id="1426" name=""/>
            <p:cNvSpPr/>
            <p:nvPr/>
          </p:nvSpPr>
          <p:spPr>
            <a:xfrm>
              <a:off x="6087960" y="2330640"/>
              <a:ext cx="1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6139800" y="22780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2927520" y="4522680"/>
            <a:ext cx="109080" cy="108000"/>
            <a:chOff x="2927520" y="4522680"/>
            <a:chExt cx="109080" cy="108000"/>
          </a:xfrm>
        </p:grpSpPr>
        <p:sp>
          <p:nvSpPr>
            <p:cNvPr id="1429" name=""/>
            <p:cNvSpPr/>
            <p:nvPr/>
          </p:nvSpPr>
          <p:spPr>
            <a:xfrm>
              <a:off x="2927520" y="4575240"/>
              <a:ext cx="1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2979000" y="45226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2454120" y="4525920"/>
            <a:ext cx="108000" cy="108000"/>
            <a:chOff x="2454120" y="4525920"/>
            <a:chExt cx="108000" cy="108000"/>
          </a:xfrm>
        </p:grpSpPr>
        <p:sp>
          <p:nvSpPr>
            <p:cNvPr id="1432" name=""/>
            <p:cNvSpPr/>
            <p:nvPr/>
          </p:nvSpPr>
          <p:spPr>
            <a:xfrm>
              <a:off x="2454120" y="457848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2505240" y="452592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231840" y="410544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Decoder:</a:t>
            </a:r>
            <a:br>
              <a:rPr sz="1800"/>
            </a:b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modeled by</a:t>
            </a:r>
            <a:br>
              <a:rPr sz="1800"/>
            </a:b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22360" y="453852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6" name=""/>
          <p:cNvCxnSpPr>
            <a:stCxn id="1409" idx="2"/>
            <a:endCxn id="1411" idx="0"/>
          </p:cNvCxnSpPr>
          <p:nvPr/>
        </p:nvCxnSpPr>
        <p:spPr>
          <a:xfrm>
            <a:off x="4115880" y="383076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7" name=""/>
          <p:cNvSpPr/>
          <p:nvPr/>
        </p:nvSpPr>
        <p:spPr>
          <a:xfrm>
            <a:off x="6870600" y="3048120"/>
            <a:ext cx="105588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8" name=""/>
          <p:cNvCxnSpPr>
            <a:stCxn id="1400" idx="3"/>
            <a:endCxn id="1437" idx="1"/>
          </p:cNvCxnSpPr>
          <p:nvPr/>
        </p:nvCxnSpPr>
        <p:spPr>
          <a:xfrm>
            <a:off x="6645240" y="3431880"/>
            <a:ext cx="216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9" name=""/>
          <p:cNvSpPr/>
          <p:nvPr/>
        </p:nvSpPr>
        <p:spPr>
          <a:xfrm>
            <a:off x="6885000" y="4343400"/>
            <a:ext cx="103176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quantiz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872320" y="4567320"/>
            <a:ext cx="304560" cy="32364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1" name=""/>
          <p:cNvCxnSpPr>
            <a:stCxn id="1440" idx="4"/>
          </p:cNvCxnSpPr>
          <p:nvPr/>
        </p:nvCxnSpPr>
        <p:spPr>
          <a:xfrm flipH="1">
            <a:off x="6022080" y="4900680"/>
            <a:ext cx="25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39" idx="1"/>
            <a:endCxn id="1440" idx="6"/>
          </p:cNvCxnSpPr>
          <p:nvPr/>
        </p:nvCxnSpPr>
        <p:spPr>
          <a:xfrm flipH="1" flipV="1">
            <a:off x="6186240" y="4728960"/>
            <a:ext cx="68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3" name=""/>
          <p:cNvGrpSpPr/>
          <p:nvPr/>
        </p:nvGrpSpPr>
        <p:grpSpPr>
          <a:xfrm>
            <a:off x="6210360" y="4522680"/>
            <a:ext cx="109080" cy="108000"/>
            <a:chOff x="6210360" y="4522680"/>
            <a:chExt cx="109080" cy="108000"/>
          </a:xfrm>
        </p:grpSpPr>
        <p:sp>
          <p:nvSpPr>
            <p:cNvPr id="1444" name=""/>
            <p:cNvSpPr/>
            <p:nvPr/>
          </p:nvSpPr>
          <p:spPr>
            <a:xfrm>
              <a:off x="6210360" y="4575240"/>
              <a:ext cx="1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6261840" y="45226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738760" y="4525920"/>
            <a:ext cx="106560" cy="108000"/>
            <a:chOff x="5738760" y="4525920"/>
            <a:chExt cx="106560" cy="108000"/>
          </a:xfrm>
        </p:grpSpPr>
        <p:sp>
          <p:nvSpPr>
            <p:cNvPr id="1447" name=""/>
            <p:cNvSpPr/>
            <p:nvPr/>
          </p:nvSpPr>
          <p:spPr>
            <a:xfrm>
              <a:off x="5738760" y="4578480"/>
              <a:ext cx="10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5789160" y="452592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9" name=""/>
          <p:cNvCxnSpPr>
            <a:stCxn id="1437" idx="2"/>
            <a:endCxn id="1439" idx="0"/>
          </p:cNvCxnSpPr>
          <p:nvPr/>
        </p:nvCxnSpPr>
        <p:spPr>
          <a:xfrm>
            <a:off x="7399440" y="383076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0" name=""/>
          <p:cNvCxnSpPr>
            <a:stCxn id="1435" idx="3"/>
            <a:endCxn id="1440" idx="2"/>
          </p:cNvCxnSpPr>
          <p:nvPr/>
        </p:nvCxnSpPr>
        <p:spPr>
          <a:xfrm flipV="1">
            <a:off x="5579640" y="4728960"/>
            <a:ext cx="28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1" name=""/>
          <p:cNvCxnSpPr>
            <a:stCxn id="1415" idx="3"/>
            <a:endCxn id="1406" idx="2"/>
          </p:cNvCxnSpPr>
          <p:nvPr/>
        </p:nvCxnSpPr>
        <p:spPr>
          <a:xfrm flipV="1">
            <a:off x="5578560" y="2599560"/>
            <a:ext cx="281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2" name=""/>
          <p:cNvCxnSpPr>
            <a:stCxn id="1402" idx="3"/>
            <a:endCxn id="1415" idx="1"/>
          </p:cNvCxnSpPr>
          <p:nvPr/>
        </p:nvCxnSpPr>
        <p:spPr>
          <a:xfrm flipV="1">
            <a:off x="3368520" y="2602800"/>
            <a:ext cx="1634400" cy="3104280"/>
          </a:xfrm>
          <a:prstGeom prst="bentConnector3">
            <a:avLst>
              <a:gd name="adj1" fmla="val 89469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453" name=""/>
          <p:cNvSpPr/>
          <p:nvPr/>
        </p:nvSpPr>
        <p:spPr>
          <a:xfrm>
            <a:off x="4818240" y="4724280"/>
            <a:ext cx="18396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4" name=""/>
          <p:cNvCxnSpPr/>
          <p:nvPr/>
        </p:nvCxnSpPr>
        <p:spPr>
          <a:xfrm flipV="1">
            <a:off x="6664320" y="2599560"/>
            <a:ext cx="1634400" cy="3104280"/>
          </a:xfrm>
          <a:prstGeom prst="bentConnector3">
            <a:avLst>
              <a:gd name="adj1" fmla="val 89469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455" name=""/>
          <p:cNvSpPr/>
          <p:nvPr/>
        </p:nvSpPr>
        <p:spPr>
          <a:xfrm>
            <a:off x="8131320" y="4721400"/>
            <a:ext cx="18396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440" y="240048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326800" y="452916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37720" y="240840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737720" y="453708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0" name=""/>
          <p:cNvCxnSpPr>
            <a:stCxn id="1459" idx="3"/>
          </p:cNvCxnSpPr>
          <p:nvPr/>
        </p:nvCxnSpPr>
        <p:spPr>
          <a:xfrm flipV="1">
            <a:off x="2295000" y="4726800"/>
            <a:ext cx="311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1" name=""/>
          <p:cNvCxnSpPr>
            <a:stCxn id="1458" idx="3"/>
          </p:cNvCxnSpPr>
          <p:nvPr/>
        </p:nvCxnSpPr>
        <p:spPr>
          <a:xfrm flipV="1">
            <a:off x="2295360" y="2598120"/>
            <a:ext cx="310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2" name=""/>
          <p:cNvSpPr/>
          <p:nvPr/>
        </p:nvSpPr>
        <p:spPr>
          <a:xfrm>
            <a:off x="1535040" y="4722840"/>
            <a:ext cx="18432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3" name=""/>
          <p:cNvCxnSpPr>
            <a:endCxn id="1458" idx="1"/>
          </p:cNvCxnSpPr>
          <p:nvPr/>
        </p:nvCxnSpPr>
        <p:spPr>
          <a:xfrm flipV="1">
            <a:off x="456840" y="2601360"/>
            <a:ext cx="1259640" cy="3091320"/>
          </a:xfrm>
          <a:prstGeom prst="bentConnector3">
            <a:avLst>
              <a:gd name="adj1" fmla="val 86477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504720" y="5181480"/>
                <a:ext cx="534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1568520" y="2293920"/>
            <a:ext cx="83808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571760" y="4419720"/>
            <a:ext cx="83808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2895480"/>
            <a:ext cx="1371600" cy="10591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429000" y="4203720"/>
            <a:ext cx="1371600" cy="10587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FE78-7908-4CE9-BA87-45BB23E6FA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Traditional video coding 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– performance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ccessive generations have seen marked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.g., MPEG-2      @ 1 Mbit/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.263          @ 800 kbit/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MPEG-4      @ 700 kbit/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.264/AVC  @ 400 k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la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re sophisticated motio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om 16x16 fixed size block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hierarchical (16x16, 16x8, 8x8, 8x4, 4x4) @ ¼ pel/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reful use of R-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rectly optimize D+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 over all macro-block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ltiple reference frames, directed intra predicti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172200" y="251316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d from:</a:t>
            </a:r>
            <a:br>
              <a:rPr sz="1800"/>
            </a:b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(Sullivan &amp; Wiegand,</a:t>
            </a:r>
            <a:br>
              <a:rPr sz="1800"/>
            </a:b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roc. IEEE, Jan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FE37-9B57-43CF-8360-4D73996AB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Traditional video coding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 – scalability??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alability implies many ways of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duced spatial resolution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ifferent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duced SNR (bit-rate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ifferent quan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duced motion quality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ifferent MC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ditional MC DPCM approach relies on reproducing decoder state in the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rious approaches consid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PEG-2: partioning and layered coding of DCT coe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ffering encoder/decoder states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drift (noise propa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PEG-4 FGS: layered coding with stat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coder typically uses state of lowest quality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oretical analysis of inherent performance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(Cook, Prades-Nesbot, Liu &amp; Delp, IEEE Trans. IP, Aug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D859-17B9-4539-87B8-3B705B498E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pening the loop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 – noise propagation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04920" y="4114800"/>
            <a:ext cx="85629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>
            <a:off x="5403960" y="1219320"/>
            <a:ext cx="1239840" cy="9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2120760" y="1219320"/>
            <a:ext cx="1239840" cy="92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8" name="" descr=""/>
          <p:cNvPicPr/>
          <p:nvPr/>
        </p:nvPicPr>
        <p:blipFill>
          <a:blip r:embed="rId3"/>
          <a:stretch/>
        </p:blipFill>
        <p:spPr>
          <a:xfrm>
            <a:off x="2128680" y="2971800"/>
            <a:ext cx="1222560" cy="92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9" name="" descr=""/>
          <p:cNvPicPr/>
          <p:nvPr/>
        </p:nvPicPr>
        <p:blipFill>
          <a:blip r:embed="rId4"/>
          <a:stretch/>
        </p:blipFill>
        <p:spPr>
          <a:xfrm>
            <a:off x="5415120" y="2971800"/>
            <a:ext cx="1220760" cy="92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80" name="" descr=""/>
          <p:cNvPicPr/>
          <p:nvPr/>
        </p:nvPicPr>
        <p:blipFill>
          <a:blip r:embed="rId5"/>
          <a:stretch/>
        </p:blipFill>
        <p:spPr>
          <a:xfrm>
            <a:off x="5411880" y="5241960"/>
            <a:ext cx="1239840" cy="9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81" name="" descr=""/>
          <p:cNvPicPr/>
          <p:nvPr/>
        </p:nvPicPr>
        <p:blipFill>
          <a:blip r:embed="rId6"/>
          <a:stretch/>
        </p:blipFill>
        <p:spPr>
          <a:xfrm>
            <a:off x="2120760" y="5241960"/>
            <a:ext cx="1239840" cy="9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2" name=""/>
          <p:cNvSpPr/>
          <p:nvPr/>
        </p:nvSpPr>
        <p:spPr>
          <a:xfrm>
            <a:off x="2587680" y="2438280"/>
            <a:ext cx="306360" cy="32400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3" name=""/>
          <p:cNvCxnSpPr>
            <a:stCxn id="1477" idx="2"/>
            <a:endCxn id="1482" idx="0"/>
          </p:cNvCxnSpPr>
          <p:nvPr/>
        </p:nvCxnSpPr>
        <p:spPr>
          <a:xfrm>
            <a:off x="2741400" y="215748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4" name=""/>
          <p:cNvCxnSpPr>
            <a:stCxn id="1482" idx="4"/>
            <a:endCxn id="1478" idx="0"/>
          </p:cNvCxnSpPr>
          <p:nvPr/>
        </p:nvCxnSpPr>
        <p:spPr>
          <a:xfrm flipH="1">
            <a:off x="2739240" y="2771640"/>
            <a:ext cx="252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5" name=""/>
          <p:cNvSpPr/>
          <p:nvPr/>
        </p:nvSpPr>
        <p:spPr>
          <a:xfrm>
            <a:off x="5869080" y="2438280"/>
            <a:ext cx="304560" cy="32400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6" name=""/>
          <p:cNvCxnSpPr>
            <a:stCxn id="1476" idx="2"/>
            <a:endCxn id="1485" idx="0"/>
          </p:cNvCxnSpPr>
          <p:nvPr/>
        </p:nvCxnSpPr>
        <p:spPr>
          <a:xfrm flipH="1">
            <a:off x="6020640" y="2158920"/>
            <a:ext cx="3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7" name=""/>
          <p:cNvCxnSpPr>
            <a:stCxn id="1485" idx="4"/>
            <a:endCxn id="1479" idx="0"/>
          </p:cNvCxnSpPr>
          <p:nvPr/>
        </p:nvCxnSpPr>
        <p:spPr>
          <a:xfrm>
            <a:off x="6021000" y="2771640"/>
            <a:ext cx="540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8" name=""/>
          <p:cNvSpPr/>
          <p:nvPr/>
        </p:nvSpPr>
        <p:spPr>
          <a:xfrm>
            <a:off x="3587760" y="3048120"/>
            <a:ext cx="105552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9" name=""/>
          <p:cNvCxnSpPr>
            <a:stCxn id="1478" idx="3"/>
            <a:endCxn id="1488" idx="1"/>
          </p:cNvCxnSpPr>
          <p:nvPr/>
        </p:nvCxnSpPr>
        <p:spPr>
          <a:xfrm>
            <a:off x="3360240" y="3431880"/>
            <a:ext cx="2185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0" name=""/>
          <p:cNvSpPr/>
          <p:nvPr/>
        </p:nvSpPr>
        <p:spPr>
          <a:xfrm>
            <a:off x="3602160" y="4343400"/>
            <a:ext cx="103176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quantiz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87680" y="4567320"/>
            <a:ext cx="306360" cy="32364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2" name=""/>
          <p:cNvCxnSpPr>
            <a:stCxn id="1491" idx="4"/>
            <a:endCxn id="1481" idx="0"/>
          </p:cNvCxnSpPr>
          <p:nvPr/>
        </p:nvCxnSpPr>
        <p:spPr>
          <a:xfrm>
            <a:off x="2741400" y="4900320"/>
            <a:ext cx="108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3" name=""/>
          <p:cNvCxnSpPr>
            <a:stCxn id="1490" idx="1"/>
            <a:endCxn id="1491" idx="6"/>
          </p:cNvCxnSpPr>
          <p:nvPr/>
        </p:nvCxnSpPr>
        <p:spPr>
          <a:xfrm flipH="1" flipV="1">
            <a:off x="2903040" y="4728960"/>
            <a:ext cx="68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4" name=""/>
          <p:cNvSpPr/>
          <p:nvPr/>
        </p:nvSpPr>
        <p:spPr>
          <a:xfrm>
            <a:off x="5040720" y="240984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3429000" y="121932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6673680" y="12193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3446640" y="5187960"/>
                <a:ext cx="355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6702480" y="5187960"/>
                <a:ext cx="534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9" name=""/>
          <p:cNvSpPr/>
          <p:nvPr/>
        </p:nvSpPr>
        <p:spPr>
          <a:xfrm>
            <a:off x="2379600" y="250992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86040" y="2282760"/>
            <a:ext cx="108000" cy="108000"/>
            <a:chOff x="2786040" y="2282760"/>
            <a:chExt cx="108000" cy="108000"/>
          </a:xfrm>
        </p:grpSpPr>
        <p:sp>
          <p:nvSpPr>
            <p:cNvPr id="1501" name=""/>
            <p:cNvSpPr/>
            <p:nvPr/>
          </p:nvSpPr>
          <p:spPr>
            <a:xfrm>
              <a:off x="2786040" y="233532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2837160" y="228276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5681520" y="2505240"/>
            <a:ext cx="10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087960" y="2278080"/>
            <a:ext cx="109440" cy="108000"/>
            <a:chOff x="6087960" y="2278080"/>
            <a:chExt cx="109440" cy="108000"/>
          </a:xfrm>
        </p:grpSpPr>
        <p:sp>
          <p:nvSpPr>
            <p:cNvPr id="1505" name=""/>
            <p:cNvSpPr/>
            <p:nvPr/>
          </p:nvSpPr>
          <p:spPr>
            <a:xfrm>
              <a:off x="6087960" y="2330640"/>
              <a:ext cx="1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6139800" y="22780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2927520" y="4522680"/>
            <a:ext cx="109080" cy="108000"/>
            <a:chOff x="2927520" y="4522680"/>
            <a:chExt cx="109080" cy="108000"/>
          </a:xfrm>
        </p:grpSpPr>
        <p:sp>
          <p:nvSpPr>
            <p:cNvPr id="1508" name=""/>
            <p:cNvSpPr/>
            <p:nvPr/>
          </p:nvSpPr>
          <p:spPr>
            <a:xfrm>
              <a:off x="2927520" y="4575240"/>
              <a:ext cx="1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2979000" y="45226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2454120" y="4525920"/>
            <a:ext cx="108000" cy="108000"/>
            <a:chOff x="2454120" y="4525920"/>
            <a:chExt cx="108000" cy="108000"/>
          </a:xfrm>
        </p:grpSpPr>
        <p:sp>
          <p:nvSpPr>
            <p:cNvPr id="1511" name=""/>
            <p:cNvSpPr/>
            <p:nvPr/>
          </p:nvSpPr>
          <p:spPr>
            <a:xfrm>
              <a:off x="2454120" y="457848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2505240" y="452592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231840" y="410544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Decoder:</a:t>
            </a:r>
            <a:br>
              <a:rPr sz="1800"/>
            </a:b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modeled by</a:t>
            </a:r>
            <a:br>
              <a:rPr sz="1800"/>
            </a:b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022360" y="453852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5" name=""/>
          <p:cNvCxnSpPr>
            <a:stCxn id="1488" idx="2"/>
            <a:endCxn id="1490" idx="0"/>
          </p:cNvCxnSpPr>
          <p:nvPr/>
        </p:nvCxnSpPr>
        <p:spPr>
          <a:xfrm>
            <a:off x="4115880" y="383076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6" name=""/>
          <p:cNvSpPr/>
          <p:nvPr/>
        </p:nvSpPr>
        <p:spPr>
          <a:xfrm>
            <a:off x="6870600" y="3048120"/>
            <a:ext cx="105588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7" name=""/>
          <p:cNvCxnSpPr>
            <a:stCxn id="1479" idx="3"/>
            <a:endCxn id="1516" idx="1"/>
          </p:cNvCxnSpPr>
          <p:nvPr/>
        </p:nvCxnSpPr>
        <p:spPr>
          <a:xfrm>
            <a:off x="6645240" y="3431880"/>
            <a:ext cx="216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8" name=""/>
          <p:cNvSpPr/>
          <p:nvPr/>
        </p:nvSpPr>
        <p:spPr>
          <a:xfrm>
            <a:off x="6885000" y="4343400"/>
            <a:ext cx="1031760" cy="7506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quantiz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872320" y="4567320"/>
            <a:ext cx="304560" cy="32364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0" name=""/>
          <p:cNvCxnSpPr>
            <a:stCxn id="1519" idx="4"/>
          </p:cNvCxnSpPr>
          <p:nvPr/>
        </p:nvCxnSpPr>
        <p:spPr>
          <a:xfrm flipH="1">
            <a:off x="6022080" y="4900680"/>
            <a:ext cx="25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1" name=""/>
          <p:cNvCxnSpPr>
            <a:stCxn id="1518" idx="1"/>
            <a:endCxn id="1519" idx="6"/>
          </p:cNvCxnSpPr>
          <p:nvPr/>
        </p:nvCxnSpPr>
        <p:spPr>
          <a:xfrm flipH="1" flipV="1">
            <a:off x="6186240" y="4728960"/>
            <a:ext cx="68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2" name=""/>
          <p:cNvGrpSpPr/>
          <p:nvPr/>
        </p:nvGrpSpPr>
        <p:grpSpPr>
          <a:xfrm>
            <a:off x="6210360" y="4522680"/>
            <a:ext cx="109080" cy="108000"/>
            <a:chOff x="6210360" y="4522680"/>
            <a:chExt cx="109080" cy="108000"/>
          </a:xfrm>
        </p:grpSpPr>
        <p:sp>
          <p:nvSpPr>
            <p:cNvPr id="1523" name=""/>
            <p:cNvSpPr/>
            <p:nvPr/>
          </p:nvSpPr>
          <p:spPr>
            <a:xfrm>
              <a:off x="6210360" y="4575240"/>
              <a:ext cx="1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6261840" y="45226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5738760" y="4525920"/>
            <a:ext cx="106560" cy="108000"/>
            <a:chOff x="5738760" y="4525920"/>
            <a:chExt cx="106560" cy="108000"/>
          </a:xfrm>
        </p:grpSpPr>
        <p:sp>
          <p:nvSpPr>
            <p:cNvPr id="1526" name=""/>
            <p:cNvSpPr/>
            <p:nvPr/>
          </p:nvSpPr>
          <p:spPr>
            <a:xfrm>
              <a:off x="5738760" y="4578480"/>
              <a:ext cx="10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5789160" y="452592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8" name=""/>
          <p:cNvCxnSpPr>
            <a:stCxn id="1516" idx="2"/>
            <a:endCxn id="1518" idx="0"/>
          </p:cNvCxnSpPr>
          <p:nvPr/>
        </p:nvCxnSpPr>
        <p:spPr>
          <a:xfrm>
            <a:off x="7399440" y="383076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9" name=""/>
          <p:cNvCxnSpPr>
            <a:stCxn id="1514" idx="3"/>
            <a:endCxn id="1519" idx="2"/>
          </p:cNvCxnSpPr>
          <p:nvPr/>
        </p:nvCxnSpPr>
        <p:spPr>
          <a:xfrm flipV="1">
            <a:off x="5579640" y="4728960"/>
            <a:ext cx="28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0" name=""/>
          <p:cNvCxnSpPr>
            <a:stCxn id="1494" idx="3"/>
            <a:endCxn id="1485" idx="2"/>
          </p:cNvCxnSpPr>
          <p:nvPr/>
        </p:nvCxnSpPr>
        <p:spPr>
          <a:xfrm flipV="1">
            <a:off x="5597280" y="2599560"/>
            <a:ext cx="2620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1" name=""/>
          <p:cNvCxnSpPr>
            <a:stCxn id="1481" idx="3"/>
            <a:endCxn id="1514" idx="1"/>
          </p:cNvCxnSpPr>
          <p:nvPr/>
        </p:nvCxnSpPr>
        <p:spPr>
          <a:xfrm flipV="1">
            <a:off x="3369960" y="4731840"/>
            <a:ext cx="1631160" cy="975600"/>
          </a:xfrm>
          <a:prstGeom prst="bentConnector3">
            <a:avLst>
              <a:gd name="adj1" fmla="val 89072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32" name=""/>
          <p:cNvCxnSpPr>
            <a:endCxn id="1533" idx="1"/>
          </p:cNvCxnSpPr>
          <p:nvPr/>
        </p:nvCxnSpPr>
        <p:spPr>
          <a:xfrm flipV="1">
            <a:off x="6664320" y="4722120"/>
            <a:ext cx="1642320" cy="981720"/>
          </a:xfrm>
          <a:prstGeom prst="bentConnector3">
            <a:avLst>
              <a:gd name="adj1" fmla="val 88664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34" name=""/>
          <p:cNvSpPr/>
          <p:nvPr/>
        </p:nvSpPr>
        <p:spPr>
          <a:xfrm>
            <a:off x="8336520" y="240048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8326800" y="452916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737720" y="240840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37720" y="4537080"/>
            <a:ext cx="5356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7" name=""/>
          <p:cNvCxnSpPr>
            <a:stCxn id="1536" idx="3"/>
          </p:cNvCxnSpPr>
          <p:nvPr/>
        </p:nvCxnSpPr>
        <p:spPr>
          <a:xfrm flipV="1">
            <a:off x="2295000" y="4726800"/>
            <a:ext cx="311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8" name=""/>
          <p:cNvCxnSpPr>
            <a:stCxn id="1535" idx="3"/>
          </p:cNvCxnSpPr>
          <p:nvPr/>
        </p:nvCxnSpPr>
        <p:spPr>
          <a:xfrm flipV="1">
            <a:off x="2295360" y="2598120"/>
            <a:ext cx="310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9" name=""/>
          <p:cNvCxnSpPr>
            <a:endCxn id="1536" idx="1"/>
          </p:cNvCxnSpPr>
          <p:nvPr/>
        </p:nvCxnSpPr>
        <p:spPr>
          <a:xfrm flipV="1">
            <a:off x="458280" y="4730040"/>
            <a:ext cx="1258200" cy="959400"/>
          </a:xfrm>
          <a:prstGeom prst="bentConnector3">
            <a:avLst>
              <a:gd name="adj1" fmla="val 85088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457200" y="5181480"/>
                <a:ext cx="534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1523880" y="2590920"/>
            <a:ext cx="200160" cy="21333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0" y="1344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819680" y="2590920"/>
            <a:ext cx="200160" cy="21333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0" y="1344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8124840" y="2590920"/>
            <a:ext cx="200160" cy="21333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0" y="1344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4" name=""/>
          <p:cNvCxnSpPr>
            <a:stCxn id="1477" idx="3"/>
            <a:endCxn id="1494" idx="1"/>
          </p:cNvCxnSpPr>
          <p:nvPr/>
        </p:nvCxnSpPr>
        <p:spPr>
          <a:xfrm>
            <a:off x="3370320" y="1684080"/>
            <a:ext cx="1650240" cy="919800"/>
          </a:xfrm>
          <a:prstGeom prst="bentConnector3">
            <a:avLst>
              <a:gd name="adj1" fmla="val 59764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45" name=""/>
          <p:cNvCxnSpPr/>
          <p:nvPr/>
        </p:nvCxnSpPr>
        <p:spPr>
          <a:xfrm>
            <a:off x="6667560" y="1685520"/>
            <a:ext cx="1650240" cy="919800"/>
          </a:xfrm>
          <a:prstGeom prst="bentConnector3">
            <a:avLst>
              <a:gd name="adj1" fmla="val 59764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46" name=""/>
          <p:cNvCxnSpPr/>
          <p:nvPr/>
        </p:nvCxnSpPr>
        <p:spPr>
          <a:xfrm>
            <a:off x="412920" y="1676160"/>
            <a:ext cx="1313280" cy="921240"/>
          </a:xfrm>
          <a:prstGeom prst="bentConnector3">
            <a:avLst>
              <a:gd name="adj1" fmla="val 49931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39840" y="1238400"/>
                <a:ext cx="53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85AC-AA68-4468-937E-3C7BE6B5E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48" name=""/>
          <p:cNvCxnSpPr/>
          <p:nvPr/>
        </p:nvCxnSpPr>
        <p:spPr>
          <a:xfrm flipH="1" flipV="1">
            <a:off x="5333760" y="2815920"/>
            <a:ext cx="460800" cy="119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9" name=""/>
          <p:cNvCxnSpPr/>
          <p:nvPr/>
        </p:nvCxnSpPr>
        <p:spPr>
          <a:xfrm flipH="1">
            <a:off x="5333760" y="2476440"/>
            <a:ext cx="2136960" cy="34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50" name=""/>
          <p:cNvSpPr/>
          <p:nvPr/>
        </p:nvSpPr>
        <p:spPr>
          <a:xfrm>
            <a:off x="4721400" y="1562040"/>
            <a:ext cx="1439640" cy="1036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79720" y="2320920"/>
            <a:ext cx="1440000" cy="1036800"/>
          </a:xfrm>
          <a:prstGeom prst="rect">
            <a:avLst/>
          </a:prstGeom>
          <a:solidFill>
            <a:srgbClr val="5ca2a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456320" y="1981080"/>
            <a:ext cx="1440000" cy="1036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78200" y="1143000"/>
            <a:ext cx="1439640" cy="1036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554120" y="1523880"/>
            <a:ext cx="1440000" cy="10368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135080" y="1901880"/>
            <a:ext cx="1440000" cy="1036440"/>
          </a:xfrm>
          <a:prstGeom prst="rect">
            <a:avLst/>
          </a:prstGeom>
          <a:solidFill>
            <a:srgbClr val="5ca2a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17480" y="2286000"/>
            <a:ext cx="1441440" cy="10382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pen loop hierarchical prediction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KA: UMCTF – with wavelet-based coding</a:t>
            </a:r>
            <a:br>
              <a:rPr sz="2400"/>
            </a:b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(van der Schaar and Turaga, ICASSP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mits propagation of quantization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KA: Hierarchical B-frames – with DCT-bas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ires long base-line motion mode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301680" y="268128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60" name=""/>
          <p:cNvSpPr/>
          <p:nvPr/>
        </p:nvSpPr>
        <p:spPr>
          <a:xfrm flipV="1">
            <a:off x="301680" y="1142640"/>
            <a:ext cx="1676520" cy="152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730520" y="1142640"/>
            <a:ext cx="1676160" cy="152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1739880" y="2180880"/>
            <a:ext cx="1676520" cy="152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3046320" y="1562040"/>
            <a:ext cx="1676520" cy="1524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4484520" y="1562040"/>
            <a:ext cx="1676520" cy="1524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4484520" y="2599920"/>
            <a:ext cx="1676520" cy="152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791320" y="1990440"/>
            <a:ext cx="1676160" cy="152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7219800" y="1981080"/>
            <a:ext cx="1676520" cy="1524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7229520" y="3019320"/>
            <a:ext cx="1676520" cy="1524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2"/>
          <a:stretch/>
        </p:blipFill>
        <p:spPr>
          <a:xfrm>
            <a:off x="3036960" y="310032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570" name=""/>
          <p:cNvGrpSpPr/>
          <p:nvPr/>
        </p:nvGrpSpPr>
        <p:grpSpPr>
          <a:xfrm>
            <a:off x="2158200" y="2739240"/>
            <a:ext cx="1728000" cy="916920"/>
            <a:chOff x="2158200" y="2739240"/>
            <a:chExt cx="1728000" cy="916920"/>
          </a:xfrm>
        </p:grpSpPr>
        <p:cxnSp>
          <p:nvCxnSpPr>
            <p:cNvPr id="1571" name=""/>
            <p:cNvCxnSpPr/>
            <p:nvPr/>
          </p:nvCxnSpPr>
          <p:spPr>
            <a:xfrm flipH="1" flipV="1">
              <a:off x="2165040" y="2815920"/>
              <a:ext cx="878400" cy="81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2" name=""/>
            <p:cNvCxnSpPr/>
            <p:nvPr/>
          </p:nvCxnSpPr>
          <p:spPr>
            <a:xfrm flipH="1" flipV="1">
              <a:off x="2165040" y="2739240"/>
              <a:ext cx="1721520" cy="35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3" name=""/>
            <p:cNvCxnSpPr/>
            <p:nvPr/>
          </p:nvCxnSpPr>
          <p:spPr>
            <a:xfrm flipH="1" flipV="1">
              <a:off x="2158200" y="2842920"/>
              <a:ext cx="878760" cy="813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4" name=""/>
            <p:cNvCxnSpPr/>
            <p:nvPr/>
          </p:nvCxnSpPr>
          <p:spPr>
            <a:xfrm flipH="1" flipV="1">
              <a:off x="2158560" y="2766240"/>
              <a:ext cx="1721520" cy="35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5" name=""/>
          <p:cNvGrpSpPr/>
          <p:nvPr/>
        </p:nvGrpSpPr>
        <p:grpSpPr>
          <a:xfrm>
            <a:off x="2996640" y="1990440"/>
            <a:ext cx="1726920" cy="915480"/>
            <a:chOff x="2996640" y="1990440"/>
            <a:chExt cx="1726920" cy="915480"/>
          </a:xfrm>
        </p:grpSpPr>
        <p:cxnSp>
          <p:nvCxnSpPr>
            <p:cNvPr id="1576" name=""/>
            <p:cNvCxnSpPr/>
            <p:nvPr/>
          </p:nvCxnSpPr>
          <p:spPr>
            <a:xfrm flipH="1" flipV="1">
              <a:off x="3002760" y="2066040"/>
              <a:ext cx="878040" cy="81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7" name=""/>
            <p:cNvCxnSpPr/>
            <p:nvPr/>
          </p:nvCxnSpPr>
          <p:spPr>
            <a:xfrm flipH="1" flipV="1">
              <a:off x="3002760" y="1990440"/>
              <a:ext cx="1721160" cy="3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8" name=""/>
            <p:cNvCxnSpPr/>
            <p:nvPr/>
          </p:nvCxnSpPr>
          <p:spPr>
            <a:xfrm flipH="1" flipV="1">
              <a:off x="2997000" y="2093040"/>
              <a:ext cx="878400" cy="813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9" name=""/>
            <p:cNvCxnSpPr/>
            <p:nvPr/>
          </p:nvCxnSpPr>
          <p:spPr>
            <a:xfrm flipH="1" flipV="1">
              <a:off x="2996640" y="2017080"/>
              <a:ext cx="1721160" cy="352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580" name=""/>
          <p:cNvCxnSpPr>
            <a:stCxn id="1581" idx="1"/>
            <a:endCxn id="1551" idx="3"/>
          </p:cNvCxnSpPr>
          <p:nvPr/>
        </p:nvCxnSpPr>
        <p:spPr>
          <a:xfrm flipH="1" flipV="1">
            <a:off x="5319000" y="2839680"/>
            <a:ext cx="461160" cy="119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52" idx="1"/>
            <a:endCxn id="1551" idx="3"/>
          </p:cNvCxnSpPr>
          <p:nvPr/>
        </p:nvCxnSpPr>
        <p:spPr>
          <a:xfrm flipH="1">
            <a:off x="5319360" y="2500200"/>
            <a:ext cx="2136960" cy="34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83" name="" descr=""/>
          <p:cNvPicPr/>
          <p:nvPr/>
        </p:nvPicPr>
        <p:blipFill>
          <a:blip r:embed="rId3"/>
          <a:stretch/>
        </p:blipFill>
        <p:spPr>
          <a:xfrm>
            <a:off x="5780160" y="351936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84" name=""/>
          <p:cNvSpPr/>
          <p:nvPr/>
        </p:nvSpPr>
        <p:spPr>
          <a:xfrm>
            <a:off x="1385640" y="2651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788840" y="2293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198520" y="1913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598480" y="1541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027240" y="117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128840" y="3094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941720" y="235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770440" y="161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862680" y="349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503920" y="2017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5BEC-1C99-477F-AB02-5D8985E06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/>
          <p:nvPr/>
        </p:nvSpPr>
        <p:spPr>
          <a:xfrm>
            <a:off x="351000" y="1066680"/>
            <a:ext cx="604980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5486040" y="4241880"/>
            <a:ext cx="3199320" cy="1960560"/>
            <a:chOff x="5486040" y="4241880"/>
            <a:chExt cx="3199320" cy="1960560"/>
          </a:xfrm>
        </p:grpSpPr>
        <p:grpSp>
          <p:nvGrpSpPr>
            <p:cNvPr id="1596" name=""/>
            <p:cNvGrpSpPr/>
            <p:nvPr/>
          </p:nvGrpSpPr>
          <p:grpSpPr>
            <a:xfrm>
              <a:off x="5668920" y="4304880"/>
              <a:ext cx="2901960" cy="1638720"/>
              <a:chOff x="5668920" y="4304880"/>
              <a:chExt cx="2901960" cy="1638720"/>
            </a:xfrm>
          </p:grpSpPr>
          <p:sp>
            <p:nvSpPr>
              <p:cNvPr id="1597" name=""/>
              <p:cNvSpPr/>
              <p:nvPr/>
            </p:nvSpPr>
            <p:spPr>
              <a:xfrm>
                <a:off x="5668920" y="4305240"/>
                <a:ext cx="2901960" cy="1638360"/>
              </a:xfrm>
              <a:custGeom>
                <a:avLst/>
                <a:gdLst/>
                <a:ahLst/>
                <a:rect l="l" t="t" r="r" b="b"/>
                <a:pathLst>
                  <a:path w="520" h="410">
                    <a:moveTo>
                      <a:pt x="0" y="410"/>
                    </a:moveTo>
                    <a:lnTo>
                      <a:pt x="520" y="410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5668920" y="4304880"/>
                <a:ext cx="720" cy="163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9" name=""/>
            <p:cNvSpPr/>
            <p:nvPr/>
          </p:nvSpPr>
          <p:spPr>
            <a:xfrm flipV="1">
              <a:off x="5668920" y="5922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636880" y="5973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8570880" y="5922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68920" y="59436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8543520" y="59436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86040" y="5864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68920" y="43210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8543520" y="43210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486040" y="4241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68920" y="4321080"/>
              <a:ext cx="2901960" cy="1800"/>
            </a:xfrm>
            <a:custGeom>
              <a:avLst/>
              <a:gdLst/>
              <a:ahLst/>
              <a:rect l="l" t="t" r="r" b="b"/>
              <a:pathLst>
                <a:path w="2764" h="0">
                  <a:moveTo>
                    <a:pt x="0" y="0"/>
                  </a:moveTo>
                  <a:lnTo>
                    <a:pt x="27" y="0"/>
                  </a:lnTo>
                  <a:lnTo>
                    <a:pt x="54" y="0"/>
                  </a:lnTo>
                  <a:lnTo>
                    <a:pt x="85" y="0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65" y="0"/>
                  </a:lnTo>
                  <a:lnTo>
                    <a:pt x="192" y="0"/>
                  </a:lnTo>
                  <a:lnTo>
                    <a:pt x="224" y="0"/>
                  </a:lnTo>
                  <a:lnTo>
                    <a:pt x="250" y="0"/>
                  </a:lnTo>
                  <a:lnTo>
                    <a:pt x="277" y="0"/>
                  </a:lnTo>
                  <a:lnTo>
                    <a:pt x="303" y="0"/>
                  </a:lnTo>
                  <a:lnTo>
                    <a:pt x="330" y="0"/>
                  </a:lnTo>
                  <a:lnTo>
                    <a:pt x="362" y="0"/>
                  </a:lnTo>
                  <a:lnTo>
                    <a:pt x="388" y="0"/>
                  </a:lnTo>
                  <a:lnTo>
                    <a:pt x="415" y="0"/>
                  </a:lnTo>
                  <a:lnTo>
                    <a:pt x="442" y="0"/>
                  </a:lnTo>
                  <a:lnTo>
                    <a:pt x="468" y="0"/>
                  </a:lnTo>
                  <a:lnTo>
                    <a:pt x="500" y="0"/>
                  </a:lnTo>
                  <a:lnTo>
                    <a:pt x="527" y="0"/>
                  </a:lnTo>
                  <a:lnTo>
                    <a:pt x="553" y="0"/>
                  </a:lnTo>
                  <a:lnTo>
                    <a:pt x="580" y="0"/>
                  </a:lnTo>
                  <a:lnTo>
                    <a:pt x="606" y="0"/>
                  </a:lnTo>
                  <a:lnTo>
                    <a:pt x="638" y="0"/>
                  </a:lnTo>
                  <a:lnTo>
                    <a:pt x="665" y="0"/>
                  </a:lnTo>
                  <a:lnTo>
                    <a:pt x="691" y="0"/>
                  </a:lnTo>
                  <a:lnTo>
                    <a:pt x="718" y="0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3" y="0"/>
                  </a:lnTo>
                  <a:lnTo>
                    <a:pt x="830" y="0"/>
                  </a:lnTo>
                  <a:lnTo>
                    <a:pt x="856" y="0"/>
                  </a:lnTo>
                  <a:lnTo>
                    <a:pt x="883" y="0"/>
                  </a:lnTo>
                  <a:lnTo>
                    <a:pt x="915" y="0"/>
                  </a:lnTo>
                  <a:lnTo>
                    <a:pt x="941" y="0"/>
                  </a:lnTo>
                  <a:lnTo>
                    <a:pt x="968" y="0"/>
                  </a:lnTo>
                  <a:lnTo>
                    <a:pt x="994" y="0"/>
                  </a:lnTo>
                  <a:lnTo>
                    <a:pt x="1021" y="0"/>
                  </a:lnTo>
                  <a:lnTo>
                    <a:pt x="1053" y="0"/>
                  </a:lnTo>
                  <a:lnTo>
                    <a:pt x="1079" y="0"/>
                  </a:lnTo>
                  <a:lnTo>
                    <a:pt x="1106" y="0"/>
                  </a:lnTo>
                  <a:lnTo>
                    <a:pt x="1133" y="0"/>
                  </a:lnTo>
                  <a:lnTo>
                    <a:pt x="1159" y="0"/>
                  </a:lnTo>
                  <a:lnTo>
                    <a:pt x="1191" y="0"/>
                  </a:lnTo>
                  <a:lnTo>
                    <a:pt x="1218" y="0"/>
                  </a:lnTo>
                  <a:lnTo>
                    <a:pt x="1244" y="0"/>
                  </a:lnTo>
                  <a:lnTo>
                    <a:pt x="1271" y="0"/>
                  </a:lnTo>
                  <a:lnTo>
                    <a:pt x="1297" y="0"/>
                  </a:lnTo>
                  <a:lnTo>
                    <a:pt x="1329" y="0"/>
                  </a:lnTo>
                  <a:lnTo>
                    <a:pt x="1356" y="0"/>
                  </a:lnTo>
                  <a:lnTo>
                    <a:pt x="1382" y="0"/>
                  </a:lnTo>
                  <a:lnTo>
                    <a:pt x="1409" y="0"/>
                  </a:lnTo>
                  <a:lnTo>
                    <a:pt x="1436" y="0"/>
                  </a:lnTo>
                  <a:lnTo>
                    <a:pt x="1468" y="0"/>
                  </a:lnTo>
                  <a:lnTo>
                    <a:pt x="1494" y="0"/>
                  </a:lnTo>
                  <a:lnTo>
                    <a:pt x="1521" y="0"/>
                  </a:lnTo>
                  <a:lnTo>
                    <a:pt x="1547" y="0"/>
                  </a:lnTo>
                  <a:lnTo>
                    <a:pt x="1574" y="0"/>
                  </a:lnTo>
                  <a:lnTo>
                    <a:pt x="1606" y="0"/>
                  </a:lnTo>
                  <a:lnTo>
                    <a:pt x="1632" y="0"/>
                  </a:lnTo>
                  <a:lnTo>
                    <a:pt x="1659" y="0"/>
                  </a:lnTo>
                  <a:lnTo>
                    <a:pt x="1685" y="0"/>
                  </a:lnTo>
                  <a:lnTo>
                    <a:pt x="1712" y="0"/>
                  </a:lnTo>
                  <a:lnTo>
                    <a:pt x="1744" y="0"/>
                  </a:lnTo>
                  <a:lnTo>
                    <a:pt x="1771" y="0"/>
                  </a:lnTo>
                  <a:lnTo>
                    <a:pt x="1797" y="0"/>
                  </a:lnTo>
                  <a:lnTo>
                    <a:pt x="1824" y="0"/>
                  </a:lnTo>
                  <a:lnTo>
                    <a:pt x="1850" y="0"/>
                  </a:lnTo>
                  <a:lnTo>
                    <a:pt x="1882" y="0"/>
                  </a:lnTo>
                  <a:lnTo>
                    <a:pt x="1909" y="0"/>
                  </a:lnTo>
                  <a:lnTo>
                    <a:pt x="1935" y="0"/>
                  </a:lnTo>
                  <a:lnTo>
                    <a:pt x="1962" y="0"/>
                  </a:lnTo>
                  <a:lnTo>
                    <a:pt x="1988" y="0"/>
                  </a:lnTo>
                  <a:lnTo>
                    <a:pt x="2020" y="0"/>
                  </a:lnTo>
                  <a:lnTo>
                    <a:pt x="2047" y="0"/>
                  </a:lnTo>
                  <a:lnTo>
                    <a:pt x="2073" y="0"/>
                  </a:lnTo>
                  <a:lnTo>
                    <a:pt x="2100" y="0"/>
                  </a:lnTo>
                  <a:lnTo>
                    <a:pt x="2127" y="0"/>
                  </a:lnTo>
                  <a:lnTo>
                    <a:pt x="2159" y="0"/>
                  </a:lnTo>
                  <a:lnTo>
                    <a:pt x="2185" y="0"/>
                  </a:lnTo>
                  <a:lnTo>
                    <a:pt x="2212" y="0"/>
                  </a:lnTo>
                  <a:lnTo>
                    <a:pt x="2238" y="0"/>
                  </a:lnTo>
                  <a:lnTo>
                    <a:pt x="2265" y="0"/>
                  </a:lnTo>
                  <a:lnTo>
                    <a:pt x="2297" y="0"/>
                  </a:lnTo>
                  <a:lnTo>
                    <a:pt x="2323" y="0"/>
                  </a:lnTo>
                  <a:lnTo>
                    <a:pt x="2350" y="0"/>
                  </a:lnTo>
                  <a:lnTo>
                    <a:pt x="2376" y="0"/>
                  </a:lnTo>
                  <a:lnTo>
                    <a:pt x="2403" y="0"/>
                  </a:lnTo>
                  <a:lnTo>
                    <a:pt x="2435" y="0"/>
                  </a:lnTo>
                  <a:lnTo>
                    <a:pt x="2462" y="0"/>
                  </a:lnTo>
                  <a:lnTo>
                    <a:pt x="2488" y="0"/>
                  </a:lnTo>
                  <a:lnTo>
                    <a:pt x="2515" y="0"/>
                  </a:lnTo>
                  <a:lnTo>
                    <a:pt x="2541" y="0"/>
                  </a:lnTo>
                  <a:lnTo>
                    <a:pt x="2573" y="0"/>
                  </a:lnTo>
                  <a:lnTo>
                    <a:pt x="2600" y="0"/>
                  </a:lnTo>
                  <a:lnTo>
                    <a:pt x="2626" y="0"/>
                  </a:lnTo>
                  <a:lnTo>
                    <a:pt x="2653" y="0"/>
                  </a:lnTo>
                  <a:lnTo>
                    <a:pt x="2679" y="0"/>
                  </a:lnTo>
                  <a:lnTo>
                    <a:pt x="2711" y="0"/>
                  </a:lnTo>
                  <a:lnTo>
                    <a:pt x="2738" y="0"/>
                  </a:lnTo>
                  <a:lnTo>
                    <a:pt x="276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668200" y="4321080"/>
              <a:ext cx="2901960" cy="1622520"/>
            </a:xfrm>
            <a:custGeom>
              <a:avLst/>
              <a:gdLst/>
              <a:ahLst/>
              <a:rect l="l" t="t" r="r" b="b"/>
              <a:pathLst>
                <a:path w="2764" h="1982">
                  <a:moveTo>
                    <a:pt x="0" y="1982"/>
                  </a:moveTo>
                  <a:lnTo>
                    <a:pt x="27" y="1982"/>
                  </a:lnTo>
                  <a:lnTo>
                    <a:pt x="54" y="1982"/>
                  </a:lnTo>
                  <a:lnTo>
                    <a:pt x="85" y="1977"/>
                  </a:lnTo>
                  <a:lnTo>
                    <a:pt x="112" y="1977"/>
                  </a:lnTo>
                  <a:lnTo>
                    <a:pt x="139" y="1972"/>
                  </a:lnTo>
                  <a:lnTo>
                    <a:pt x="165" y="1966"/>
                  </a:lnTo>
                  <a:lnTo>
                    <a:pt x="192" y="1961"/>
                  </a:lnTo>
                  <a:lnTo>
                    <a:pt x="224" y="1950"/>
                  </a:lnTo>
                  <a:lnTo>
                    <a:pt x="250" y="1945"/>
                  </a:lnTo>
                  <a:lnTo>
                    <a:pt x="277" y="1934"/>
                  </a:lnTo>
                  <a:lnTo>
                    <a:pt x="303" y="1924"/>
                  </a:lnTo>
                  <a:lnTo>
                    <a:pt x="330" y="1913"/>
                  </a:lnTo>
                  <a:lnTo>
                    <a:pt x="362" y="1903"/>
                  </a:lnTo>
                  <a:lnTo>
                    <a:pt x="388" y="1887"/>
                  </a:lnTo>
                  <a:lnTo>
                    <a:pt x="415" y="1876"/>
                  </a:lnTo>
                  <a:lnTo>
                    <a:pt x="442" y="1860"/>
                  </a:lnTo>
                  <a:lnTo>
                    <a:pt x="468" y="1844"/>
                  </a:lnTo>
                  <a:lnTo>
                    <a:pt x="500" y="1828"/>
                  </a:lnTo>
                  <a:lnTo>
                    <a:pt x="527" y="1812"/>
                  </a:lnTo>
                  <a:lnTo>
                    <a:pt x="553" y="1791"/>
                  </a:lnTo>
                  <a:lnTo>
                    <a:pt x="580" y="1775"/>
                  </a:lnTo>
                  <a:lnTo>
                    <a:pt x="606" y="1754"/>
                  </a:lnTo>
                  <a:lnTo>
                    <a:pt x="638" y="1733"/>
                  </a:lnTo>
                  <a:lnTo>
                    <a:pt x="665" y="1711"/>
                  </a:lnTo>
                  <a:lnTo>
                    <a:pt x="691" y="1690"/>
                  </a:lnTo>
                  <a:lnTo>
                    <a:pt x="718" y="1669"/>
                  </a:lnTo>
                  <a:lnTo>
                    <a:pt x="745" y="1647"/>
                  </a:lnTo>
                  <a:lnTo>
                    <a:pt x="777" y="1621"/>
                  </a:lnTo>
                  <a:lnTo>
                    <a:pt x="803" y="1600"/>
                  </a:lnTo>
                  <a:lnTo>
                    <a:pt x="830" y="1573"/>
                  </a:lnTo>
                  <a:lnTo>
                    <a:pt x="856" y="1546"/>
                  </a:lnTo>
                  <a:lnTo>
                    <a:pt x="883" y="1520"/>
                  </a:lnTo>
                  <a:lnTo>
                    <a:pt x="915" y="1499"/>
                  </a:lnTo>
                  <a:lnTo>
                    <a:pt x="941" y="1467"/>
                  </a:lnTo>
                  <a:lnTo>
                    <a:pt x="968" y="1440"/>
                  </a:lnTo>
                  <a:lnTo>
                    <a:pt x="994" y="1414"/>
                  </a:lnTo>
                  <a:lnTo>
                    <a:pt x="1021" y="1387"/>
                  </a:lnTo>
                  <a:lnTo>
                    <a:pt x="1053" y="1355"/>
                  </a:lnTo>
                  <a:lnTo>
                    <a:pt x="1079" y="1329"/>
                  </a:lnTo>
                  <a:lnTo>
                    <a:pt x="1106" y="1297"/>
                  </a:lnTo>
                  <a:lnTo>
                    <a:pt x="1133" y="1270"/>
                  </a:lnTo>
                  <a:lnTo>
                    <a:pt x="1159" y="1238"/>
                  </a:lnTo>
                  <a:lnTo>
                    <a:pt x="1191" y="1206"/>
                  </a:lnTo>
                  <a:lnTo>
                    <a:pt x="1218" y="1180"/>
                  </a:lnTo>
                  <a:lnTo>
                    <a:pt x="1244" y="1148"/>
                  </a:lnTo>
                  <a:lnTo>
                    <a:pt x="1271" y="1116"/>
                  </a:lnTo>
                  <a:lnTo>
                    <a:pt x="1297" y="1084"/>
                  </a:lnTo>
                  <a:lnTo>
                    <a:pt x="1329" y="1052"/>
                  </a:lnTo>
                  <a:lnTo>
                    <a:pt x="1356" y="1020"/>
                  </a:lnTo>
                  <a:lnTo>
                    <a:pt x="1382" y="994"/>
                  </a:lnTo>
                  <a:lnTo>
                    <a:pt x="1409" y="962"/>
                  </a:lnTo>
                  <a:lnTo>
                    <a:pt x="1436" y="930"/>
                  </a:lnTo>
                  <a:lnTo>
                    <a:pt x="1468" y="898"/>
                  </a:lnTo>
                  <a:lnTo>
                    <a:pt x="1494" y="866"/>
                  </a:lnTo>
                  <a:lnTo>
                    <a:pt x="1521" y="834"/>
                  </a:lnTo>
                  <a:lnTo>
                    <a:pt x="1547" y="808"/>
                  </a:lnTo>
                  <a:lnTo>
                    <a:pt x="1574" y="776"/>
                  </a:lnTo>
                  <a:lnTo>
                    <a:pt x="1606" y="744"/>
                  </a:lnTo>
                  <a:lnTo>
                    <a:pt x="1632" y="717"/>
                  </a:lnTo>
                  <a:lnTo>
                    <a:pt x="1659" y="685"/>
                  </a:lnTo>
                  <a:lnTo>
                    <a:pt x="1685" y="659"/>
                  </a:lnTo>
                  <a:lnTo>
                    <a:pt x="1712" y="627"/>
                  </a:lnTo>
                  <a:lnTo>
                    <a:pt x="1744" y="600"/>
                  </a:lnTo>
                  <a:lnTo>
                    <a:pt x="1771" y="568"/>
                  </a:lnTo>
                  <a:lnTo>
                    <a:pt x="1797" y="542"/>
                  </a:lnTo>
                  <a:lnTo>
                    <a:pt x="1824" y="515"/>
                  </a:lnTo>
                  <a:lnTo>
                    <a:pt x="1850" y="489"/>
                  </a:lnTo>
                  <a:lnTo>
                    <a:pt x="1882" y="462"/>
                  </a:lnTo>
                  <a:lnTo>
                    <a:pt x="1909" y="436"/>
                  </a:lnTo>
                  <a:lnTo>
                    <a:pt x="1935" y="409"/>
                  </a:lnTo>
                  <a:lnTo>
                    <a:pt x="1962" y="382"/>
                  </a:lnTo>
                  <a:lnTo>
                    <a:pt x="1988" y="361"/>
                  </a:lnTo>
                  <a:lnTo>
                    <a:pt x="2020" y="335"/>
                  </a:lnTo>
                  <a:lnTo>
                    <a:pt x="2047" y="313"/>
                  </a:lnTo>
                  <a:lnTo>
                    <a:pt x="2073" y="292"/>
                  </a:lnTo>
                  <a:lnTo>
                    <a:pt x="2100" y="271"/>
                  </a:lnTo>
                  <a:lnTo>
                    <a:pt x="2127" y="249"/>
                  </a:lnTo>
                  <a:lnTo>
                    <a:pt x="2159" y="228"/>
                  </a:lnTo>
                  <a:lnTo>
                    <a:pt x="2185" y="207"/>
                  </a:lnTo>
                  <a:lnTo>
                    <a:pt x="2212" y="191"/>
                  </a:lnTo>
                  <a:lnTo>
                    <a:pt x="2238" y="170"/>
                  </a:lnTo>
                  <a:lnTo>
                    <a:pt x="2265" y="154"/>
                  </a:lnTo>
                  <a:lnTo>
                    <a:pt x="2297" y="138"/>
                  </a:lnTo>
                  <a:lnTo>
                    <a:pt x="2323" y="122"/>
                  </a:lnTo>
                  <a:lnTo>
                    <a:pt x="2350" y="111"/>
                  </a:lnTo>
                  <a:lnTo>
                    <a:pt x="2376" y="95"/>
                  </a:lnTo>
                  <a:lnTo>
                    <a:pt x="2403" y="85"/>
                  </a:lnTo>
                  <a:lnTo>
                    <a:pt x="2435" y="69"/>
                  </a:lnTo>
                  <a:lnTo>
                    <a:pt x="2462" y="58"/>
                  </a:lnTo>
                  <a:lnTo>
                    <a:pt x="2488" y="48"/>
                  </a:lnTo>
                  <a:lnTo>
                    <a:pt x="2515" y="42"/>
                  </a:lnTo>
                  <a:lnTo>
                    <a:pt x="2541" y="32"/>
                  </a:lnTo>
                  <a:lnTo>
                    <a:pt x="2573" y="26"/>
                  </a:lnTo>
                  <a:lnTo>
                    <a:pt x="2600" y="21"/>
                  </a:lnTo>
                  <a:lnTo>
                    <a:pt x="2626" y="16"/>
                  </a:lnTo>
                  <a:lnTo>
                    <a:pt x="2653" y="10"/>
                  </a:lnTo>
                  <a:lnTo>
                    <a:pt x="2679" y="5"/>
                  </a:lnTo>
                  <a:lnTo>
                    <a:pt x="2711" y="5"/>
                  </a:lnTo>
                  <a:lnTo>
                    <a:pt x="2738" y="0"/>
                  </a:lnTo>
                  <a:lnTo>
                    <a:pt x="276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0" name=""/>
                <p:cNvSpPr txBox="1"/>
                <p:nvPr/>
              </p:nvSpPr>
              <p:spPr>
                <a:xfrm>
                  <a:off x="8439120" y="5938920"/>
                  <a:ext cx="24624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1" name=""/>
                <p:cNvSpPr txBox="1"/>
                <p:nvPr/>
              </p:nvSpPr>
              <p:spPr>
                <a:xfrm>
                  <a:off x="5789520" y="5081760"/>
                  <a:ext cx="100656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ω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7391520" y="4816440"/>
                  <a:ext cx="69372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13" name=""/>
            <p:cNvCxnSpPr>
              <a:endCxn id="1609" idx="0"/>
            </p:cNvCxnSpPr>
            <p:nvPr/>
          </p:nvCxnSpPr>
          <p:spPr>
            <a:xfrm flipH="1" flipV="1" rot="5400000">
              <a:off x="6123240" y="4754880"/>
              <a:ext cx="496080" cy="158040"/>
            </a:xfrm>
            <a:prstGeom prst="curvedConnector5">
              <a:avLst>
                <a:gd name="adj1" fmla="val 50762"/>
                <a:gd name="adj2" fmla="val 50000"/>
                <a:gd name="adj3" fmla="val 507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4" name=""/>
            <p:cNvCxnSpPr/>
            <p:nvPr/>
          </p:nvCxnSpPr>
          <p:spPr>
            <a:xfrm flipV="1" rot="16200000">
              <a:off x="7389360" y="4460040"/>
              <a:ext cx="494280" cy="195840"/>
            </a:xfrm>
            <a:prstGeom prst="curvedConnector5">
              <a:avLst>
                <a:gd name="adj1" fmla="val 42128"/>
                <a:gd name="adj2" fmla="val 49907"/>
                <a:gd name="adj3" fmla="val 421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615" name=""/>
                <p:cNvSpPr txBox="1"/>
                <p:nvPr/>
              </p:nvSpPr>
              <p:spPr>
                <a:xfrm>
                  <a:off x="6972480" y="5946840"/>
                  <a:ext cx="26820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Why prediction alone is sub-optimal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585800" y="2357280"/>
            <a:ext cx="25884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844640" y="248904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001880" y="248904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263600" y="1430280"/>
            <a:ext cx="3891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782360" y="1430280"/>
            <a:ext cx="3891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006640" y="1692360"/>
                <a:ext cx="230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31840" y="169236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1182600" y="2484360"/>
                <a:ext cx="501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087560" y="1066680"/>
                <a:ext cx="36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1906560" y="106668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7" name=""/>
          <p:cNvSpPr/>
          <p:nvPr/>
        </p:nvSpPr>
        <p:spPr>
          <a:xfrm>
            <a:off x="293040" y="118116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ve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08160" y="224640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003320" y="1430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015280" y="2217600"/>
            <a:ext cx="89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419720" y="1219320"/>
            <a:ext cx="0" cy="196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rot="16200000">
            <a:off x="1814400" y="2192400"/>
            <a:ext cx="130320" cy="175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991080" y="3144960"/>
            <a:ext cx="17686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forward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154480" y="2360520"/>
            <a:ext cx="25884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413320" y="249084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570560" y="249084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832280" y="1430280"/>
            <a:ext cx="3891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5349600" y="1430280"/>
            <a:ext cx="3906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5575320" y="1695600"/>
                <a:ext cx="230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700520" y="16956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627520" y="2479680"/>
                <a:ext cx="501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460760" y="1069920"/>
                <a:ext cx="362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5280120" y="1069920"/>
                <a:ext cx="525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4" name=""/>
          <p:cNvSpPr/>
          <p:nvPr/>
        </p:nvSpPr>
        <p:spPr>
          <a:xfrm>
            <a:off x="4572000" y="1433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rot="16200000">
            <a:off x="5382360" y="2194920"/>
            <a:ext cx="131760" cy="1752480"/>
          </a:xfrm>
          <a:custGeom>
            <a:avLst/>
            <a:gdLst>
              <a:gd name="textAreaLeft" fmla="*/ 84240 w 131760"/>
              <a:gd name="textAreaRight" fmla="*/ 132120 w 1317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562280" y="3147840"/>
            <a:ext cx="1770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evers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936800" y="2487600"/>
                <a:ext cx="50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4508640" y="2479680"/>
                <a:ext cx="502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9" name=""/>
          <p:cNvSpPr/>
          <p:nvPr/>
        </p:nvSpPr>
        <p:spPr>
          <a:xfrm>
            <a:off x="3403440" y="2347920"/>
            <a:ext cx="260640" cy="26208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014640" y="247968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664080" y="247968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3533760" y="2609640"/>
            <a:ext cx="0" cy="261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403440" y="1300320"/>
            <a:ext cx="260640" cy="26172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014640" y="143028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664080" y="143028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3533760" y="156204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3203640" y="1611360"/>
                <a:ext cx="322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3170160" y="2625840"/>
                <a:ext cx="355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9" name=""/>
          <p:cNvSpPr/>
          <p:nvPr/>
        </p:nvSpPr>
        <p:spPr>
          <a:xfrm rot="16200000">
            <a:off x="3566160" y="2451960"/>
            <a:ext cx="130320" cy="1233360"/>
          </a:xfrm>
          <a:custGeom>
            <a:avLst/>
            <a:gdLst>
              <a:gd name="textAreaLeft" fmla="*/ 83160 w 130320"/>
              <a:gd name="textAreaRight" fmla="*/ 130680 w 130320"/>
              <a:gd name="textAreaTop" fmla="*/ 32040 h 1233360"/>
              <a:gd name="textAreaBottom" fmla="*/ 1201320 h 12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988360" y="3144960"/>
            <a:ext cx="1276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380880" y="3610080"/>
            <a:ext cx="4800600" cy="2868480"/>
            <a:chOff x="380880" y="3610080"/>
            <a:chExt cx="4800600" cy="2868480"/>
          </a:xfrm>
        </p:grpSpPr>
        <p:sp>
          <p:nvSpPr>
            <p:cNvPr id="1662" name=""/>
            <p:cNvSpPr/>
            <p:nvPr/>
          </p:nvSpPr>
          <p:spPr>
            <a:xfrm>
              <a:off x="1392480" y="3610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601640" y="61102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-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70040" y="6105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-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95360" y="5686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6" name=""/>
                <p:cNvSpPr txBox="1"/>
                <p:nvPr/>
              </p:nvSpPr>
              <p:spPr>
                <a:xfrm>
                  <a:off x="1219320" y="4162320"/>
                  <a:ext cx="401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7" name=""/>
                <p:cNvSpPr txBox="1"/>
                <p:nvPr/>
              </p:nvSpPr>
              <p:spPr>
                <a:xfrm>
                  <a:off x="1219320" y="5200560"/>
                  <a:ext cx="377640" cy="4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8" name=""/>
                <p:cNvSpPr txBox="1"/>
                <p:nvPr/>
              </p:nvSpPr>
              <p:spPr>
                <a:xfrm>
                  <a:off x="4141800" y="4162320"/>
                  <a:ext cx="3538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9" name=""/>
                <p:cNvSpPr txBox="1"/>
                <p:nvPr/>
              </p:nvSpPr>
              <p:spPr>
                <a:xfrm>
                  <a:off x="4191120" y="5191200"/>
                  <a:ext cx="3315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70" name=""/>
            <p:cNvSpPr/>
            <p:nvPr/>
          </p:nvSpPr>
          <p:spPr>
            <a:xfrm>
              <a:off x="2760840" y="5248440"/>
              <a:ext cx="304560" cy="304560"/>
            </a:xfrm>
            <a:prstGeom prst="flowChartOr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303640" y="54007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2913120" y="5552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760840" y="4219560"/>
              <a:ext cx="304560" cy="304920"/>
            </a:xfrm>
            <a:prstGeom prst="flowChartOr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303640" y="4371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913120" y="45244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6" name=""/>
                <p:cNvSpPr txBox="1"/>
                <p:nvPr/>
              </p:nvSpPr>
              <p:spPr>
                <a:xfrm>
                  <a:off x="2523960" y="4581360"/>
                  <a:ext cx="379440" cy="4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7" name=""/>
                <p:cNvSpPr txBox="1"/>
                <p:nvPr/>
              </p:nvSpPr>
              <p:spPr>
                <a:xfrm>
                  <a:off x="2484360" y="5572080"/>
                  <a:ext cx="4190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678" name=""/>
            <p:cNvSpPr/>
            <p:nvPr/>
          </p:nvSpPr>
          <p:spPr>
            <a:xfrm>
              <a:off x="3065400" y="4371840"/>
              <a:ext cx="363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9" name=""/>
                <p:cNvSpPr txBox="1"/>
                <p:nvPr/>
              </p:nvSpPr>
              <p:spPr>
                <a:xfrm>
                  <a:off x="1913040" y="4186080"/>
                  <a:ext cx="449280" cy="37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↓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0" name=""/>
                <p:cNvSpPr txBox="1"/>
                <p:nvPr/>
              </p:nvSpPr>
              <p:spPr>
                <a:xfrm>
                  <a:off x="1914480" y="5214960"/>
                  <a:ext cx="44928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↓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81" name=""/>
            <p:cNvCxnSpPr/>
            <p:nvPr/>
          </p:nvCxnSpPr>
          <p:spPr>
            <a:xfrm>
              <a:off x="1606320" y="5400360"/>
              <a:ext cx="2991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2" name=""/>
            <p:cNvCxnSpPr/>
            <p:nvPr/>
          </p:nvCxnSpPr>
          <p:spPr>
            <a:xfrm>
              <a:off x="1630440" y="4374720"/>
              <a:ext cx="27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3" name=""/>
            <p:cNvSpPr/>
            <p:nvPr/>
          </p:nvSpPr>
          <p:spPr>
            <a:xfrm>
              <a:off x="3067200" y="5400720"/>
              <a:ext cx="363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4" name=""/>
                <p:cNvSpPr txBox="1"/>
                <p:nvPr/>
              </p:nvSpPr>
              <p:spPr>
                <a:xfrm>
                  <a:off x="3429000" y="4181400"/>
                  <a:ext cx="44928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↑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5" name=""/>
                <p:cNvSpPr txBox="1"/>
                <p:nvPr/>
              </p:nvSpPr>
              <p:spPr>
                <a:xfrm>
                  <a:off x="3429000" y="5205240"/>
                  <a:ext cx="449280" cy="37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↑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86" name=""/>
            <p:cNvCxnSpPr/>
            <p:nvPr/>
          </p:nvCxnSpPr>
          <p:spPr>
            <a:xfrm flipH="1" flipV="1" rot="10800000">
              <a:off x="1208520" y="4374000"/>
              <a:ext cx="2520" cy="1026360"/>
            </a:xfrm>
            <a:prstGeom prst="bentConnector3">
              <a:avLst>
                <a:gd name="adj1" fmla="val -138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87" name=""/>
            <p:cNvSpPr/>
            <p:nvPr/>
          </p:nvSpPr>
          <p:spPr>
            <a:xfrm>
              <a:off x="685800" y="4905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8" name=""/>
                <p:cNvSpPr txBox="1"/>
                <p:nvPr/>
              </p:nvSpPr>
              <p:spPr>
                <a:xfrm>
                  <a:off x="380880" y="4691160"/>
                  <a:ext cx="330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689" name=""/>
            <p:cNvCxnSpPr/>
            <p:nvPr/>
          </p:nvCxnSpPr>
          <p:spPr>
            <a:xfrm>
              <a:off x="3887640" y="4370040"/>
              <a:ext cx="24552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0" name=""/>
            <p:cNvCxnSpPr/>
            <p:nvPr/>
          </p:nvCxnSpPr>
          <p:spPr>
            <a:xfrm flipV="1">
              <a:off x="3887640" y="5390280"/>
              <a:ext cx="2944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1" name=""/>
            <p:cNvSpPr/>
            <p:nvPr/>
          </p:nvSpPr>
          <p:spPr>
            <a:xfrm>
              <a:off x="4572000" y="4724280"/>
              <a:ext cx="304920" cy="30492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4876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3" name=""/>
            <p:cNvCxnSpPr>
              <a:endCxn id="1691" idx="0"/>
            </p:cNvCxnSpPr>
            <p:nvPr/>
          </p:nvCxnSpPr>
          <p:spPr>
            <a:xfrm>
              <a:off x="4505400" y="4375080"/>
              <a:ext cx="219600" cy="34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4" name=""/>
            <p:cNvCxnSpPr>
              <a:endCxn id="1691" idx="4"/>
            </p:cNvCxnSpPr>
            <p:nvPr/>
          </p:nvCxnSpPr>
          <p:spPr>
            <a:xfrm flipV="1">
              <a:off x="4532040" y="5028480"/>
              <a:ext cx="192600" cy="36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5" name=""/>
            <p:cNvSpPr/>
            <p:nvPr/>
          </p:nvSpPr>
          <p:spPr>
            <a:xfrm>
              <a:off x="1143000" y="403848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1447920" y="3676680"/>
              <a:ext cx="0" cy="365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143000" y="609588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1447920" y="5734080"/>
              <a:ext cx="0" cy="365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676520" y="6097680"/>
              <a:ext cx="0" cy="1807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219320" y="6095880"/>
              <a:ext cx="0" cy="1810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307040" y="5676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7560" y="6095880"/>
              <a:ext cx="60984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4362480" y="5734080"/>
              <a:ext cx="0" cy="365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03960" y="3719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29240" y="37148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62400" y="3619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10040" y="403848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4314960" y="3676680"/>
              <a:ext cx="0" cy="365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543560" y="3857760"/>
              <a:ext cx="0" cy="1807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086360" y="3855600"/>
              <a:ext cx="0" cy="1810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5713560" y="2505240"/>
            <a:ext cx="3125520" cy="1942920"/>
            <a:chOff x="5713560" y="2505240"/>
            <a:chExt cx="3125520" cy="1942920"/>
          </a:xfrm>
        </p:grpSpPr>
        <p:sp>
          <p:nvSpPr>
            <p:cNvPr id="1712" name=""/>
            <p:cNvSpPr/>
            <p:nvPr/>
          </p:nvSpPr>
          <p:spPr>
            <a:xfrm>
              <a:off x="6566040" y="2505240"/>
              <a:ext cx="2273040" cy="15087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Redundant spanning</a:t>
              </a:r>
              <a:br>
                <a:rPr sz="1600"/>
              </a:b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of low-pass content by</a:t>
              </a:r>
              <a:br>
                <a:rPr sz="1600"/>
              </a:b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both channels </a:t>
              </a:r>
              <a:r>
                <a:rPr b="0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High-pass quan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noise has unnecessarily</a:t>
              </a:r>
              <a:br>
                <a:rPr sz="1600"/>
              </a:b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high energy gai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flipV="1">
              <a:off x="5713560" y="4191120"/>
              <a:ext cx="992160" cy="257040"/>
            </a:xfrm>
            <a:prstGeom prst="wedgeEllipseCallout">
              <a:avLst>
                <a:gd name="adj1" fmla="val -36560"/>
                <a:gd name="adj2" fmla="val 214194"/>
              </a:avLst>
            </a:prstGeom>
            <a:noFill/>
            <a:ln w="1908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"/>
          <p:cNvSpPr/>
          <p:nvPr/>
        </p:nvSpPr>
        <p:spPr>
          <a:xfrm>
            <a:off x="2895480" y="1219320"/>
            <a:ext cx="0" cy="196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6924960" y="1174680"/>
            <a:ext cx="149760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i-directional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9B66-384F-4CD1-861E-5A6C7BAD3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– scalability, accessibility, efficienc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with JPEG2000?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– inter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way to scalable video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– why is it so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compensated lifting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– what does it sol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calable vide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scalability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– promising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modeling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– beyond quad-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 adaptive bases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– beyond band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of scalable media over loss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er systems with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intelligen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mbedding fails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– disruptive refinement and D+</a:t>
            </a:r>
            <a:r>
              <a:rPr b="0" lang="en-US" sz="2000" spc="-1" strike="noStrike">
                <a:solidFill>
                  <a:srgbClr val="5f5f5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with distributed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E8E9-8A5B-4C19-A755-E96ED12499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461880" y="1295280"/>
            <a:ext cx="826776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Reduced noise power through lifting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50292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ss –ve fraction of high band through low band synthesi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moves low freq. noise power from synthesized high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d compensating step in the forward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es not affect energy compacting properties of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768320" y="2585880"/>
            <a:ext cx="25884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023920" y="27147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184400" y="270828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446120" y="1658880"/>
            <a:ext cx="3891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964880" y="1658880"/>
            <a:ext cx="3891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2189160" y="1920960"/>
                <a:ext cx="230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1314360" y="192096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1365120" y="2712960"/>
                <a:ext cx="501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1270080" y="129528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2089080" y="129528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9" name=""/>
          <p:cNvSpPr/>
          <p:nvPr/>
        </p:nvSpPr>
        <p:spPr>
          <a:xfrm>
            <a:off x="383400" y="140976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ve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98880" y="247500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185840" y="165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668920" y="1447920"/>
            <a:ext cx="0" cy="157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461360" y="2589120"/>
            <a:ext cx="25848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729560" y="272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5996160" y="272412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7259760" y="1658880"/>
            <a:ext cx="678600" cy="936720"/>
            <a:chOff x="7259760" y="1658880"/>
            <a:chExt cx="678600" cy="936720"/>
          </a:xfrm>
        </p:grpSpPr>
        <p:sp>
          <p:nvSpPr>
            <p:cNvPr id="1737" name=""/>
            <p:cNvSpPr/>
            <p:nvPr/>
          </p:nvSpPr>
          <p:spPr>
            <a:xfrm>
              <a:off x="7259760" y="1658880"/>
              <a:ext cx="2908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7646400" y="1658880"/>
              <a:ext cx="2919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7815240" y="1924200"/>
                <a:ext cx="230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129440" y="19242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7763040" y="2717640"/>
                <a:ext cx="5014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4948200" y="1298520"/>
                <a:ext cx="362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7013520" y="129852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5986440" y="165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119320" y="2716200"/>
                <a:ext cx="50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7081920" y="271764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4653000" y="2576520"/>
            <a:ext cx="260280" cy="26208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264200" y="270828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4913280" y="270828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4782960" y="2838240"/>
            <a:ext cx="0" cy="261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653000" y="1528920"/>
            <a:ext cx="260280" cy="26172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264200" y="165888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913280" y="165888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4782960" y="179064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4452840" y="1839960"/>
                <a:ext cx="322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419720" y="2854440"/>
                <a:ext cx="355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7" name=""/>
          <p:cNvSpPr/>
          <p:nvPr/>
        </p:nvSpPr>
        <p:spPr>
          <a:xfrm>
            <a:off x="4145040" y="1447920"/>
            <a:ext cx="0" cy="157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7672320" y="129528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5907240" y="1293840"/>
                <a:ext cx="365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60" name=""/>
          <p:cNvGrpSpPr/>
          <p:nvPr/>
        </p:nvGrpSpPr>
        <p:grpSpPr>
          <a:xfrm>
            <a:off x="5821200" y="3908520"/>
            <a:ext cx="2901960" cy="1993680"/>
            <a:chOff x="5821200" y="3908520"/>
            <a:chExt cx="2901960" cy="1993680"/>
          </a:xfrm>
        </p:grpSpPr>
        <p:sp>
          <p:nvSpPr>
            <p:cNvPr id="1761" name=""/>
            <p:cNvSpPr/>
            <p:nvPr/>
          </p:nvSpPr>
          <p:spPr>
            <a:xfrm>
              <a:off x="5821200" y="3908520"/>
              <a:ext cx="2901960" cy="1993680"/>
            </a:xfrm>
            <a:custGeom>
              <a:avLst/>
              <a:gdLst/>
              <a:ahLst/>
              <a:rect l="l" t="t" r="r" b="b"/>
              <a:pathLst>
                <a:path w="520" h="410">
                  <a:moveTo>
                    <a:pt x="0" y="410"/>
                  </a:moveTo>
                  <a:lnTo>
                    <a:pt x="520" y="410"/>
                  </a:lnTo>
                  <a:lnTo>
                    <a:pt x="5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5821200" y="3908520"/>
              <a:ext cx="720" cy="19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3" name=""/>
          <p:cNvSpPr/>
          <p:nvPr/>
        </p:nvSpPr>
        <p:spPr>
          <a:xfrm flipV="1">
            <a:off x="5821200" y="5877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89160" y="5938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8723160" y="5877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821200" y="5902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8695800" y="59022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638320" y="5805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821200" y="3927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8695800" y="392760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638320" y="383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821200" y="3927600"/>
            <a:ext cx="2901960" cy="1440"/>
          </a:xfrm>
          <a:custGeom>
            <a:avLst/>
            <a:gdLst/>
            <a:ahLst/>
            <a:rect l="l" t="t" r="r" b="b"/>
            <a:pathLst>
              <a:path w="2764" h="0">
                <a:moveTo>
                  <a:pt x="0" y="0"/>
                </a:moveTo>
                <a:lnTo>
                  <a:pt x="27" y="0"/>
                </a:lnTo>
                <a:lnTo>
                  <a:pt x="54" y="0"/>
                </a:lnTo>
                <a:lnTo>
                  <a:pt x="85" y="0"/>
                </a:lnTo>
                <a:lnTo>
                  <a:pt x="112" y="0"/>
                </a:lnTo>
                <a:lnTo>
                  <a:pt x="139" y="0"/>
                </a:lnTo>
                <a:lnTo>
                  <a:pt x="165" y="0"/>
                </a:lnTo>
                <a:lnTo>
                  <a:pt x="192" y="0"/>
                </a:lnTo>
                <a:lnTo>
                  <a:pt x="224" y="0"/>
                </a:lnTo>
                <a:lnTo>
                  <a:pt x="250" y="0"/>
                </a:lnTo>
                <a:lnTo>
                  <a:pt x="277" y="0"/>
                </a:lnTo>
                <a:lnTo>
                  <a:pt x="303" y="0"/>
                </a:lnTo>
                <a:lnTo>
                  <a:pt x="330" y="0"/>
                </a:lnTo>
                <a:lnTo>
                  <a:pt x="362" y="0"/>
                </a:lnTo>
                <a:lnTo>
                  <a:pt x="388" y="0"/>
                </a:lnTo>
                <a:lnTo>
                  <a:pt x="415" y="0"/>
                </a:lnTo>
                <a:lnTo>
                  <a:pt x="442" y="0"/>
                </a:lnTo>
                <a:lnTo>
                  <a:pt x="468" y="0"/>
                </a:lnTo>
                <a:lnTo>
                  <a:pt x="500" y="0"/>
                </a:lnTo>
                <a:lnTo>
                  <a:pt x="527" y="0"/>
                </a:lnTo>
                <a:lnTo>
                  <a:pt x="553" y="0"/>
                </a:lnTo>
                <a:lnTo>
                  <a:pt x="580" y="0"/>
                </a:lnTo>
                <a:lnTo>
                  <a:pt x="606" y="0"/>
                </a:lnTo>
                <a:lnTo>
                  <a:pt x="638" y="0"/>
                </a:lnTo>
                <a:lnTo>
                  <a:pt x="665" y="0"/>
                </a:lnTo>
                <a:lnTo>
                  <a:pt x="691" y="0"/>
                </a:lnTo>
                <a:lnTo>
                  <a:pt x="718" y="0"/>
                </a:lnTo>
                <a:lnTo>
                  <a:pt x="745" y="0"/>
                </a:lnTo>
                <a:lnTo>
                  <a:pt x="777" y="0"/>
                </a:lnTo>
                <a:lnTo>
                  <a:pt x="803" y="0"/>
                </a:lnTo>
                <a:lnTo>
                  <a:pt x="830" y="0"/>
                </a:lnTo>
                <a:lnTo>
                  <a:pt x="856" y="0"/>
                </a:lnTo>
                <a:lnTo>
                  <a:pt x="883" y="0"/>
                </a:lnTo>
                <a:lnTo>
                  <a:pt x="915" y="0"/>
                </a:lnTo>
                <a:lnTo>
                  <a:pt x="941" y="0"/>
                </a:lnTo>
                <a:lnTo>
                  <a:pt x="968" y="0"/>
                </a:lnTo>
                <a:lnTo>
                  <a:pt x="994" y="0"/>
                </a:lnTo>
                <a:lnTo>
                  <a:pt x="1021" y="0"/>
                </a:lnTo>
                <a:lnTo>
                  <a:pt x="1053" y="0"/>
                </a:lnTo>
                <a:lnTo>
                  <a:pt x="1079" y="0"/>
                </a:lnTo>
                <a:lnTo>
                  <a:pt x="1106" y="0"/>
                </a:lnTo>
                <a:lnTo>
                  <a:pt x="1133" y="0"/>
                </a:lnTo>
                <a:lnTo>
                  <a:pt x="1159" y="0"/>
                </a:lnTo>
                <a:lnTo>
                  <a:pt x="1191" y="0"/>
                </a:lnTo>
                <a:lnTo>
                  <a:pt x="1218" y="0"/>
                </a:lnTo>
                <a:lnTo>
                  <a:pt x="1244" y="0"/>
                </a:lnTo>
                <a:lnTo>
                  <a:pt x="1271" y="0"/>
                </a:lnTo>
                <a:lnTo>
                  <a:pt x="1297" y="0"/>
                </a:lnTo>
                <a:lnTo>
                  <a:pt x="1329" y="0"/>
                </a:lnTo>
                <a:lnTo>
                  <a:pt x="1356" y="0"/>
                </a:lnTo>
                <a:lnTo>
                  <a:pt x="1382" y="0"/>
                </a:lnTo>
                <a:lnTo>
                  <a:pt x="1409" y="0"/>
                </a:lnTo>
                <a:lnTo>
                  <a:pt x="1436" y="0"/>
                </a:lnTo>
                <a:lnTo>
                  <a:pt x="1468" y="0"/>
                </a:lnTo>
                <a:lnTo>
                  <a:pt x="1494" y="0"/>
                </a:lnTo>
                <a:lnTo>
                  <a:pt x="1521" y="0"/>
                </a:lnTo>
                <a:lnTo>
                  <a:pt x="1547" y="0"/>
                </a:lnTo>
                <a:lnTo>
                  <a:pt x="1574" y="0"/>
                </a:lnTo>
                <a:lnTo>
                  <a:pt x="1606" y="0"/>
                </a:lnTo>
                <a:lnTo>
                  <a:pt x="1632" y="0"/>
                </a:lnTo>
                <a:lnTo>
                  <a:pt x="1659" y="0"/>
                </a:lnTo>
                <a:lnTo>
                  <a:pt x="1685" y="0"/>
                </a:lnTo>
                <a:lnTo>
                  <a:pt x="1712" y="0"/>
                </a:lnTo>
                <a:lnTo>
                  <a:pt x="1744" y="0"/>
                </a:lnTo>
                <a:lnTo>
                  <a:pt x="1771" y="0"/>
                </a:lnTo>
                <a:lnTo>
                  <a:pt x="1797" y="0"/>
                </a:lnTo>
                <a:lnTo>
                  <a:pt x="1824" y="0"/>
                </a:lnTo>
                <a:lnTo>
                  <a:pt x="1850" y="0"/>
                </a:lnTo>
                <a:lnTo>
                  <a:pt x="1882" y="0"/>
                </a:lnTo>
                <a:lnTo>
                  <a:pt x="1909" y="0"/>
                </a:lnTo>
                <a:lnTo>
                  <a:pt x="1935" y="0"/>
                </a:lnTo>
                <a:lnTo>
                  <a:pt x="1962" y="0"/>
                </a:lnTo>
                <a:lnTo>
                  <a:pt x="1988" y="0"/>
                </a:lnTo>
                <a:lnTo>
                  <a:pt x="2020" y="0"/>
                </a:lnTo>
                <a:lnTo>
                  <a:pt x="2047" y="0"/>
                </a:lnTo>
                <a:lnTo>
                  <a:pt x="2073" y="0"/>
                </a:lnTo>
                <a:lnTo>
                  <a:pt x="2100" y="0"/>
                </a:lnTo>
                <a:lnTo>
                  <a:pt x="2127" y="0"/>
                </a:lnTo>
                <a:lnTo>
                  <a:pt x="2159" y="0"/>
                </a:lnTo>
                <a:lnTo>
                  <a:pt x="2185" y="0"/>
                </a:lnTo>
                <a:lnTo>
                  <a:pt x="2212" y="0"/>
                </a:lnTo>
                <a:lnTo>
                  <a:pt x="2238" y="0"/>
                </a:lnTo>
                <a:lnTo>
                  <a:pt x="2265" y="0"/>
                </a:lnTo>
                <a:lnTo>
                  <a:pt x="2297" y="0"/>
                </a:lnTo>
                <a:lnTo>
                  <a:pt x="2323" y="0"/>
                </a:lnTo>
                <a:lnTo>
                  <a:pt x="2350" y="0"/>
                </a:lnTo>
                <a:lnTo>
                  <a:pt x="2376" y="0"/>
                </a:lnTo>
                <a:lnTo>
                  <a:pt x="2403" y="0"/>
                </a:lnTo>
                <a:lnTo>
                  <a:pt x="2435" y="0"/>
                </a:lnTo>
                <a:lnTo>
                  <a:pt x="2462" y="0"/>
                </a:lnTo>
                <a:lnTo>
                  <a:pt x="2488" y="0"/>
                </a:lnTo>
                <a:lnTo>
                  <a:pt x="2515" y="0"/>
                </a:lnTo>
                <a:lnTo>
                  <a:pt x="2541" y="0"/>
                </a:lnTo>
                <a:lnTo>
                  <a:pt x="2573" y="0"/>
                </a:lnTo>
                <a:lnTo>
                  <a:pt x="2600" y="0"/>
                </a:lnTo>
                <a:lnTo>
                  <a:pt x="2626" y="0"/>
                </a:lnTo>
                <a:lnTo>
                  <a:pt x="2653" y="0"/>
                </a:lnTo>
                <a:lnTo>
                  <a:pt x="2679" y="0"/>
                </a:lnTo>
                <a:lnTo>
                  <a:pt x="2711" y="0"/>
                </a:lnTo>
                <a:lnTo>
                  <a:pt x="2738" y="0"/>
                </a:lnTo>
                <a:lnTo>
                  <a:pt x="276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5820480" y="3927600"/>
            <a:ext cx="2901960" cy="1974600"/>
          </a:xfrm>
          <a:custGeom>
            <a:avLst/>
            <a:gdLst/>
            <a:ahLst/>
            <a:rect l="l" t="t" r="r" b="b"/>
            <a:pathLst>
              <a:path w="2764" h="1982">
                <a:moveTo>
                  <a:pt x="0" y="1982"/>
                </a:moveTo>
                <a:lnTo>
                  <a:pt x="27" y="1982"/>
                </a:lnTo>
                <a:lnTo>
                  <a:pt x="54" y="1982"/>
                </a:lnTo>
                <a:lnTo>
                  <a:pt x="85" y="1977"/>
                </a:lnTo>
                <a:lnTo>
                  <a:pt x="112" y="1977"/>
                </a:lnTo>
                <a:lnTo>
                  <a:pt x="139" y="1972"/>
                </a:lnTo>
                <a:lnTo>
                  <a:pt x="165" y="1966"/>
                </a:lnTo>
                <a:lnTo>
                  <a:pt x="192" y="1961"/>
                </a:lnTo>
                <a:lnTo>
                  <a:pt x="224" y="1950"/>
                </a:lnTo>
                <a:lnTo>
                  <a:pt x="250" y="1945"/>
                </a:lnTo>
                <a:lnTo>
                  <a:pt x="277" y="1934"/>
                </a:lnTo>
                <a:lnTo>
                  <a:pt x="303" y="1924"/>
                </a:lnTo>
                <a:lnTo>
                  <a:pt x="330" y="1913"/>
                </a:lnTo>
                <a:lnTo>
                  <a:pt x="362" y="1903"/>
                </a:lnTo>
                <a:lnTo>
                  <a:pt x="388" y="1887"/>
                </a:lnTo>
                <a:lnTo>
                  <a:pt x="415" y="1876"/>
                </a:lnTo>
                <a:lnTo>
                  <a:pt x="442" y="1860"/>
                </a:lnTo>
                <a:lnTo>
                  <a:pt x="468" y="1844"/>
                </a:lnTo>
                <a:lnTo>
                  <a:pt x="500" y="1828"/>
                </a:lnTo>
                <a:lnTo>
                  <a:pt x="527" y="1812"/>
                </a:lnTo>
                <a:lnTo>
                  <a:pt x="553" y="1791"/>
                </a:lnTo>
                <a:lnTo>
                  <a:pt x="580" y="1775"/>
                </a:lnTo>
                <a:lnTo>
                  <a:pt x="606" y="1754"/>
                </a:lnTo>
                <a:lnTo>
                  <a:pt x="638" y="1733"/>
                </a:lnTo>
                <a:lnTo>
                  <a:pt x="665" y="1711"/>
                </a:lnTo>
                <a:lnTo>
                  <a:pt x="691" y="1690"/>
                </a:lnTo>
                <a:lnTo>
                  <a:pt x="718" y="1669"/>
                </a:lnTo>
                <a:lnTo>
                  <a:pt x="745" y="1647"/>
                </a:lnTo>
                <a:lnTo>
                  <a:pt x="777" y="1621"/>
                </a:lnTo>
                <a:lnTo>
                  <a:pt x="803" y="1600"/>
                </a:lnTo>
                <a:lnTo>
                  <a:pt x="830" y="1573"/>
                </a:lnTo>
                <a:lnTo>
                  <a:pt x="856" y="1546"/>
                </a:lnTo>
                <a:lnTo>
                  <a:pt x="883" y="1520"/>
                </a:lnTo>
                <a:lnTo>
                  <a:pt x="915" y="1499"/>
                </a:lnTo>
                <a:lnTo>
                  <a:pt x="941" y="1467"/>
                </a:lnTo>
                <a:lnTo>
                  <a:pt x="968" y="1440"/>
                </a:lnTo>
                <a:lnTo>
                  <a:pt x="994" y="1414"/>
                </a:lnTo>
                <a:lnTo>
                  <a:pt x="1021" y="1387"/>
                </a:lnTo>
                <a:lnTo>
                  <a:pt x="1053" y="1355"/>
                </a:lnTo>
                <a:lnTo>
                  <a:pt x="1079" y="1329"/>
                </a:lnTo>
                <a:lnTo>
                  <a:pt x="1106" y="1297"/>
                </a:lnTo>
                <a:lnTo>
                  <a:pt x="1133" y="1270"/>
                </a:lnTo>
                <a:lnTo>
                  <a:pt x="1159" y="1238"/>
                </a:lnTo>
                <a:lnTo>
                  <a:pt x="1191" y="1206"/>
                </a:lnTo>
                <a:lnTo>
                  <a:pt x="1218" y="1180"/>
                </a:lnTo>
                <a:lnTo>
                  <a:pt x="1244" y="1148"/>
                </a:lnTo>
                <a:lnTo>
                  <a:pt x="1271" y="1116"/>
                </a:lnTo>
                <a:lnTo>
                  <a:pt x="1297" y="1084"/>
                </a:lnTo>
                <a:lnTo>
                  <a:pt x="1329" y="1052"/>
                </a:lnTo>
                <a:lnTo>
                  <a:pt x="1356" y="1020"/>
                </a:lnTo>
                <a:lnTo>
                  <a:pt x="1382" y="994"/>
                </a:lnTo>
                <a:lnTo>
                  <a:pt x="1409" y="962"/>
                </a:lnTo>
                <a:lnTo>
                  <a:pt x="1436" y="930"/>
                </a:lnTo>
                <a:lnTo>
                  <a:pt x="1468" y="898"/>
                </a:lnTo>
                <a:lnTo>
                  <a:pt x="1494" y="866"/>
                </a:lnTo>
                <a:lnTo>
                  <a:pt x="1521" y="834"/>
                </a:lnTo>
                <a:lnTo>
                  <a:pt x="1547" y="808"/>
                </a:lnTo>
                <a:lnTo>
                  <a:pt x="1574" y="776"/>
                </a:lnTo>
                <a:lnTo>
                  <a:pt x="1606" y="744"/>
                </a:lnTo>
                <a:lnTo>
                  <a:pt x="1632" y="717"/>
                </a:lnTo>
                <a:lnTo>
                  <a:pt x="1659" y="685"/>
                </a:lnTo>
                <a:lnTo>
                  <a:pt x="1685" y="659"/>
                </a:lnTo>
                <a:lnTo>
                  <a:pt x="1712" y="627"/>
                </a:lnTo>
                <a:lnTo>
                  <a:pt x="1744" y="600"/>
                </a:lnTo>
                <a:lnTo>
                  <a:pt x="1771" y="568"/>
                </a:lnTo>
                <a:lnTo>
                  <a:pt x="1797" y="542"/>
                </a:lnTo>
                <a:lnTo>
                  <a:pt x="1824" y="515"/>
                </a:lnTo>
                <a:lnTo>
                  <a:pt x="1850" y="489"/>
                </a:lnTo>
                <a:lnTo>
                  <a:pt x="1882" y="462"/>
                </a:lnTo>
                <a:lnTo>
                  <a:pt x="1909" y="436"/>
                </a:lnTo>
                <a:lnTo>
                  <a:pt x="1935" y="409"/>
                </a:lnTo>
                <a:lnTo>
                  <a:pt x="1962" y="382"/>
                </a:lnTo>
                <a:lnTo>
                  <a:pt x="1988" y="361"/>
                </a:lnTo>
                <a:lnTo>
                  <a:pt x="2020" y="335"/>
                </a:lnTo>
                <a:lnTo>
                  <a:pt x="2047" y="313"/>
                </a:lnTo>
                <a:lnTo>
                  <a:pt x="2073" y="292"/>
                </a:lnTo>
                <a:lnTo>
                  <a:pt x="2100" y="271"/>
                </a:lnTo>
                <a:lnTo>
                  <a:pt x="2127" y="249"/>
                </a:lnTo>
                <a:lnTo>
                  <a:pt x="2159" y="228"/>
                </a:lnTo>
                <a:lnTo>
                  <a:pt x="2185" y="207"/>
                </a:lnTo>
                <a:lnTo>
                  <a:pt x="2212" y="191"/>
                </a:lnTo>
                <a:lnTo>
                  <a:pt x="2238" y="170"/>
                </a:lnTo>
                <a:lnTo>
                  <a:pt x="2265" y="154"/>
                </a:lnTo>
                <a:lnTo>
                  <a:pt x="2297" y="138"/>
                </a:lnTo>
                <a:lnTo>
                  <a:pt x="2323" y="122"/>
                </a:lnTo>
                <a:lnTo>
                  <a:pt x="2350" y="111"/>
                </a:lnTo>
                <a:lnTo>
                  <a:pt x="2376" y="95"/>
                </a:lnTo>
                <a:lnTo>
                  <a:pt x="2403" y="85"/>
                </a:lnTo>
                <a:lnTo>
                  <a:pt x="2435" y="69"/>
                </a:lnTo>
                <a:lnTo>
                  <a:pt x="2462" y="58"/>
                </a:lnTo>
                <a:lnTo>
                  <a:pt x="2488" y="48"/>
                </a:lnTo>
                <a:lnTo>
                  <a:pt x="2515" y="42"/>
                </a:lnTo>
                <a:lnTo>
                  <a:pt x="2541" y="32"/>
                </a:lnTo>
                <a:lnTo>
                  <a:pt x="2573" y="26"/>
                </a:lnTo>
                <a:lnTo>
                  <a:pt x="2600" y="21"/>
                </a:lnTo>
                <a:lnTo>
                  <a:pt x="2626" y="16"/>
                </a:lnTo>
                <a:lnTo>
                  <a:pt x="2653" y="10"/>
                </a:lnTo>
                <a:lnTo>
                  <a:pt x="2679" y="5"/>
                </a:lnTo>
                <a:lnTo>
                  <a:pt x="2711" y="5"/>
                </a:lnTo>
                <a:lnTo>
                  <a:pt x="2738" y="0"/>
                </a:lnTo>
                <a:lnTo>
                  <a:pt x="276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4" name=""/>
              <p:cNvSpPr txBox="1"/>
              <p:nvPr/>
            </p:nvSpPr>
            <p:spPr>
              <a:xfrm>
                <a:off x="8591400" y="5896080"/>
                <a:ext cx="246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5791320" y="4419720"/>
                <a:ext cx="10062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776" name=""/>
          <p:cNvCxnSpPr>
            <a:endCxn id="1773" idx="0"/>
          </p:cNvCxnSpPr>
          <p:nvPr/>
        </p:nvCxnSpPr>
        <p:spPr>
          <a:xfrm flipH="1" flipV="1" rot="5400000">
            <a:off x="6363720" y="4181040"/>
            <a:ext cx="169200" cy="308520"/>
          </a:xfrm>
          <a:prstGeom prst="curvedConnector5">
            <a:avLst>
              <a:gd name="adj1" fmla="val 60341"/>
              <a:gd name="adj2" fmla="val 50000"/>
              <a:gd name="adj3" fmla="val 603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7" name=""/>
          <p:cNvCxnSpPr/>
          <p:nvPr/>
        </p:nvCxnSpPr>
        <p:spPr>
          <a:xfrm flipV="1" rot="16200000">
            <a:off x="7488360" y="4118040"/>
            <a:ext cx="600840" cy="196200"/>
          </a:xfrm>
          <a:prstGeom prst="curvedConnector5">
            <a:avLst>
              <a:gd name="adj1" fmla="val 42146"/>
              <a:gd name="adj2" fmla="val 50000"/>
              <a:gd name="adj3" fmla="val 421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7124760" y="5905440"/>
                <a:ext cx="2682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 flipH="1">
            <a:off x="5819040" y="3686040"/>
            <a:ext cx="2911320" cy="2211480"/>
          </a:xfrm>
          <a:custGeom>
            <a:avLst/>
            <a:gdLst/>
            <a:ahLst/>
            <a:rect l="l" t="t" r="r" b="b"/>
            <a:pathLst>
              <a:path w="2764" h="1748">
                <a:moveTo>
                  <a:pt x="0" y="191"/>
                </a:moveTo>
                <a:lnTo>
                  <a:pt x="27" y="191"/>
                </a:lnTo>
                <a:lnTo>
                  <a:pt x="54" y="191"/>
                </a:lnTo>
                <a:lnTo>
                  <a:pt x="85" y="186"/>
                </a:lnTo>
                <a:lnTo>
                  <a:pt x="112" y="186"/>
                </a:lnTo>
                <a:lnTo>
                  <a:pt x="139" y="180"/>
                </a:lnTo>
                <a:lnTo>
                  <a:pt x="165" y="180"/>
                </a:lnTo>
                <a:lnTo>
                  <a:pt x="192" y="175"/>
                </a:lnTo>
                <a:lnTo>
                  <a:pt x="224" y="170"/>
                </a:lnTo>
                <a:lnTo>
                  <a:pt x="250" y="164"/>
                </a:lnTo>
                <a:lnTo>
                  <a:pt x="277" y="154"/>
                </a:lnTo>
                <a:lnTo>
                  <a:pt x="303" y="148"/>
                </a:lnTo>
                <a:lnTo>
                  <a:pt x="330" y="143"/>
                </a:lnTo>
                <a:lnTo>
                  <a:pt x="362" y="132"/>
                </a:lnTo>
                <a:lnTo>
                  <a:pt x="388" y="127"/>
                </a:lnTo>
                <a:lnTo>
                  <a:pt x="415" y="116"/>
                </a:lnTo>
                <a:lnTo>
                  <a:pt x="442" y="106"/>
                </a:lnTo>
                <a:lnTo>
                  <a:pt x="468" y="101"/>
                </a:lnTo>
                <a:lnTo>
                  <a:pt x="500" y="90"/>
                </a:lnTo>
                <a:lnTo>
                  <a:pt x="527" y="79"/>
                </a:lnTo>
                <a:lnTo>
                  <a:pt x="553" y="74"/>
                </a:lnTo>
                <a:lnTo>
                  <a:pt x="580" y="63"/>
                </a:lnTo>
                <a:lnTo>
                  <a:pt x="606" y="53"/>
                </a:lnTo>
                <a:lnTo>
                  <a:pt x="638" y="47"/>
                </a:lnTo>
                <a:lnTo>
                  <a:pt x="665" y="37"/>
                </a:lnTo>
                <a:lnTo>
                  <a:pt x="691" y="31"/>
                </a:lnTo>
                <a:lnTo>
                  <a:pt x="718" y="26"/>
                </a:lnTo>
                <a:lnTo>
                  <a:pt x="745" y="15"/>
                </a:lnTo>
                <a:lnTo>
                  <a:pt x="777" y="10"/>
                </a:lnTo>
                <a:lnTo>
                  <a:pt x="803" y="5"/>
                </a:lnTo>
                <a:lnTo>
                  <a:pt x="830" y="5"/>
                </a:lnTo>
                <a:lnTo>
                  <a:pt x="856" y="0"/>
                </a:lnTo>
                <a:lnTo>
                  <a:pt x="883" y="0"/>
                </a:lnTo>
                <a:lnTo>
                  <a:pt x="915" y="0"/>
                </a:lnTo>
                <a:lnTo>
                  <a:pt x="941" y="0"/>
                </a:lnTo>
                <a:lnTo>
                  <a:pt x="968" y="0"/>
                </a:lnTo>
                <a:lnTo>
                  <a:pt x="994" y="0"/>
                </a:lnTo>
                <a:lnTo>
                  <a:pt x="1021" y="5"/>
                </a:lnTo>
                <a:lnTo>
                  <a:pt x="1053" y="10"/>
                </a:lnTo>
                <a:lnTo>
                  <a:pt x="1079" y="15"/>
                </a:lnTo>
                <a:lnTo>
                  <a:pt x="1106" y="26"/>
                </a:lnTo>
                <a:lnTo>
                  <a:pt x="1133" y="37"/>
                </a:lnTo>
                <a:lnTo>
                  <a:pt x="1159" y="47"/>
                </a:lnTo>
                <a:lnTo>
                  <a:pt x="1191" y="58"/>
                </a:lnTo>
                <a:lnTo>
                  <a:pt x="1218" y="74"/>
                </a:lnTo>
                <a:lnTo>
                  <a:pt x="1244" y="90"/>
                </a:lnTo>
                <a:lnTo>
                  <a:pt x="1271" y="106"/>
                </a:lnTo>
                <a:lnTo>
                  <a:pt x="1297" y="127"/>
                </a:lnTo>
                <a:lnTo>
                  <a:pt x="1329" y="148"/>
                </a:lnTo>
                <a:lnTo>
                  <a:pt x="1356" y="170"/>
                </a:lnTo>
                <a:lnTo>
                  <a:pt x="1382" y="191"/>
                </a:lnTo>
                <a:lnTo>
                  <a:pt x="1409" y="217"/>
                </a:lnTo>
                <a:lnTo>
                  <a:pt x="1436" y="244"/>
                </a:lnTo>
                <a:lnTo>
                  <a:pt x="1468" y="271"/>
                </a:lnTo>
                <a:lnTo>
                  <a:pt x="1494" y="303"/>
                </a:lnTo>
                <a:lnTo>
                  <a:pt x="1521" y="334"/>
                </a:lnTo>
                <a:lnTo>
                  <a:pt x="1547" y="366"/>
                </a:lnTo>
                <a:lnTo>
                  <a:pt x="1574" y="398"/>
                </a:lnTo>
                <a:lnTo>
                  <a:pt x="1606" y="435"/>
                </a:lnTo>
                <a:lnTo>
                  <a:pt x="1632" y="467"/>
                </a:lnTo>
                <a:lnTo>
                  <a:pt x="1659" y="505"/>
                </a:lnTo>
                <a:lnTo>
                  <a:pt x="1685" y="547"/>
                </a:lnTo>
                <a:lnTo>
                  <a:pt x="1712" y="584"/>
                </a:lnTo>
                <a:lnTo>
                  <a:pt x="1744" y="621"/>
                </a:lnTo>
                <a:lnTo>
                  <a:pt x="1771" y="664"/>
                </a:lnTo>
                <a:lnTo>
                  <a:pt x="1797" y="707"/>
                </a:lnTo>
                <a:lnTo>
                  <a:pt x="1824" y="749"/>
                </a:lnTo>
                <a:lnTo>
                  <a:pt x="1850" y="792"/>
                </a:lnTo>
                <a:lnTo>
                  <a:pt x="1882" y="834"/>
                </a:lnTo>
                <a:lnTo>
                  <a:pt x="1909" y="877"/>
                </a:lnTo>
                <a:lnTo>
                  <a:pt x="1935" y="919"/>
                </a:lnTo>
                <a:lnTo>
                  <a:pt x="1962" y="962"/>
                </a:lnTo>
                <a:lnTo>
                  <a:pt x="1988" y="1004"/>
                </a:lnTo>
                <a:lnTo>
                  <a:pt x="2020" y="1047"/>
                </a:lnTo>
                <a:lnTo>
                  <a:pt x="2047" y="1089"/>
                </a:lnTo>
                <a:lnTo>
                  <a:pt x="2073" y="1132"/>
                </a:lnTo>
                <a:lnTo>
                  <a:pt x="2100" y="1174"/>
                </a:lnTo>
                <a:lnTo>
                  <a:pt x="2127" y="1211"/>
                </a:lnTo>
                <a:lnTo>
                  <a:pt x="2159" y="1254"/>
                </a:lnTo>
                <a:lnTo>
                  <a:pt x="2185" y="1291"/>
                </a:lnTo>
                <a:lnTo>
                  <a:pt x="2212" y="1328"/>
                </a:lnTo>
                <a:lnTo>
                  <a:pt x="2238" y="1366"/>
                </a:lnTo>
                <a:lnTo>
                  <a:pt x="2265" y="1403"/>
                </a:lnTo>
                <a:lnTo>
                  <a:pt x="2297" y="1440"/>
                </a:lnTo>
                <a:lnTo>
                  <a:pt x="2323" y="1472"/>
                </a:lnTo>
                <a:lnTo>
                  <a:pt x="2350" y="1504"/>
                </a:lnTo>
                <a:lnTo>
                  <a:pt x="2376" y="1536"/>
                </a:lnTo>
                <a:lnTo>
                  <a:pt x="2403" y="1562"/>
                </a:lnTo>
                <a:lnTo>
                  <a:pt x="2435" y="1589"/>
                </a:lnTo>
                <a:lnTo>
                  <a:pt x="2462" y="1615"/>
                </a:lnTo>
                <a:lnTo>
                  <a:pt x="2488" y="1637"/>
                </a:lnTo>
                <a:lnTo>
                  <a:pt x="2515" y="1658"/>
                </a:lnTo>
                <a:lnTo>
                  <a:pt x="2541" y="1674"/>
                </a:lnTo>
                <a:lnTo>
                  <a:pt x="2573" y="1695"/>
                </a:lnTo>
                <a:lnTo>
                  <a:pt x="2600" y="1706"/>
                </a:lnTo>
                <a:lnTo>
                  <a:pt x="2626" y="1722"/>
                </a:lnTo>
                <a:lnTo>
                  <a:pt x="2653" y="1732"/>
                </a:lnTo>
                <a:lnTo>
                  <a:pt x="2679" y="1738"/>
                </a:lnTo>
                <a:lnTo>
                  <a:pt x="2711" y="1743"/>
                </a:lnTo>
                <a:lnTo>
                  <a:pt x="2738" y="1748"/>
                </a:lnTo>
                <a:lnTo>
                  <a:pt x="2764" y="174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endCxn id="1779" idx="0"/>
          </p:cNvCxnSpPr>
          <p:nvPr/>
        </p:nvCxnSpPr>
        <p:spPr>
          <a:xfrm flipV="1" rot="16200000">
            <a:off x="7373520" y="4012560"/>
            <a:ext cx="854640" cy="181800"/>
          </a:xfrm>
          <a:prstGeom prst="curvedConnector5">
            <a:avLst>
              <a:gd name="adj1" fmla="val 27096"/>
              <a:gd name="adj2" fmla="val 50000"/>
              <a:gd name="adj3" fmla="val 27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43800" y="4530600"/>
                <a:ext cx="693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2" name=""/>
          <p:cNvGrpSpPr/>
          <p:nvPr/>
        </p:nvGrpSpPr>
        <p:grpSpPr>
          <a:xfrm>
            <a:off x="5872320" y="1447920"/>
            <a:ext cx="1104840" cy="1646280"/>
            <a:chOff x="5872320" y="1447920"/>
            <a:chExt cx="1104840" cy="1646280"/>
          </a:xfrm>
        </p:grpSpPr>
        <mc:AlternateContent>
          <mc:Choice xmlns:a14="http://schemas.microsoft.com/office/drawing/2010/main" Requires="a14">
            <p:sp>
              <p:nvSpPr>
                <p:cNvPr id="1783" name=""/>
                <p:cNvSpPr txBox="1"/>
                <p:nvPr/>
              </p:nvSpPr>
              <p:spPr>
                <a:xfrm>
                  <a:off x="6434280" y="2724120"/>
                  <a:ext cx="504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5872320" y="2730600"/>
                  <a:ext cx="504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 flipV="1">
              <a:off x="6270840" y="1523880"/>
              <a:ext cx="258480" cy="26208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6" name=""/>
            <p:cNvGrpSpPr/>
            <p:nvPr/>
          </p:nvGrpSpPr>
          <p:grpSpPr>
            <a:xfrm>
              <a:off x="6062760" y="1771200"/>
              <a:ext cx="678960" cy="941400"/>
              <a:chOff x="6062760" y="1771200"/>
              <a:chExt cx="678960" cy="941400"/>
            </a:xfrm>
          </p:grpSpPr>
          <p:sp>
            <p:nvSpPr>
              <p:cNvPr id="1787" name=""/>
              <p:cNvSpPr/>
              <p:nvPr/>
            </p:nvSpPr>
            <p:spPr>
              <a:xfrm flipV="1">
                <a:off x="6062760" y="177120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6450840" y="177120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6977160" y="144792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0" name=""/>
                <p:cNvSpPr txBox="1"/>
                <p:nvPr/>
              </p:nvSpPr>
              <p:spPr>
                <a:xfrm>
                  <a:off x="6624720" y="2019240"/>
                  <a:ext cx="2300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1" name=""/>
                <p:cNvSpPr txBox="1"/>
                <p:nvPr/>
              </p:nvSpPr>
              <p:spPr>
                <a:xfrm>
                  <a:off x="5938920" y="201924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2" name=""/>
              <p:cNvSpPr txBox="1"/>
              <p:nvPr/>
            </p:nvSpPr>
            <p:spPr>
              <a:xfrm>
                <a:off x="3271680" y="2724120"/>
                <a:ext cx="505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3" name=""/>
              <p:cNvSpPr txBox="1"/>
              <p:nvPr/>
            </p:nvSpPr>
            <p:spPr>
              <a:xfrm>
                <a:off x="2709720" y="2730600"/>
                <a:ext cx="505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94" name=""/>
          <p:cNvGrpSpPr/>
          <p:nvPr/>
        </p:nvGrpSpPr>
        <p:grpSpPr>
          <a:xfrm>
            <a:off x="2681280" y="1285920"/>
            <a:ext cx="1063800" cy="1725480"/>
            <a:chOff x="2681280" y="1285920"/>
            <a:chExt cx="1063800" cy="1725480"/>
          </a:xfrm>
        </p:grpSpPr>
        <p:sp>
          <p:nvSpPr>
            <p:cNvPr id="1795" name=""/>
            <p:cNvSpPr/>
            <p:nvPr/>
          </p:nvSpPr>
          <p:spPr>
            <a:xfrm>
              <a:off x="2681280" y="143820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108240" y="1523880"/>
              <a:ext cx="258840" cy="26208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7" name=""/>
            <p:cNvGrpSpPr/>
            <p:nvPr/>
          </p:nvGrpSpPr>
          <p:grpSpPr>
            <a:xfrm>
              <a:off x="2900520" y="1771200"/>
              <a:ext cx="678960" cy="941400"/>
              <a:chOff x="2900520" y="1771200"/>
              <a:chExt cx="678960" cy="941400"/>
            </a:xfrm>
          </p:grpSpPr>
          <p:sp>
            <p:nvSpPr>
              <p:cNvPr id="1798" name=""/>
              <p:cNvSpPr/>
              <p:nvPr/>
            </p:nvSpPr>
            <p:spPr>
              <a:xfrm flipV="1">
                <a:off x="2900520" y="177120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3288600" y="177120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00" name=""/>
                <p:cNvSpPr txBox="1"/>
                <p:nvPr/>
              </p:nvSpPr>
              <p:spPr>
                <a:xfrm>
                  <a:off x="3379680" y="1285920"/>
                  <a:ext cx="3654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1" name=""/>
                <p:cNvSpPr txBox="1"/>
                <p:nvPr/>
              </p:nvSpPr>
              <p:spPr>
                <a:xfrm>
                  <a:off x="3451320" y="2019240"/>
                  <a:ext cx="2300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2" name=""/>
                <p:cNvSpPr txBox="1"/>
                <p:nvPr/>
              </p:nvSpPr>
              <p:spPr>
                <a:xfrm>
                  <a:off x="2766960" y="201924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4771-CD46-4D39-8584-E3E99C12E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1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343080" y="1295280"/>
            <a:ext cx="480060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01924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152960" y="18381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Motion compensated lifting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6840" y="3809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C warped lifting steps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form is applied along motion traject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vided trajectories exist (motion model is inverti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rictly true only for spatially continuous frames          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(Secker &amp; Taub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822320" y="2768760"/>
            <a:ext cx="258840" cy="26172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238400" y="289080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0" name=""/>
              <p:cNvSpPr txBox="1"/>
              <p:nvPr/>
            </p:nvSpPr>
            <p:spPr>
              <a:xfrm>
                <a:off x="2230560" y="2392200"/>
                <a:ext cx="230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1" name=""/>
              <p:cNvSpPr txBox="1"/>
              <p:nvPr/>
            </p:nvSpPr>
            <p:spPr>
              <a:xfrm>
                <a:off x="1392120" y="23922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1419120" y="2895480"/>
                <a:ext cx="501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3" name=""/>
              <p:cNvSpPr txBox="1"/>
              <p:nvPr/>
            </p:nvSpPr>
            <p:spPr>
              <a:xfrm>
                <a:off x="1324080" y="14778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143080" y="147780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285120" y="159228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ve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00240" y="2657520"/>
            <a:ext cx="801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239840" y="18399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2173320" y="2898720"/>
                <a:ext cx="506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9" name=""/>
          <p:cNvSpPr/>
          <p:nvPr/>
        </p:nvSpPr>
        <p:spPr>
          <a:xfrm>
            <a:off x="2992320" y="1620720"/>
            <a:ext cx="0" cy="157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3922560" y="1706400"/>
            <a:ext cx="25884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4276800" y="2898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3328920" y="29131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4329000" y="1468440"/>
                <a:ext cx="3654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4365720" y="2009880"/>
                <a:ext cx="131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618000" y="1995480"/>
                <a:ext cx="131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26" name=""/>
          <p:cNvGrpSpPr/>
          <p:nvPr/>
        </p:nvGrpSpPr>
        <p:grpSpPr>
          <a:xfrm>
            <a:off x="3573360" y="1957320"/>
            <a:ext cx="954000" cy="939960"/>
            <a:chOff x="3573360" y="1957320"/>
            <a:chExt cx="954000" cy="939960"/>
          </a:xfrm>
        </p:grpSpPr>
        <p:sp>
          <p:nvSpPr>
            <p:cNvPr id="1827" name=""/>
            <p:cNvSpPr/>
            <p:nvPr/>
          </p:nvSpPr>
          <p:spPr>
            <a:xfrm>
              <a:off x="3573360" y="1957320"/>
              <a:ext cx="405720" cy="938160"/>
            </a:xfrm>
            <a:custGeom>
              <a:avLst/>
              <a:gdLst/>
              <a:ahLst/>
              <a:rect l="l" t="t" r="r" b="b"/>
              <a:pathLst>
                <a:path w="182" h="591">
                  <a:moveTo>
                    <a:pt x="0" y="591"/>
                  </a:moveTo>
                  <a:cubicBezTo>
                    <a:pt x="30" y="549"/>
                    <a:pt x="60" y="507"/>
                    <a:pt x="72" y="447"/>
                  </a:cubicBezTo>
                  <a:cubicBezTo>
                    <a:pt x="84" y="387"/>
                    <a:pt x="57" y="292"/>
                    <a:pt x="72" y="231"/>
                  </a:cubicBezTo>
                  <a:cubicBezTo>
                    <a:pt x="87" y="170"/>
                    <a:pt x="145" y="120"/>
                    <a:pt x="163" y="82"/>
                  </a:cubicBezTo>
                  <a:cubicBezTo>
                    <a:pt x="181" y="44"/>
                    <a:pt x="181" y="22"/>
                    <a:pt x="1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22000" y="1958760"/>
              <a:ext cx="405360" cy="938520"/>
            </a:xfrm>
            <a:custGeom>
              <a:avLst/>
              <a:gdLst/>
              <a:ahLst/>
              <a:rect l="l" t="t" r="r" b="b"/>
              <a:pathLst>
                <a:path w="182" h="591">
                  <a:moveTo>
                    <a:pt x="0" y="591"/>
                  </a:moveTo>
                  <a:cubicBezTo>
                    <a:pt x="30" y="549"/>
                    <a:pt x="60" y="507"/>
                    <a:pt x="72" y="447"/>
                  </a:cubicBezTo>
                  <a:cubicBezTo>
                    <a:pt x="84" y="387"/>
                    <a:pt x="57" y="292"/>
                    <a:pt x="72" y="231"/>
                  </a:cubicBezTo>
                  <a:cubicBezTo>
                    <a:pt x="87" y="170"/>
                    <a:pt x="145" y="120"/>
                    <a:pt x="163" y="82"/>
                  </a:cubicBezTo>
                  <a:cubicBezTo>
                    <a:pt x="181" y="44"/>
                    <a:pt x="181" y="22"/>
                    <a:pt x="1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9" name=""/>
          <p:cNvSpPr txBox="1"/>
          <p:nvPr/>
        </p:nvSpPr>
        <p:spPr>
          <a:xfrm>
            <a:off x="4386240" y="2338560"/>
            <a:ext cx="4809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C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warp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3220920" y="2347920"/>
            <a:ext cx="4809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C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warp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1476360" y="1846800"/>
            <a:ext cx="953640" cy="939240"/>
            <a:chOff x="1476360" y="1846800"/>
            <a:chExt cx="953640" cy="939240"/>
          </a:xfrm>
        </p:grpSpPr>
        <p:sp>
          <p:nvSpPr>
            <p:cNvPr id="1832" name=""/>
            <p:cNvSpPr/>
            <p:nvPr/>
          </p:nvSpPr>
          <p:spPr>
            <a:xfrm flipV="1">
              <a:off x="1476360" y="1847880"/>
              <a:ext cx="405720" cy="937800"/>
            </a:xfrm>
            <a:custGeom>
              <a:avLst/>
              <a:gdLst/>
              <a:ahLst/>
              <a:rect l="l" t="t" r="r" b="b"/>
              <a:pathLst>
                <a:path w="182" h="591">
                  <a:moveTo>
                    <a:pt x="0" y="591"/>
                  </a:moveTo>
                  <a:cubicBezTo>
                    <a:pt x="30" y="549"/>
                    <a:pt x="60" y="507"/>
                    <a:pt x="72" y="447"/>
                  </a:cubicBezTo>
                  <a:cubicBezTo>
                    <a:pt x="84" y="387"/>
                    <a:pt x="57" y="292"/>
                    <a:pt x="72" y="231"/>
                  </a:cubicBezTo>
                  <a:cubicBezTo>
                    <a:pt x="87" y="170"/>
                    <a:pt x="145" y="120"/>
                    <a:pt x="163" y="82"/>
                  </a:cubicBezTo>
                  <a:cubicBezTo>
                    <a:pt x="181" y="44"/>
                    <a:pt x="181" y="22"/>
                    <a:pt x="1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 flipV="1">
              <a:off x="2024640" y="1846800"/>
              <a:ext cx="405360" cy="938160"/>
            </a:xfrm>
            <a:custGeom>
              <a:avLst/>
              <a:gdLst/>
              <a:ahLst/>
              <a:rect l="l" t="t" r="r" b="b"/>
              <a:pathLst>
                <a:path w="182" h="591">
                  <a:moveTo>
                    <a:pt x="0" y="591"/>
                  </a:moveTo>
                  <a:cubicBezTo>
                    <a:pt x="30" y="549"/>
                    <a:pt x="60" y="507"/>
                    <a:pt x="72" y="447"/>
                  </a:cubicBezTo>
                  <a:cubicBezTo>
                    <a:pt x="84" y="387"/>
                    <a:pt x="57" y="292"/>
                    <a:pt x="72" y="231"/>
                  </a:cubicBezTo>
                  <a:cubicBezTo>
                    <a:pt x="87" y="170"/>
                    <a:pt x="145" y="120"/>
                    <a:pt x="163" y="82"/>
                  </a:cubicBezTo>
                  <a:cubicBezTo>
                    <a:pt x="181" y="44"/>
                    <a:pt x="181" y="22"/>
                    <a:pt x="1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 txBox="1"/>
          <p:nvPr/>
        </p:nvSpPr>
        <p:spPr>
          <a:xfrm>
            <a:off x="2290680" y="1922400"/>
            <a:ext cx="4809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C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warp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1123920" y="1920960"/>
            <a:ext cx="4809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MC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warp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24600" y="121932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tion compensate each lifting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nsform remains rever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posed in 200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Pesquet-Popescu &amp; Bottr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Secker &amp; Taub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Luo, Li, Li, Zhuang, Zha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873080" y="4896000"/>
            <a:ext cx="1295640" cy="1110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457440" y="5027760"/>
            <a:ext cx="1297080" cy="111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rot="19691400">
            <a:off x="3862440" y="5239800"/>
            <a:ext cx="4888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rot="19691400">
            <a:off x="3854520" y="5490720"/>
            <a:ext cx="82440" cy="6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rot="19691400">
            <a:off x="4268520" y="5253120"/>
            <a:ext cx="82440" cy="60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rot="19691400">
            <a:off x="4129200" y="5491080"/>
            <a:ext cx="81000" cy="60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rot="19691400">
            <a:off x="3981600" y="5235480"/>
            <a:ext cx="82440" cy="60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041800" y="5156280"/>
            <a:ext cx="1297080" cy="111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rot="20008200">
            <a:off x="5284800" y="5600520"/>
            <a:ext cx="890640" cy="442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rot="20008200">
            <a:off x="5597640" y="5584680"/>
            <a:ext cx="824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rot="20008200">
            <a:off x="6084720" y="5589360"/>
            <a:ext cx="82800" cy="745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rot="20008200">
            <a:off x="5802480" y="5972040"/>
            <a:ext cx="806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rot="20008200">
            <a:off x="5288040" y="5987520"/>
            <a:ext cx="82440" cy="748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626160" y="5288040"/>
            <a:ext cx="1295640" cy="111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74000" y="5618160"/>
            <a:ext cx="730080" cy="666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399440" y="5580000"/>
            <a:ext cx="8100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756560" y="5948280"/>
            <a:ext cx="824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380360" y="6253200"/>
            <a:ext cx="824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029360" y="5913360"/>
            <a:ext cx="82800" cy="745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311560" y="4978440"/>
            <a:ext cx="6045120" cy="718920"/>
          </a:xfrm>
          <a:custGeom>
            <a:avLst/>
            <a:gdLst/>
            <a:ahLst/>
            <a:rect l="l" t="t" r="r" b="b"/>
            <a:pathLst>
              <a:path w="3808" h="499">
                <a:moveTo>
                  <a:pt x="0" y="0"/>
                </a:moveTo>
                <a:cubicBezTo>
                  <a:pt x="430" y="71"/>
                  <a:pt x="860" y="143"/>
                  <a:pt x="1262" y="220"/>
                </a:cubicBezTo>
                <a:cubicBezTo>
                  <a:pt x="1664" y="297"/>
                  <a:pt x="2086" y="425"/>
                  <a:pt x="2414" y="462"/>
                </a:cubicBezTo>
                <a:cubicBezTo>
                  <a:pt x="2742" y="499"/>
                  <a:pt x="3000" y="471"/>
                  <a:pt x="3232" y="444"/>
                </a:cubicBezTo>
                <a:cubicBezTo>
                  <a:pt x="3464" y="417"/>
                  <a:pt x="3636" y="357"/>
                  <a:pt x="3808" y="29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674800" y="5342040"/>
            <a:ext cx="6088320" cy="785880"/>
          </a:xfrm>
          <a:custGeom>
            <a:avLst/>
            <a:gdLst/>
            <a:ahLst/>
            <a:rect l="l" t="t" r="r" b="b"/>
            <a:pathLst>
              <a:path w="3835" h="546">
                <a:moveTo>
                  <a:pt x="0" y="0"/>
                </a:moveTo>
                <a:cubicBezTo>
                  <a:pt x="97" y="4"/>
                  <a:pt x="427" y="6"/>
                  <a:pt x="585" y="27"/>
                </a:cubicBezTo>
                <a:cubicBezTo>
                  <a:pt x="743" y="48"/>
                  <a:pt x="811" y="80"/>
                  <a:pt x="950" y="128"/>
                </a:cubicBezTo>
                <a:cubicBezTo>
                  <a:pt x="1089" y="176"/>
                  <a:pt x="1242" y="259"/>
                  <a:pt x="1417" y="315"/>
                </a:cubicBezTo>
                <a:cubicBezTo>
                  <a:pt x="1592" y="371"/>
                  <a:pt x="1837" y="429"/>
                  <a:pt x="2002" y="466"/>
                </a:cubicBezTo>
                <a:cubicBezTo>
                  <a:pt x="2167" y="503"/>
                  <a:pt x="2266" y="524"/>
                  <a:pt x="2409" y="535"/>
                </a:cubicBezTo>
                <a:cubicBezTo>
                  <a:pt x="2552" y="546"/>
                  <a:pt x="2725" y="545"/>
                  <a:pt x="2861" y="530"/>
                </a:cubicBezTo>
                <a:cubicBezTo>
                  <a:pt x="2997" y="515"/>
                  <a:pt x="3065" y="495"/>
                  <a:pt x="3227" y="448"/>
                </a:cubicBezTo>
                <a:cubicBezTo>
                  <a:pt x="3389" y="401"/>
                  <a:pt x="3708" y="289"/>
                  <a:pt x="3835" y="24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97160" y="5452920"/>
            <a:ext cx="6211800" cy="838440"/>
          </a:xfrm>
          <a:custGeom>
            <a:avLst/>
            <a:gdLst/>
            <a:ahLst/>
            <a:rect l="l" t="t" r="r" b="b"/>
            <a:pathLst>
              <a:path w="3913" h="582">
                <a:moveTo>
                  <a:pt x="0" y="133"/>
                </a:moveTo>
                <a:cubicBezTo>
                  <a:pt x="344" y="66"/>
                  <a:pt x="688" y="0"/>
                  <a:pt x="1006" y="42"/>
                </a:cubicBezTo>
                <a:cubicBezTo>
                  <a:pt x="1324" y="84"/>
                  <a:pt x="1637" y="301"/>
                  <a:pt x="1906" y="385"/>
                </a:cubicBezTo>
                <a:cubicBezTo>
                  <a:pt x="2175" y="469"/>
                  <a:pt x="2398" y="516"/>
                  <a:pt x="2619" y="549"/>
                </a:cubicBezTo>
                <a:cubicBezTo>
                  <a:pt x="2840" y="582"/>
                  <a:pt x="3016" y="581"/>
                  <a:pt x="3232" y="581"/>
                </a:cubicBezTo>
                <a:cubicBezTo>
                  <a:pt x="3448" y="581"/>
                  <a:pt x="3771" y="556"/>
                  <a:pt x="3913" y="54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947960" y="5189400"/>
            <a:ext cx="6095880" cy="798480"/>
          </a:xfrm>
          <a:custGeom>
            <a:avLst/>
            <a:gdLst/>
            <a:ahLst/>
            <a:rect l="l" t="t" r="r" b="b"/>
            <a:pathLst>
              <a:path w="3840" h="554">
                <a:moveTo>
                  <a:pt x="0" y="77"/>
                </a:moveTo>
                <a:cubicBezTo>
                  <a:pt x="78" y="65"/>
                  <a:pt x="250" y="8"/>
                  <a:pt x="467" y="4"/>
                </a:cubicBezTo>
                <a:cubicBezTo>
                  <a:pt x="684" y="0"/>
                  <a:pt x="994" y="6"/>
                  <a:pt x="1303" y="55"/>
                </a:cubicBezTo>
                <a:cubicBezTo>
                  <a:pt x="1612" y="104"/>
                  <a:pt x="2002" y="222"/>
                  <a:pt x="2323" y="301"/>
                </a:cubicBezTo>
                <a:cubicBezTo>
                  <a:pt x="2644" y="380"/>
                  <a:pt x="2975" y="506"/>
                  <a:pt x="3228" y="530"/>
                </a:cubicBezTo>
                <a:cubicBezTo>
                  <a:pt x="3481" y="554"/>
                  <a:pt x="3713" y="461"/>
                  <a:pt x="3840" y="4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52640" y="4971960"/>
            <a:ext cx="730080" cy="6638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278080" y="4933800"/>
            <a:ext cx="824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637000" y="5300640"/>
            <a:ext cx="8244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260440" y="5603760"/>
            <a:ext cx="82800" cy="7308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908000" y="5265720"/>
            <a:ext cx="82800" cy="745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E1A2-C524-4E92-A9F8-D42CED2F5A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343080" y="1676520"/>
            <a:ext cx="331452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ther temporal lifting transform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timal update step for 5/3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(Girod, Han, Chang, PCS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7/5 transform with 3 temporal lifting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20920" y="3095640"/>
            <a:ext cx="258480" cy="26208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838080" y="3222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098720" y="2168640"/>
            <a:ext cx="38880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1617840" y="2168640"/>
            <a:ext cx="38880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1917720" y="2430360"/>
                <a:ext cx="230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947880" y="243036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1295280" y="3294000"/>
                <a:ext cx="5018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922320" y="180504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1741320" y="1805040"/>
                <a:ext cx="525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838080" y="216684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333520" y="1947960"/>
            <a:ext cx="0" cy="157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760840" y="2032920"/>
            <a:ext cx="258480" cy="261720"/>
          </a:xfrm>
          <a:prstGeom prst="flowChar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2552760" y="2280960"/>
            <a:ext cx="678960" cy="941400"/>
            <a:chOff x="2552760" y="2280960"/>
            <a:chExt cx="678960" cy="941400"/>
          </a:xfrm>
        </p:grpSpPr>
        <p:sp>
          <p:nvSpPr>
            <p:cNvPr id="1881" name=""/>
            <p:cNvSpPr/>
            <p:nvPr/>
          </p:nvSpPr>
          <p:spPr>
            <a:xfrm flipV="1">
              <a:off x="2552760" y="2280960"/>
              <a:ext cx="29088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 flipV="1">
              <a:off x="2940840" y="2280960"/>
              <a:ext cx="29088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2924280" y="3233880"/>
                <a:ext cx="5047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4" name=""/>
              <p:cNvSpPr txBox="1"/>
              <p:nvPr/>
            </p:nvSpPr>
            <p:spPr>
              <a:xfrm>
                <a:off x="2362320" y="324000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3143160" y="2529000"/>
                <a:ext cx="230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2411280" y="25290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2711520" y="1703520"/>
                <a:ext cx="3636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306360" y="1879560"/>
            <a:ext cx="62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57120" y="2963880"/>
            <a:ext cx="51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191760" y="1847880"/>
            <a:ext cx="485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153600" y="2932200"/>
            <a:ext cx="564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4538160" y="2184480"/>
            <a:ext cx="2092320" cy="1491840"/>
            <a:chOff x="4538160" y="2184480"/>
            <a:chExt cx="2092320" cy="1491840"/>
          </a:xfrm>
        </p:grpSpPr>
        <p:sp>
          <p:nvSpPr>
            <p:cNvPr id="1893" name=""/>
            <p:cNvSpPr/>
            <p:nvPr/>
          </p:nvSpPr>
          <p:spPr>
            <a:xfrm flipV="1">
              <a:off x="4647960" y="2226960"/>
              <a:ext cx="720" cy="126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47960" y="2226960"/>
              <a:ext cx="1906200" cy="1267920"/>
            </a:xfrm>
            <a:custGeom>
              <a:avLst/>
              <a:gdLst/>
              <a:ahLst/>
              <a:rect l="l" t="t" r="r" b="b"/>
              <a:pathLst>
                <a:path w="520" h="410">
                  <a:moveTo>
                    <a:pt x="0" y="410"/>
                  </a:moveTo>
                  <a:lnTo>
                    <a:pt x="520" y="410"/>
                  </a:lnTo>
                  <a:lnTo>
                    <a:pt x="5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4647240" y="2184480"/>
              <a:ext cx="1906200" cy="1302480"/>
            </a:xfrm>
            <a:custGeom>
              <a:avLst/>
              <a:gdLst/>
              <a:ahLst/>
              <a:rect l="l" t="t" r="r" b="b"/>
              <a:pathLst>
                <a:path w="3021" h="1932">
                  <a:moveTo>
                    <a:pt x="0" y="243"/>
                  </a:moveTo>
                  <a:lnTo>
                    <a:pt x="29" y="243"/>
                  </a:lnTo>
                  <a:lnTo>
                    <a:pt x="58" y="243"/>
                  </a:lnTo>
                  <a:lnTo>
                    <a:pt x="93" y="237"/>
                  </a:lnTo>
                  <a:lnTo>
                    <a:pt x="122" y="237"/>
                  </a:lnTo>
                  <a:lnTo>
                    <a:pt x="151" y="232"/>
                  </a:lnTo>
                  <a:lnTo>
                    <a:pt x="180" y="226"/>
                  </a:lnTo>
                  <a:lnTo>
                    <a:pt x="209" y="220"/>
                  </a:lnTo>
                  <a:lnTo>
                    <a:pt x="244" y="214"/>
                  </a:lnTo>
                  <a:lnTo>
                    <a:pt x="273" y="208"/>
                  </a:lnTo>
                  <a:lnTo>
                    <a:pt x="302" y="197"/>
                  </a:lnTo>
                  <a:lnTo>
                    <a:pt x="331" y="191"/>
                  </a:lnTo>
                  <a:lnTo>
                    <a:pt x="360" y="179"/>
                  </a:lnTo>
                  <a:lnTo>
                    <a:pt x="395" y="174"/>
                  </a:lnTo>
                  <a:lnTo>
                    <a:pt x="424" y="162"/>
                  </a:lnTo>
                  <a:lnTo>
                    <a:pt x="453" y="150"/>
                  </a:lnTo>
                  <a:lnTo>
                    <a:pt x="482" y="139"/>
                  </a:lnTo>
                  <a:lnTo>
                    <a:pt x="511" y="127"/>
                  </a:lnTo>
                  <a:lnTo>
                    <a:pt x="546" y="116"/>
                  </a:lnTo>
                  <a:lnTo>
                    <a:pt x="575" y="104"/>
                  </a:lnTo>
                  <a:lnTo>
                    <a:pt x="604" y="92"/>
                  </a:lnTo>
                  <a:lnTo>
                    <a:pt x="633" y="81"/>
                  </a:lnTo>
                  <a:lnTo>
                    <a:pt x="662" y="75"/>
                  </a:lnTo>
                  <a:lnTo>
                    <a:pt x="697" y="63"/>
                  </a:lnTo>
                  <a:lnTo>
                    <a:pt x="726" y="52"/>
                  </a:lnTo>
                  <a:lnTo>
                    <a:pt x="755" y="40"/>
                  </a:lnTo>
                  <a:lnTo>
                    <a:pt x="784" y="34"/>
                  </a:lnTo>
                  <a:lnTo>
                    <a:pt x="813" y="29"/>
                  </a:lnTo>
                  <a:lnTo>
                    <a:pt x="848" y="17"/>
                  </a:lnTo>
                  <a:lnTo>
                    <a:pt x="877" y="11"/>
                  </a:lnTo>
                  <a:lnTo>
                    <a:pt x="906" y="11"/>
                  </a:lnTo>
                  <a:lnTo>
                    <a:pt x="935" y="5"/>
                  </a:lnTo>
                  <a:lnTo>
                    <a:pt x="964" y="5"/>
                  </a:lnTo>
                  <a:lnTo>
                    <a:pt x="999" y="0"/>
                  </a:lnTo>
                  <a:lnTo>
                    <a:pt x="1028" y="0"/>
                  </a:lnTo>
                  <a:lnTo>
                    <a:pt x="1057" y="5"/>
                  </a:lnTo>
                  <a:lnTo>
                    <a:pt x="1086" y="5"/>
                  </a:lnTo>
                  <a:lnTo>
                    <a:pt x="1115" y="11"/>
                  </a:lnTo>
                  <a:lnTo>
                    <a:pt x="1150" y="17"/>
                  </a:lnTo>
                  <a:lnTo>
                    <a:pt x="1179" y="29"/>
                  </a:lnTo>
                  <a:lnTo>
                    <a:pt x="1208" y="34"/>
                  </a:lnTo>
                  <a:lnTo>
                    <a:pt x="1237" y="46"/>
                  </a:lnTo>
                  <a:lnTo>
                    <a:pt x="1266" y="63"/>
                  </a:lnTo>
                  <a:lnTo>
                    <a:pt x="1301" y="81"/>
                  </a:lnTo>
                  <a:lnTo>
                    <a:pt x="1330" y="98"/>
                  </a:lnTo>
                  <a:lnTo>
                    <a:pt x="1359" y="116"/>
                  </a:lnTo>
                  <a:lnTo>
                    <a:pt x="1388" y="139"/>
                  </a:lnTo>
                  <a:lnTo>
                    <a:pt x="1417" y="162"/>
                  </a:lnTo>
                  <a:lnTo>
                    <a:pt x="1452" y="185"/>
                  </a:lnTo>
                  <a:lnTo>
                    <a:pt x="1481" y="214"/>
                  </a:lnTo>
                  <a:lnTo>
                    <a:pt x="1510" y="243"/>
                  </a:lnTo>
                  <a:lnTo>
                    <a:pt x="1539" y="278"/>
                  </a:lnTo>
                  <a:lnTo>
                    <a:pt x="1569" y="307"/>
                  </a:lnTo>
                  <a:lnTo>
                    <a:pt x="1603" y="342"/>
                  </a:lnTo>
                  <a:lnTo>
                    <a:pt x="1632" y="382"/>
                  </a:lnTo>
                  <a:lnTo>
                    <a:pt x="1662" y="417"/>
                  </a:lnTo>
                  <a:lnTo>
                    <a:pt x="1691" y="458"/>
                  </a:lnTo>
                  <a:lnTo>
                    <a:pt x="1720" y="504"/>
                  </a:lnTo>
                  <a:lnTo>
                    <a:pt x="1754" y="545"/>
                  </a:lnTo>
                  <a:lnTo>
                    <a:pt x="1784" y="591"/>
                  </a:lnTo>
                  <a:lnTo>
                    <a:pt x="1813" y="638"/>
                  </a:lnTo>
                  <a:lnTo>
                    <a:pt x="1842" y="684"/>
                  </a:lnTo>
                  <a:lnTo>
                    <a:pt x="1871" y="731"/>
                  </a:lnTo>
                  <a:lnTo>
                    <a:pt x="1906" y="783"/>
                  </a:lnTo>
                  <a:lnTo>
                    <a:pt x="1935" y="835"/>
                  </a:lnTo>
                  <a:lnTo>
                    <a:pt x="1964" y="887"/>
                  </a:lnTo>
                  <a:lnTo>
                    <a:pt x="1993" y="939"/>
                  </a:lnTo>
                  <a:lnTo>
                    <a:pt x="2022" y="992"/>
                  </a:lnTo>
                  <a:lnTo>
                    <a:pt x="2057" y="1044"/>
                  </a:lnTo>
                  <a:lnTo>
                    <a:pt x="2086" y="1096"/>
                  </a:lnTo>
                  <a:lnTo>
                    <a:pt x="2115" y="1148"/>
                  </a:lnTo>
                  <a:lnTo>
                    <a:pt x="2144" y="1206"/>
                  </a:lnTo>
                  <a:lnTo>
                    <a:pt x="2173" y="1259"/>
                  </a:lnTo>
                  <a:lnTo>
                    <a:pt x="2208" y="1311"/>
                  </a:lnTo>
                  <a:lnTo>
                    <a:pt x="2237" y="1363"/>
                  </a:lnTo>
                  <a:lnTo>
                    <a:pt x="2266" y="1415"/>
                  </a:lnTo>
                  <a:lnTo>
                    <a:pt x="2295" y="1467"/>
                  </a:lnTo>
                  <a:lnTo>
                    <a:pt x="2324" y="1520"/>
                  </a:lnTo>
                  <a:lnTo>
                    <a:pt x="2359" y="1566"/>
                  </a:lnTo>
                  <a:lnTo>
                    <a:pt x="2388" y="1618"/>
                  </a:lnTo>
                  <a:lnTo>
                    <a:pt x="2417" y="1665"/>
                  </a:lnTo>
                  <a:lnTo>
                    <a:pt x="2446" y="1711"/>
                  </a:lnTo>
                  <a:lnTo>
                    <a:pt x="2475" y="1757"/>
                  </a:lnTo>
                  <a:lnTo>
                    <a:pt x="2510" y="1798"/>
                  </a:lnTo>
                  <a:lnTo>
                    <a:pt x="2539" y="1839"/>
                  </a:lnTo>
                  <a:lnTo>
                    <a:pt x="2568" y="1879"/>
                  </a:lnTo>
                  <a:lnTo>
                    <a:pt x="2597" y="1920"/>
                  </a:lnTo>
                  <a:lnTo>
                    <a:pt x="2626" y="1932"/>
                  </a:lnTo>
                  <a:lnTo>
                    <a:pt x="2661" y="1903"/>
                  </a:lnTo>
                  <a:lnTo>
                    <a:pt x="2690" y="1868"/>
                  </a:lnTo>
                  <a:lnTo>
                    <a:pt x="2719" y="1839"/>
                  </a:lnTo>
                  <a:lnTo>
                    <a:pt x="2748" y="1815"/>
                  </a:lnTo>
                  <a:lnTo>
                    <a:pt x="2777" y="1792"/>
                  </a:lnTo>
                  <a:lnTo>
                    <a:pt x="2812" y="1769"/>
                  </a:lnTo>
                  <a:lnTo>
                    <a:pt x="2841" y="1752"/>
                  </a:lnTo>
                  <a:lnTo>
                    <a:pt x="2870" y="1734"/>
                  </a:lnTo>
                  <a:lnTo>
                    <a:pt x="2899" y="1723"/>
                  </a:lnTo>
                  <a:lnTo>
                    <a:pt x="2928" y="1711"/>
                  </a:lnTo>
                  <a:lnTo>
                    <a:pt x="2963" y="1705"/>
                  </a:lnTo>
                  <a:lnTo>
                    <a:pt x="2992" y="1699"/>
                  </a:lnTo>
                  <a:lnTo>
                    <a:pt x="3021" y="169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647240" y="2347920"/>
              <a:ext cx="1906200" cy="1146960"/>
            </a:xfrm>
            <a:custGeom>
              <a:avLst/>
              <a:gdLst/>
              <a:ahLst/>
              <a:rect l="l" t="t" r="r" b="b"/>
              <a:pathLst>
                <a:path w="3021" h="1700">
                  <a:moveTo>
                    <a:pt x="0" y="1700"/>
                  </a:moveTo>
                  <a:lnTo>
                    <a:pt x="29" y="1700"/>
                  </a:lnTo>
                  <a:lnTo>
                    <a:pt x="58" y="1700"/>
                  </a:lnTo>
                  <a:lnTo>
                    <a:pt x="93" y="1694"/>
                  </a:lnTo>
                  <a:lnTo>
                    <a:pt x="122" y="1694"/>
                  </a:lnTo>
                  <a:lnTo>
                    <a:pt x="151" y="1689"/>
                  </a:lnTo>
                  <a:lnTo>
                    <a:pt x="180" y="1683"/>
                  </a:lnTo>
                  <a:lnTo>
                    <a:pt x="209" y="1677"/>
                  </a:lnTo>
                  <a:lnTo>
                    <a:pt x="244" y="1671"/>
                  </a:lnTo>
                  <a:lnTo>
                    <a:pt x="273" y="1665"/>
                  </a:lnTo>
                  <a:lnTo>
                    <a:pt x="302" y="1660"/>
                  </a:lnTo>
                  <a:lnTo>
                    <a:pt x="331" y="1648"/>
                  </a:lnTo>
                  <a:lnTo>
                    <a:pt x="360" y="1642"/>
                  </a:lnTo>
                  <a:lnTo>
                    <a:pt x="395" y="1630"/>
                  </a:lnTo>
                  <a:lnTo>
                    <a:pt x="424" y="1619"/>
                  </a:lnTo>
                  <a:lnTo>
                    <a:pt x="453" y="1607"/>
                  </a:lnTo>
                  <a:lnTo>
                    <a:pt x="482" y="1596"/>
                  </a:lnTo>
                  <a:lnTo>
                    <a:pt x="511" y="1584"/>
                  </a:lnTo>
                  <a:lnTo>
                    <a:pt x="546" y="1567"/>
                  </a:lnTo>
                  <a:lnTo>
                    <a:pt x="575" y="1555"/>
                  </a:lnTo>
                  <a:lnTo>
                    <a:pt x="604" y="1538"/>
                  </a:lnTo>
                  <a:lnTo>
                    <a:pt x="633" y="1520"/>
                  </a:lnTo>
                  <a:lnTo>
                    <a:pt x="662" y="1503"/>
                  </a:lnTo>
                  <a:lnTo>
                    <a:pt x="697" y="1485"/>
                  </a:lnTo>
                  <a:lnTo>
                    <a:pt x="726" y="1468"/>
                  </a:lnTo>
                  <a:lnTo>
                    <a:pt x="755" y="1451"/>
                  </a:lnTo>
                  <a:lnTo>
                    <a:pt x="784" y="1433"/>
                  </a:lnTo>
                  <a:lnTo>
                    <a:pt x="813" y="1410"/>
                  </a:lnTo>
                  <a:lnTo>
                    <a:pt x="848" y="1393"/>
                  </a:lnTo>
                  <a:lnTo>
                    <a:pt x="877" y="1369"/>
                  </a:lnTo>
                  <a:lnTo>
                    <a:pt x="906" y="1352"/>
                  </a:lnTo>
                  <a:lnTo>
                    <a:pt x="935" y="1329"/>
                  </a:lnTo>
                  <a:lnTo>
                    <a:pt x="964" y="1306"/>
                  </a:lnTo>
                  <a:lnTo>
                    <a:pt x="999" y="1282"/>
                  </a:lnTo>
                  <a:lnTo>
                    <a:pt x="1028" y="1259"/>
                  </a:lnTo>
                  <a:lnTo>
                    <a:pt x="1057" y="1236"/>
                  </a:lnTo>
                  <a:lnTo>
                    <a:pt x="1086" y="1213"/>
                  </a:lnTo>
                  <a:lnTo>
                    <a:pt x="1115" y="1190"/>
                  </a:lnTo>
                  <a:lnTo>
                    <a:pt x="1150" y="1161"/>
                  </a:lnTo>
                  <a:lnTo>
                    <a:pt x="1179" y="1137"/>
                  </a:lnTo>
                  <a:lnTo>
                    <a:pt x="1208" y="1114"/>
                  </a:lnTo>
                  <a:lnTo>
                    <a:pt x="1237" y="1085"/>
                  </a:lnTo>
                  <a:lnTo>
                    <a:pt x="1266" y="1062"/>
                  </a:lnTo>
                  <a:lnTo>
                    <a:pt x="1301" y="1039"/>
                  </a:lnTo>
                  <a:lnTo>
                    <a:pt x="1330" y="1010"/>
                  </a:lnTo>
                  <a:lnTo>
                    <a:pt x="1359" y="981"/>
                  </a:lnTo>
                  <a:lnTo>
                    <a:pt x="1388" y="958"/>
                  </a:lnTo>
                  <a:lnTo>
                    <a:pt x="1417" y="929"/>
                  </a:lnTo>
                  <a:lnTo>
                    <a:pt x="1452" y="905"/>
                  </a:lnTo>
                  <a:lnTo>
                    <a:pt x="1481" y="876"/>
                  </a:lnTo>
                  <a:lnTo>
                    <a:pt x="1510" y="853"/>
                  </a:lnTo>
                  <a:lnTo>
                    <a:pt x="1539" y="824"/>
                  </a:lnTo>
                  <a:lnTo>
                    <a:pt x="1569" y="795"/>
                  </a:lnTo>
                  <a:lnTo>
                    <a:pt x="1603" y="772"/>
                  </a:lnTo>
                  <a:lnTo>
                    <a:pt x="1632" y="743"/>
                  </a:lnTo>
                  <a:lnTo>
                    <a:pt x="1662" y="720"/>
                  </a:lnTo>
                  <a:lnTo>
                    <a:pt x="1691" y="691"/>
                  </a:lnTo>
                  <a:lnTo>
                    <a:pt x="1720" y="667"/>
                  </a:lnTo>
                  <a:lnTo>
                    <a:pt x="1754" y="638"/>
                  </a:lnTo>
                  <a:lnTo>
                    <a:pt x="1784" y="615"/>
                  </a:lnTo>
                  <a:lnTo>
                    <a:pt x="1813" y="586"/>
                  </a:lnTo>
                  <a:lnTo>
                    <a:pt x="1842" y="563"/>
                  </a:lnTo>
                  <a:lnTo>
                    <a:pt x="1871" y="540"/>
                  </a:lnTo>
                  <a:lnTo>
                    <a:pt x="1906" y="511"/>
                  </a:lnTo>
                  <a:lnTo>
                    <a:pt x="1935" y="488"/>
                  </a:lnTo>
                  <a:lnTo>
                    <a:pt x="1964" y="464"/>
                  </a:lnTo>
                  <a:lnTo>
                    <a:pt x="1993" y="441"/>
                  </a:lnTo>
                  <a:lnTo>
                    <a:pt x="2022" y="418"/>
                  </a:lnTo>
                  <a:lnTo>
                    <a:pt x="2057" y="395"/>
                  </a:lnTo>
                  <a:lnTo>
                    <a:pt x="2086" y="372"/>
                  </a:lnTo>
                  <a:lnTo>
                    <a:pt x="2115" y="354"/>
                  </a:lnTo>
                  <a:lnTo>
                    <a:pt x="2144" y="331"/>
                  </a:lnTo>
                  <a:lnTo>
                    <a:pt x="2173" y="308"/>
                  </a:lnTo>
                  <a:lnTo>
                    <a:pt x="2208" y="290"/>
                  </a:lnTo>
                  <a:lnTo>
                    <a:pt x="2237" y="267"/>
                  </a:lnTo>
                  <a:lnTo>
                    <a:pt x="2266" y="250"/>
                  </a:lnTo>
                  <a:lnTo>
                    <a:pt x="2295" y="232"/>
                  </a:lnTo>
                  <a:lnTo>
                    <a:pt x="2324" y="215"/>
                  </a:lnTo>
                  <a:lnTo>
                    <a:pt x="2359" y="198"/>
                  </a:lnTo>
                  <a:lnTo>
                    <a:pt x="2388" y="180"/>
                  </a:lnTo>
                  <a:lnTo>
                    <a:pt x="2417" y="163"/>
                  </a:lnTo>
                  <a:lnTo>
                    <a:pt x="2446" y="145"/>
                  </a:lnTo>
                  <a:lnTo>
                    <a:pt x="2475" y="134"/>
                  </a:lnTo>
                  <a:lnTo>
                    <a:pt x="2510" y="122"/>
                  </a:lnTo>
                  <a:lnTo>
                    <a:pt x="2539" y="105"/>
                  </a:lnTo>
                  <a:lnTo>
                    <a:pt x="2568" y="93"/>
                  </a:lnTo>
                  <a:lnTo>
                    <a:pt x="2597" y="81"/>
                  </a:lnTo>
                  <a:lnTo>
                    <a:pt x="2626" y="70"/>
                  </a:lnTo>
                  <a:lnTo>
                    <a:pt x="2661" y="58"/>
                  </a:lnTo>
                  <a:lnTo>
                    <a:pt x="2690" y="52"/>
                  </a:lnTo>
                  <a:lnTo>
                    <a:pt x="2719" y="41"/>
                  </a:lnTo>
                  <a:lnTo>
                    <a:pt x="2748" y="35"/>
                  </a:lnTo>
                  <a:lnTo>
                    <a:pt x="2777" y="29"/>
                  </a:lnTo>
                  <a:lnTo>
                    <a:pt x="2812" y="23"/>
                  </a:lnTo>
                  <a:lnTo>
                    <a:pt x="2841" y="18"/>
                  </a:lnTo>
                  <a:lnTo>
                    <a:pt x="2870" y="12"/>
                  </a:lnTo>
                  <a:lnTo>
                    <a:pt x="2899" y="6"/>
                  </a:lnTo>
                  <a:lnTo>
                    <a:pt x="2928" y="6"/>
                  </a:lnTo>
                  <a:lnTo>
                    <a:pt x="2963" y="0"/>
                  </a:lnTo>
                  <a:lnTo>
                    <a:pt x="2992" y="0"/>
                  </a:lnTo>
                  <a:lnTo>
                    <a:pt x="302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5640" y="350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43920" y="3404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538160" y="2266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0" name=""/>
                <p:cNvSpPr txBox="1"/>
                <p:nvPr/>
              </p:nvSpPr>
              <p:spPr>
                <a:xfrm>
                  <a:off x="6470640" y="3500640"/>
                  <a:ext cx="159840" cy="13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1" name=""/>
                <p:cNvSpPr txBox="1"/>
                <p:nvPr/>
              </p:nvSpPr>
              <p:spPr>
                <a:xfrm>
                  <a:off x="5494680" y="3506400"/>
                  <a:ext cx="174240" cy="13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2" name=""/>
                <p:cNvSpPr txBox="1"/>
                <p:nvPr/>
              </p:nvSpPr>
              <p:spPr>
                <a:xfrm>
                  <a:off x="4647960" y="2725560"/>
                  <a:ext cx="6544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ω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1903" name=""/>
            <p:cNvCxnSpPr>
              <a:endCxn id="1896" idx="0"/>
            </p:cNvCxnSpPr>
            <p:nvPr/>
          </p:nvCxnSpPr>
          <p:spPr>
            <a:xfrm flipH="1" flipV="1" rot="5400000">
              <a:off x="5006880" y="2538360"/>
              <a:ext cx="155160" cy="219240"/>
            </a:xfrm>
            <a:prstGeom prst="curvedConnector5">
              <a:avLst>
                <a:gd name="adj1" fmla="val 43023"/>
                <a:gd name="adj2" fmla="val 32894"/>
                <a:gd name="adj3" fmla="val 430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904" name=""/>
                <p:cNvSpPr txBox="1"/>
                <p:nvPr/>
              </p:nvSpPr>
              <p:spPr>
                <a:xfrm>
                  <a:off x="5986440" y="2574360"/>
                  <a:ext cx="4510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05" name=""/>
            <p:cNvCxnSpPr/>
            <p:nvPr/>
          </p:nvCxnSpPr>
          <p:spPr>
            <a:xfrm flipV="1" rot="16200000">
              <a:off x="5970240" y="2327040"/>
              <a:ext cx="351360" cy="127440"/>
            </a:xfrm>
            <a:prstGeom prst="curvedConnector5">
              <a:avLst>
                <a:gd name="adj1" fmla="val 42153"/>
                <a:gd name="adj2" fmla="val 49858"/>
                <a:gd name="adj3" fmla="val 421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06" name=""/>
          <p:cNvSpPr/>
          <p:nvPr/>
        </p:nvSpPr>
        <p:spPr>
          <a:xfrm>
            <a:off x="6889680" y="2152800"/>
            <a:ext cx="20098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energy g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0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0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 so ortho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277560" y="4419720"/>
            <a:ext cx="8698320" cy="1979640"/>
            <a:chOff x="277560" y="4419720"/>
            <a:chExt cx="8698320" cy="1979640"/>
          </a:xfrm>
        </p:grpSpPr>
        <p:sp>
          <p:nvSpPr>
            <p:cNvPr id="1908" name=""/>
            <p:cNvSpPr/>
            <p:nvPr/>
          </p:nvSpPr>
          <p:spPr>
            <a:xfrm>
              <a:off x="338040" y="4470480"/>
              <a:ext cx="3983040" cy="1904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38480" y="5823000"/>
              <a:ext cx="258480" cy="26172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57360" y="595476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1851120" y="4532400"/>
                  <a:ext cx="3636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2" name=""/>
                <p:cNvSpPr txBox="1"/>
                <p:nvPr/>
              </p:nvSpPr>
              <p:spPr>
                <a:xfrm>
                  <a:off x="2455920" y="4532400"/>
                  <a:ext cx="52524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13" name=""/>
            <p:cNvSpPr/>
            <p:nvPr/>
          </p:nvSpPr>
          <p:spPr>
            <a:xfrm>
              <a:off x="657360" y="4888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67120" y="467532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3417840" y="4760280"/>
              <a:ext cx="258840" cy="26172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3209760" y="5008320"/>
              <a:ext cx="679320" cy="941400"/>
              <a:chOff x="3209760" y="5008320"/>
              <a:chExt cx="679320" cy="941400"/>
            </a:xfrm>
          </p:grpSpPr>
          <p:sp>
            <p:nvSpPr>
              <p:cNvPr id="1917" name=""/>
              <p:cNvSpPr/>
              <p:nvPr/>
            </p:nvSpPr>
            <p:spPr>
              <a:xfrm flipV="1">
                <a:off x="3209760" y="5008320"/>
                <a:ext cx="29124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 flipV="1">
                <a:off x="3597840" y="5008320"/>
                <a:ext cx="29124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19" name=""/>
                <p:cNvSpPr txBox="1"/>
                <p:nvPr/>
              </p:nvSpPr>
              <p:spPr>
                <a:xfrm>
                  <a:off x="3581280" y="5961240"/>
                  <a:ext cx="5050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0" name=""/>
                <p:cNvSpPr txBox="1"/>
                <p:nvPr/>
              </p:nvSpPr>
              <p:spPr>
                <a:xfrm>
                  <a:off x="3019320" y="5967360"/>
                  <a:ext cx="505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921" name=""/>
            <p:cNvGrpSpPr/>
            <p:nvPr/>
          </p:nvGrpSpPr>
          <p:grpSpPr>
            <a:xfrm>
              <a:off x="2035080" y="4896000"/>
              <a:ext cx="679320" cy="941400"/>
              <a:chOff x="2035080" y="4896000"/>
              <a:chExt cx="679320" cy="941400"/>
            </a:xfrm>
          </p:grpSpPr>
          <p:sp>
            <p:nvSpPr>
              <p:cNvPr id="1922" name=""/>
              <p:cNvSpPr/>
              <p:nvPr/>
            </p:nvSpPr>
            <p:spPr>
              <a:xfrm>
                <a:off x="2035080" y="4896000"/>
                <a:ext cx="29124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2423160" y="4896000"/>
                <a:ext cx="29124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4" name=""/>
            <p:cNvSpPr/>
            <p:nvPr/>
          </p:nvSpPr>
          <p:spPr>
            <a:xfrm flipV="1">
              <a:off x="979560" y="4759200"/>
              <a:ext cx="258840" cy="262080"/>
            </a:xfrm>
            <a:prstGeom prst="flowChartOr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771480" y="5006520"/>
              <a:ext cx="678960" cy="941400"/>
              <a:chOff x="771480" y="5006520"/>
              <a:chExt cx="678960" cy="941400"/>
            </a:xfrm>
          </p:grpSpPr>
          <p:sp>
            <p:nvSpPr>
              <p:cNvPr id="1926" name=""/>
              <p:cNvSpPr/>
              <p:nvPr/>
            </p:nvSpPr>
            <p:spPr>
              <a:xfrm flipV="1">
                <a:off x="771480" y="500652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1159560" y="5006520"/>
                <a:ext cx="29088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28" name=""/>
                <p:cNvSpPr txBox="1"/>
                <p:nvPr/>
              </p:nvSpPr>
              <p:spPr>
                <a:xfrm>
                  <a:off x="1143000" y="5959440"/>
                  <a:ext cx="504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9" name=""/>
                <p:cNvSpPr txBox="1"/>
                <p:nvPr/>
              </p:nvSpPr>
              <p:spPr>
                <a:xfrm>
                  <a:off x="581040" y="5965920"/>
                  <a:ext cx="5047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30" name=""/>
            <p:cNvSpPr/>
            <p:nvPr/>
          </p:nvSpPr>
          <p:spPr>
            <a:xfrm>
              <a:off x="1832040" y="4675320"/>
              <a:ext cx="0" cy="157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2120760" y="6035760"/>
                  <a:ext cx="50508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2" name=""/>
                <p:cNvSpPr txBox="1"/>
                <p:nvPr/>
              </p:nvSpPr>
              <p:spPr>
                <a:xfrm>
                  <a:off x="925560" y="4419720"/>
                  <a:ext cx="3636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3" name=""/>
                <p:cNvSpPr txBox="1"/>
                <p:nvPr/>
              </p:nvSpPr>
              <p:spPr>
                <a:xfrm>
                  <a:off x="3362400" y="4424400"/>
                  <a:ext cx="3636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34" name=""/>
            <p:cNvSpPr/>
            <p:nvPr/>
          </p:nvSpPr>
          <p:spPr>
            <a:xfrm>
              <a:off x="277560" y="4587840"/>
              <a:ext cx="62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ev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8320" y="5672160"/>
              <a:ext cx="51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od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848760" y="4579920"/>
              <a:ext cx="485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810960" y="5664240"/>
              <a:ext cx="564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rot="16200000">
              <a:off x="1463400" y="4743000"/>
              <a:ext cx="304920" cy="304560"/>
            </a:xfrm>
            <a:prstGeom prst="flowChartMerg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9" name=""/>
                <p:cNvSpPr txBox="1"/>
                <p:nvPr/>
              </p:nvSpPr>
              <p:spPr>
                <a:xfrm>
                  <a:off x="1905120" y="5237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0" name=""/>
                <p:cNvSpPr txBox="1"/>
                <p:nvPr/>
              </p:nvSpPr>
              <p:spPr>
                <a:xfrm>
                  <a:off x="2617920" y="52387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1" name=""/>
                <p:cNvSpPr txBox="1"/>
                <p:nvPr/>
              </p:nvSpPr>
              <p:spPr>
                <a:xfrm>
                  <a:off x="1335240" y="497664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2" name=""/>
                <p:cNvSpPr txBox="1"/>
                <p:nvPr/>
              </p:nvSpPr>
              <p:spPr>
                <a:xfrm>
                  <a:off x="638280" y="5359320"/>
                  <a:ext cx="260280" cy="1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3" name=""/>
                <p:cNvSpPr txBox="1"/>
                <p:nvPr/>
              </p:nvSpPr>
              <p:spPr>
                <a:xfrm>
                  <a:off x="1338120" y="5361120"/>
                  <a:ext cx="260640" cy="15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4" name=""/>
                <p:cNvSpPr txBox="1"/>
                <p:nvPr/>
              </p:nvSpPr>
              <p:spPr>
                <a:xfrm>
                  <a:off x="3781440" y="5349960"/>
                  <a:ext cx="325440" cy="1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5" name=""/>
                <p:cNvSpPr txBox="1"/>
                <p:nvPr/>
              </p:nvSpPr>
              <p:spPr>
                <a:xfrm>
                  <a:off x="2998800" y="5349960"/>
                  <a:ext cx="325440" cy="1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5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46" name=""/>
            <p:cNvGrpSpPr/>
            <p:nvPr/>
          </p:nvGrpSpPr>
          <p:grpSpPr>
            <a:xfrm>
              <a:off x="4538160" y="4700520"/>
              <a:ext cx="2167200" cy="1516680"/>
              <a:chOff x="4538160" y="4700520"/>
              <a:chExt cx="2167200" cy="1516680"/>
            </a:xfrm>
          </p:grpSpPr>
          <p:sp>
            <p:nvSpPr>
              <p:cNvPr id="1947" name=""/>
              <p:cNvSpPr/>
              <p:nvPr/>
            </p:nvSpPr>
            <p:spPr>
              <a:xfrm>
                <a:off x="4659480" y="4700520"/>
                <a:ext cx="1958400" cy="1332720"/>
              </a:xfrm>
              <a:custGeom>
                <a:avLst/>
                <a:gdLst/>
                <a:ahLst/>
                <a:rect l="l" t="t" r="r" b="b"/>
                <a:pathLst>
                  <a:path w="520" h="410">
                    <a:moveTo>
                      <a:pt x="0" y="410"/>
                    </a:moveTo>
                    <a:lnTo>
                      <a:pt x="520" y="410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4659480" y="4700520"/>
                <a:ext cx="720" cy="1332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4659480" y="6012720"/>
                <a:ext cx="72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6617880" y="6012720"/>
                <a:ext cx="108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659480" y="6033240"/>
                <a:ext cx="19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6599880" y="6033240"/>
                <a:ext cx="1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659480" y="4812480"/>
                <a:ext cx="19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4659480" y="4808880"/>
                <a:ext cx="1958400" cy="1224000"/>
              </a:xfrm>
              <a:custGeom>
                <a:avLst/>
                <a:gdLst/>
                <a:ahLst/>
                <a:rect l="l" t="t" r="r" b="b"/>
                <a:pathLst>
                  <a:path w="3021" h="1706">
                    <a:moveTo>
                      <a:pt x="0" y="6"/>
                    </a:moveTo>
                    <a:lnTo>
                      <a:pt x="29" y="6"/>
                    </a:lnTo>
                    <a:lnTo>
                      <a:pt x="58" y="6"/>
                    </a:lnTo>
                    <a:lnTo>
                      <a:pt x="93" y="6"/>
                    </a:lnTo>
                    <a:lnTo>
                      <a:pt x="122" y="6"/>
                    </a:lnTo>
                    <a:lnTo>
                      <a:pt x="151" y="6"/>
                    </a:lnTo>
                    <a:lnTo>
                      <a:pt x="180" y="6"/>
                    </a:lnTo>
                    <a:lnTo>
                      <a:pt x="209" y="6"/>
                    </a:lnTo>
                    <a:lnTo>
                      <a:pt x="244" y="6"/>
                    </a:lnTo>
                    <a:lnTo>
                      <a:pt x="273" y="0"/>
                    </a:lnTo>
                    <a:lnTo>
                      <a:pt x="302" y="0"/>
                    </a:lnTo>
                    <a:lnTo>
                      <a:pt x="331" y="0"/>
                    </a:lnTo>
                    <a:lnTo>
                      <a:pt x="360" y="0"/>
                    </a:lnTo>
                    <a:lnTo>
                      <a:pt x="395" y="0"/>
                    </a:lnTo>
                    <a:lnTo>
                      <a:pt x="424" y="0"/>
                    </a:lnTo>
                    <a:lnTo>
                      <a:pt x="453" y="0"/>
                    </a:lnTo>
                    <a:lnTo>
                      <a:pt x="482" y="0"/>
                    </a:lnTo>
                    <a:lnTo>
                      <a:pt x="511" y="0"/>
                    </a:lnTo>
                    <a:lnTo>
                      <a:pt x="546" y="6"/>
                    </a:lnTo>
                    <a:lnTo>
                      <a:pt x="575" y="6"/>
                    </a:lnTo>
                    <a:lnTo>
                      <a:pt x="604" y="6"/>
                    </a:lnTo>
                    <a:lnTo>
                      <a:pt x="633" y="12"/>
                    </a:lnTo>
                    <a:lnTo>
                      <a:pt x="662" y="18"/>
                    </a:lnTo>
                    <a:lnTo>
                      <a:pt x="697" y="18"/>
                    </a:lnTo>
                    <a:lnTo>
                      <a:pt x="726" y="24"/>
                    </a:lnTo>
                    <a:lnTo>
                      <a:pt x="755" y="29"/>
                    </a:lnTo>
                    <a:lnTo>
                      <a:pt x="784" y="35"/>
                    </a:lnTo>
                    <a:lnTo>
                      <a:pt x="813" y="47"/>
                    </a:lnTo>
                    <a:lnTo>
                      <a:pt x="848" y="53"/>
                    </a:lnTo>
                    <a:lnTo>
                      <a:pt x="877" y="64"/>
                    </a:lnTo>
                    <a:lnTo>
                      <a:pt x="906" y="76"/>
                    </a:lnTo>
                    <a:lnTo>
                      <a:pt x="935" y="87"/>
                    </a:lnTo>
                    <a:lnTo>
                      <a:pt x="964" y="99"/>
                    </a:lnTo>
                    <a:lnTo>
                      <a:pt x="999" y="111"/>
                    </a:lnTo>
                    <a:lnTo>
                      <a:pt x="1028" y="128"/>
                    </a:lnTo>
                    <a:lnTo>
                      <a:pt x="1057" y="145"/>
                    </a:lnTo>
                    <a:lnTo>
                      <a:pt x="1086" y="163"/>
                    </a:lnTo>
                    <a:lnTo>
                      <a:pt x="1115" y="180"/>
                    </a:lnTo>
                    <a:lnTo>
                      <a:pt x="1150" y="198"/>
                    </a:lnTo>
                    <a:lnTo>
                      <a:pt x="1179" y="215"/>
                    </a:lnTo>
                    <a:lnTo>
                      <a:pt x="1208" y="238"/>
                    </a:lnTo>
                    <a:lnTo>
                      <a:pt x="1237" y="262"/>
                    </a:lnTo>
                    <a:lnTo>
                      <a:pt x="1266" y="285"/>
                    </a:lnTo>
                    <a:lnTo>
                      <a:pt x="1301" y="308"/>
                    </a:lnTo>
                    <a:lnTo>
                      <a:pt x="1330" y="337"/>
                    </a:lnTo>
                    <a:lnTo>
                      <a:pt x="1359" y="360"/>
                    </a:lnTo>
                    <a:lnTo>
                      <a:pt x="1388" y="389"/>
                    </a:lnTo>
                    <a:lnTo>
                      <a:pt x="1417" y="418"/>
                    </a:lnTo>
                    <a:lnTo>
                      <a:pt x="1452" y="447"/>
                    </a:lnTo>
                    <a:lnTo>
                      <a:pt x="1481" y="476"/>
                    </a:lnTo>
                    <a:lnTo>
                      <a:pt x="1510" y="511"/>
                    </a:lnTo>
                    <a:lnTo>
                      <a:pt x="1539" y="540"/>
                    </a:lnTo>
                    <a:lnTo>
                      <a:pt x="1569" y="575"/>
                    </a:lnTo>
                    <a:lnTo>
                      <a:pt x="1603" y="604"/>
                    </a:lnTo>
                    <a:lnTo>
                      <a:pt x="1632" y="639"/>
                    </a:lnTo>
                    <a:lnTo>
                      <a:pt x="1662" y="673"/>
                    </a:lnTo>
                    <a:lnTo>
                      <a:pt x="1691" y="708"/>
                    </a:lnTo>
                    <a:lnTo>
                      <a:pt x="1720" y="743"/>
                    </a:lnTo>
                    <a:lnTo>
                      <a:pt x="1754" y="778"/>
                    </a:lnTo>
                    <a:lnTo>
                      <a:pt x="1784" y="813"/>
                    </a:lnTo>
                    <a:lnTo>
                      <a:pt x="1813" y="847"/>
                    </a:lnTo>
                    <a:lnTo>
                      <a:pt x="1842" y="882"/>
                    </a:lnTo>
                    <a:lnTo>
                      <a:pt x="1871" y="917"/>
                    </a:lnTo>
                    <a:lnTo>
                      <a:pt x="1906" y="952"/>
                    </a:lnTo>
                    <a:lnTo>
                      <a:pt x="1935" y="987"/>
                    </a:lnTo>
                    <a:lnTo>
                      <a:pt x="1964" y="1022"/>
                    </a:lnTo>
                    <a:lnTo>
                      <a:pt x="1993" y="1051"/>
                    </a:lnTo>
                    <a:lnTo>
                      <a:pt x="2022" y="1085"/>
                    </a:lnTo>
                    <a:lnTo>
                      <a:pt x="2057" y="1120"/>
                    </a:lnTo>
                    <a:lnTo>
                      <a:pt x="2086" y="1155"/>
                    </a:lnTo>
                    <a:lnTo>
                      <a:pt x="2115" y="1184"/>
                    </a:lnTo>
                    <a:lnTo>
                      <a:pt x="2144" y="1219"/>
                    </a:lnTo>
                    <a:lnTo>
                      <a:pt x="2173" y="1248"/>
                    </a:lnTo>
                    <a:lnTo>
                      <a:pt x="2208" y="1277"/>
                    </a:lnTo>
                    <a:lnTo>
                      <a:pt x="2237" y="1306"/>
                    </a:lnTo>
                    <a:lnTo>
                      <a:pt x="2266" y="1335"/>
                    </a:lnTo>
                    <a:lnTo>
                      <a:pt x="2295" y="1364"/>
                    </a:lnTo>
                    <a:lnTo>
                      <a:pt x="2324" y="1387"/>
                    </a:lnTo>
                    <a:lnTo>
                      <a:pt x="2359" y="1416"/>
                    </a:lnTo>
                    <a:lnTo>
                      <a:pt x="2388" y="1439"/>
                    </a:lnTo>
                    <a:lnTo>
                      <a:pt x="2417" y="1462"/>
                    </a:lnTo>
                    <a:lnTo>
                      <a:pt x="2446" y="1486"/>
                    </a:lnTo>
                    <a:lnTo>
                      <a:pt x="2475" y="1509"/>
                    </a:lnTo>
                    <a:lnTo>
                      <a:pt x="2510" y="1532"/>
                    </a:lnTo>
                    <a:lnTo>
                      <a:pt x="2539" y="1549"/>
                    </a:lnTo>
                    <a:lnTo>
                      <a:pt x="2568" y="1567"/>
                    </a:lnTo>
                    <a:lnTo>
                      <a:pt x="2597" y="1584"/>
                    </a:lnTo>
                    <a:lnTo>
                      <a:pt x="2626" y="1602"/>
                    </a:lnTo>
                    <a:lnTo>
                      <a:pt x="2661" y="1619"/>
                    </a:lnTo>
                    <a:lnTo>
                      <a:pt x="2690" y="1631"/>
                    </a:lnTo>
                    <a:lnTo>
                      <a:pt x="2719" y="1642"/>
                    </a:lnTo>
                    <a:lnTo>
                      <a:pt x="2748" y="1654"/>
                    </a:lnTo>
                    <a:lnTo>
                      <a:pt x="2777" y="1666"/>
                    </a:lnTo>
                    <a:lnTo>
                      <a:pt x="2812" y="1677"/>
                    </a:lnTo>
                    <a:lnTo>
                      <a:pt x="2841" y="1683"/>
                    </a:lnTo>
                    <a:lnTo>
                      <a:pt x="2870" y="1689"/>
                    </a:lnTo>
                    <a:lnTo>
                      <a:pt x="2899" y="1695"/>
                    </a:lnTo>
                    <a:lnTo>
                      <a:pt x="2928" y="1700"/>
                    </a:lnTo>
                    <a:lnTo>
                      <a:pt x="2963" y="1706"/>
                    </a:lnTo>
                    <a:lnTo>
                      <a:pt x="2992" y="1706"/>
                    </a:lnTo>
                    <a:lnTo>
                      <a:pt x="3021" y="1706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4659480" y="4812480"/>
                <a:ext cx="1958400" cy="1220400"/>
              </a:xfrm>
              <a:custGeom>
                <a:avLst/>
                <a:gdLst/>
                <a:ahLst/>
                <a:rect l="l" t="t" r="r" b="b"/>
                <a:pathLst>
                  <a:path w="3021" h="1700">
                    <a:moveTo>
                      <a:pt x="0" y="1700"/>
                    </a:moveTo>
                    <a:lnTo>
                      <a:pt x="29" y="1700"/>
                    </a:lnTo>
                    <a:lnTo>
                      <a:pt x="58" y="1694"/>
                    </a:lnTo>
                    <a:lnTo>
                      <a:pt x="93" y="1694"/>
                    </a:lnTo>
                    <a:lnTo>
                      <a:pt x="122" y="1689"/>
                    </a:lnTo>
                    <a:lnTo>
                      <a:pt x="151" y="1683"/>
                    </a:lnTo>
                    <a:lnTo>
                      <a:pt x="180" y="1671"/>
                    </a:lnTo>
                    <a:lnTo>
                      <a:pt x="209" y="1665"/>
                    </a:lnTo>
                    <a:lnTo>
                      <a:pt x="244" y="1654"/>
                    </a:lnTo>
                    <a:lnTo>
                      <a:pt x="273" y="1636"/>
                    </a:lnTo>
                    <a:lnTo>
                      <a:pt x="302" y="1625"/>
                    </a:lnTo>
                    <a:lnTo>
                      <a:pt x="331" y="1607"/>
                    </a:lnTo>
                    <a:lnTo>
                      <a:pt x="360" y="1590"/>
                    </a:lnTo>
                    <a:lnTo>
                      <a:pt x="395" y="1572"/>
                    </a:lnTo>
                    <a:lnTo>
                      <a:pt x="424" y="1555"/>
                    </a:lnTo>
                    <a:lnTo>
                      <a:pt x="453" y="1532"/>
                    </a:lnTo>
                    <a:lnTo>
                      <a:pt x="482" y="1514"/>
                    </a:lnTo>
                    <a:lnTo>
                      <a:pt x="511" y="1491"/>
                    </a:lnTo>
                    <a:lnTo>
                      <a:pt x="546" y="1468"/>
                    </a:lnTo>
                    <a:lnTo>
                      <a:pt x="575" y="1439"/>
                    </a:lnTo>
                    <a:lnTo>
                      <a:pt x="604" y="1416"/>
                    </a:lnTo>
                    <a:lnTo>
                      <a:pt x="633" y="1387"/>
                    </a:lnTo>
                    <a:lnTo>
                      <a:pt x="662" y="1358"/>
                    </a:lnTo>
                    <a:lnTo>
                      <a:pt x="697" y="1335"/>
                    </a:lnTo>
                    <a:lnTo>
                      <a:pt x="726" y="1300"/>
                    </a:lnTo>
                    <a:lnTo>
                      <a:pt x="755" y="1271"/>
                    </a:lnTo>
                    <a:lnTo>
                      <a:pt x="784" y="1242"/>
                    </a:lnTo>
                    <a:lnTo>
                      <a:pt x="813" y="1213"/>
                    </a:lnTo>
                    <a:lnTo>
                      <a:pt x="848" y="1178"/>
                    </a:lnTo>
                    <a:lnTo>
                      <a:pt x="877" y="1149"/>
                    </a:lnTo>
                    <a:lnTo>
                      <a:pt x="906" y="1114"/>
                    </a:lnTo>
                    <a:lnTo>
                      <a:pt x="935" y="1085"/>
                    </a:lnTo>
                    <a:lnTo>
                      <a:pt x="964" y="1050"/>
                    </a:lnTo>
                    <a:lnTo>
                      <a:pt x="999" y="1021"/>
                    </a:lnTo>
                    <a:lnTo>
                      <a:pt x="1028" y="987"/>
                    </a:lnTo>
                    <a:lnTo>
                      <a:pt x="1057" y="952"/>
                    </a:lnTo>
                    <a:lnTo>
                      <a:pt x="1086" y="923"/>
                    </a:lnTo>
                    <a:lnTo>
                      <a:pt x="1115" y="888"/>
                    </a:lnTo>
                    <a:lnTo>
                      <a:pt x="1150" y="853"/>
                    </a:lnTo>
                    <a:lnTo>
                      <a:pt x="1179" y="824"/>
                    </a:lnTo>
                    <a:lnTo>
                      <a:pt x="1208" y="789"/>
                    </a:lnTo>
                    <a:lnTo>
                      <a:pt x="1237" y="760"/>
                    </a:lnTo>
                    <a:lnTo>
                      <a:pt x="1266" y="725"/>
                    </a:lnTo>
                    <a:lnTo>
                      <a:pt x="1301" y="696"/>
                    </a:lnTo>
                    <a:lnTo>
                      <a:pt x="1330" y="667"/>
                    </a:lnTo>
                    <a:lnTo>
                      <a:pt x="1359" y="633"/>
                    </a:lnTo>
                    <a:lnTo>
                      <a:pt x="1388" y="604"/>
                    </a:lnTo>
                    <a:lnTo>
                      <a:pt x="1417" y="575"/>
                    </a:lnTo>
                    <a:lnTo>
                      <a:pt x="1452" y="551"/>
                    </a:lnTo>
                    <a:lnTo>
                      <a:pt x="1481" y="522"/>
                    </a:lnTo>
                    <a:lnTo>
                      <a:pt x="1510" y="493"/>
                    </a:lnTo>
                    <a:lnTo>
                      <a:pt x="1539" y="470"/>
                    </a:lnTo>
                    <a:lnTo>
                      <a:pt x="1569" y="441"/>
                    </a:lnTo>
                    <a:lnTo>
                      <a:pt x="1603" y="418"/>
                    </a:lnTo>
                    <a:lnTo>
                      <a:pt x="1632" y="395"/>
                    </a:lnTo>
                    <a:lnTo>
                      <a:pt x="1662" y="372"/>
                    </a:lnTo>
                    <a:lnTo>
                      <a:pt x="1691" y="348"/>
                    </a:lnTo>
                    <a:lnTo>
                      <a:pt x="1720" y="325"/>
                    </a:lnTo>
                    <a:lnTo>
                      <a:pt x="1754" y="302"/>
                    </a:lnTo>
                    <a:lnTo>
                      <a:pt x="1784" y="285"/>
                    </a:lnTo>
                    <a:lnTo>
                      <a:pt x="1813" y="267"/>
                    </a:lnTo>
                    <a:lnTo>
                      <a:pt x="1842" y="250"/>
                    </a:lnTo>
                    <a:lnTo>
                      <a:pt x="1871" y="232"/>
                    </a:lnTo>
                    <a:lnTo>
                      <a:pt x="1906" y="215"/>
                    </a:lnTo>
                    <a:lnTo>
                      <a:pt x="1935" y="198"/>
                    </a:lnTo>
                    <a:lnTo>
                      <a:pt x="1964" y="180"/>
                    </a:lnTo>
                    <a:lnTo>
                      <a:pt x="1993" y="168"/>
                    </a:lnTo>
                    <a:lnTo>
                      <a:pt x="2022" y="151"/>
                    </a:lnTo>
                    <a:lnTo>
                      <a:pt x="2057" y="139"/>
                    </a:lnTo>
                    <a:lnTo>
                      <a:pt x="2086" y="128"/>
                    </a:lnTo>
                    <a:lnTo>
                      <a:pt x="2115" y="116"/>
                    </a:lnTo>
                    <a:lnTo>
                      <a:pt x="2144" y="105"/>
                    </a:lnTo>
                    <a:lnTo>
                      <a:pt x="2173" y="99"/>
                    </a:lnTo>
                    <a:lnTo>
                      <a:pt x="2208" y="87"/>
                    </a:lnTo>
                    <a:lnTo>
                      <a:pt x="2237" y="81"/>
                    </a:lnTo>
                    <a:lnTo>
                      <a:pt x="2266" y="70"/>
                    </a:lnTo>
                    <a:lnTo>
                      <a:pt x="2295" y="64"/>
                    </a:lnTo>
                    <a:lnTo>
                      <a:pt x="2324" y="58"/>
                    </a:lnTo>
                    <a:lnTo>
                      <a:pt x="2359" y="52"/>
                    </a:lnTo>
                    <a:lnTo>
                      <a:pt x="2388" y="47"/>
                    </a:lnTo>
                    <a:lnTo>
                      <a:pt x="2417" y="41"/>
                    </a:lnTo>
                    <a:lnTo>
                      <a:pt x="2446" y="35"/>
                    </a:lnTo>
                    <a:lnTo>
                      <a:pt x="2475" y="29"/>
                    </a:lnTo>
                    <a:lnTo>
                      <a:pt x="2510" y="29"/>
                    </a:lnTo>
                    <a:lnTo>
                      <a:pt x="2539" y="23"/>
                    </a:lnTo>
                    <a:lnTo>
                      <a:pt x="2568" y="18"/>
                    </a:lnTo>
                    <a:lnTo>
                      <a:pt x="2597" y="18"/>
                    </a:lnTo>
                    <a:lnTo>
                      <a:pt x="2626" y="12"/>
                    </a:lnTo>
                    <a:lnTo>
                      <a:pt x="2661" y="12"/>
                    </a:lnTo>
                    <a:lnTo>
                      <a:pt x="2690" y="12"/>
                    </a:lnTo>
                    <a:lnTo>
                      <a:pt x="2719" y="6"/>
                    </a:lnTo>
                    <a:lnTo>
                      <a:pt x="2748" y="6"/>
                    </a:lnTo>
                    <a:lnTo>
                      <a:pt x="2777" y="6"/>
                    </a:lnTo>
                    <a:lnTo>
                      <a:pt x="2812" y="6"/>
                    </a:lnTo>
                    <a:lnTo>
                      <a:pt x="2841" y="6"/>
                    </a:lnTo>
                    <a:lnTo>
                      <a:pt x="2870" y="0"/>
                    </a:lnTo>
                    <a:lnTo>
                      <a:pt x="2899" y="0"/>
                    </a:lnTo>
                    <a:lnTo>
                      <a:pt x="2928" y="0"/>
                    </a:lnTo>
                    <a:lnTo>
                      <a:pt x="2963" y="0"/>
                    </a:lnTo>
                    <a:lnTo>
                      <a:pt x="2992" y="0"/>
                    </a:lnTo>
                    <a:lnTo>
                      <a:pt x="3021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629960" y="604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542480" y="5938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538160" y="473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59" name=""/>
                  <p:cNvSpPr txBox="1"/>
                  <p:nvPr/>
                </p:nvSpPr>
                <p:spPr>
                  <a:xfrm>
                    <a:off x="6537960" y="6041160"/>
                    <a:ext cx="167400" cy="14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0" name=""/>
                  <p:cNvSpPr txBox="1"/>
                  <p:nvPr/>
                </p:nvSpPr>
                <p:spPr>
                  <a:xfrm>
                    <a:off x="5539320" y="6047280"/>
                    <a:ext cx="182520" cy="14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1" name=""/>
                  <p:cNvSpPr txBox="1"/>
                  <p:nvPr/>
                </p:nvSpPr>
                <p:spPr>
                  <a:xfrm>
                    <a:off x="4699440" y="5241600"/>
                    <a:ext cx="68508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962" name=""/>
              <p:cNvCxnSpPr/>
              <p:nvPr/>
            </p:nvCxnSpPr>
            <p:spPr>
              <a:xfrm flipH="1" flipV="1" rot="5400000">
                <a:off x="4908960" y="5000760"/>
                <a:ext cx="373320" cy="107640"/>
              </a:xfrm>
              <a:prstGeom prst="curvedConnector5">
                <a:avLst>
                  <a:gd name="adj1" fmla="val 50772"/>
                  <a:gd name="adj2" fmla="val 50000"/>
                  <a:gd name="adj3" fmla="val 50772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963" name=""/>
                  <p:cNvSpPr txBox="1"/>
                  <p:nvPr/>
                </p:nvSpPr>
                <p:spPr>
                  <a:xfrm>
                    <a:off x="6111000" y="5195160"/>
                    <a:ext cx="472320" cy="22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964" name=""/>
              <p:cNvCxnSpPr/>
              <p:nvPr/>
            </p:nvCxnSpPr>
            <p:spPr>
              <a:xfrm flipV="1" rot="16200000">
                <a:off x="6091560" y="4933800"/>
                <a:ext cx="372240" cy="133560"/>
              </a:xfrm>
              <a:prstGeom prst="curvedConnector5">
                <a:avLst>
                  <a:gd name="adj1" fmla="val 42110"/>
                  <a:gd name="adj2" fmla="val 50000"/>
                  <a:gd name="adj3" fmla="val 4211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965" name=""/>
            <p:cNvSpPr/>
            <p:nvPr/>
          </p:nvSpPr>
          <p:spPr>
            <a:xfrm>
              <a:off x="6889680" y="4668840"/>
              <a:ext cx="20862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d energy gain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333399"/>
                  </a:solidFill>
                  <a:latin typeface="Arial"/>
                </a:rPr>
                <a:t>0 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= 0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333399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= 0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Virtually orthog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|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F3F8-7715-4230-9CDE-AA44ED838F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ther applications of MC lifting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of volumes (CT, MRI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 slice transfor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– (Taubman, Leung, Secker, ICIP’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lightfields (3D sc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Girod, Chang, Ramanathan &amp; Zhu – ICASSP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scanned or 2D separable MC interview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MC lifting steps to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” field derived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geometry 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multiview video (4D sc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Garbas, Fecker, Troger &amp; Kaup – MMSP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5121000" y="3505320"/>
            <a:ext cx="3892680" cy="2286000"/>
            <a:chOff x="5121000" y="3505320"/>
            <a:chExt cx="3892680" cy="2286000"/>
          </a:xfrm>
        </p:grpSpPr>
        <p:sp>
          <p:nvSpPr>
            <p:cNvPr id="1969" name=""/>
            <p:cNvSpPr/>
            <p:nvPr/>
          </p:nvSpPr>
          <p:spPr>
            <a:xfrm flipH="1">
              <a:off x="7079760" y="389556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84960" y="4521960"/>
              <a:ext cx="1639800" cy="1269360"/>
            </a:xfrm>
            <a:custGeom>
              <a:avLst/>
              <a:gdLst/>
              <a:ahLst/>
              <a:rect l="l" t="t" r="r" b="b"/>
              <a:pathLst>
                <a:path w="1664" h="1384">
                  <a:moveTo>
                    <a:pt x="160" y="128"/>
                  </a:moveTo>
                  <a:cubicBezTo>
                    <a:pt x="256" y="56"/>
                    <a:pt x="464" y="48"/>
                    <a:pt x="592" y="32"/>
                  </a:cubicBezTo>
                  <a:cubicBezTo>
                    <a:pt x="720" y="16"/>
                    <a:pt x="816" y="0"/>
                    <a:pt x="928" y="32"/>
                  </a:cubicBezTo>
                  <a:cubicBezTo>
                    <a:pt x="1040" y="64"/>
                    <a:pt x="1184" y="184"/>
                    <a:pt x="1264" y="224"/>
                  </a:cubicBezTo>
                  <a:cubicBezTo>
                    <a:pt x="1344" y="264"/>
                    <a:pt x="1360" y="232"/>
                    <a:pt x="1408" y="272"/>
                  </a:cubicBezTo>
                  <a:cubicBezTo>
                    <a:pt x="1456" y="312"/>
                    <a:pt x="1512" y="368"/>
                    <a:pt x="1552" y="464"/>
                  </a:cubicBezTo>
                  <a:cubicBezTo>
                    <a:pt x="1592" y="560"/>
                    <a:pt x="1664" y="728"/>
                    <a:pt x="1648" y="848"/>
                  </a:cubicBezTo>
                  <a:cubicBezTo>
                    <a:pt x="1632" y="968"/>
                    <a:pt x="1520" y="1104"/>
                    <a:pt x="1456" y="1184"/>
                  </a:cubicBezTo>
                  <a:cubicBezTo>
                    <a:pt x="1392" y="1264"/>
                    <a:pt x="1368" y="1296"/>
                    <a:pt x="1264" y="1328"/>
                  </a:cubicBezTo>
                  <a:cubicBezTo>
                    <a:pt x="1160" y="1360"/>
                    <a:pt x="944" y="1384"/>
                    <a:pt x="832" y="1376"/>
                  </a:cubicBezTo>
                  <a:cubicBezTo>
                    <a:pt x="720" y="1368"/>
                    <a:pt x="672" y="1344"/>
                    <a:pt x="592" y="1280"/>
                  </a:cubicBezTo>
                  <a:cubicBezTo>
                    <a:pt x="512" y="1216"/>
                    <a:pt x="440" y="1056"/>
                    <a:pt x="352" y="992"/>
                  </a:cubicBezTo>
                  <a:cubicBezTo>
                    <a:pt x="264" y="928"/>
                    <a:pt x="120" y="984"/>
                    <a:pt x="64" y="896"/>
                  </a:cubicBezTo>
                  <a:cubicBezTo>
                    <a:pt x="8" y="808"/>
                    <a:pt x="0" y="592"/>
                    <a:pt x="16" y="464"/>
                  </a:cubicBezTo>
                  <a:cubicBezTo>
                    <a:pt x="32" y="336"/>
                    <a:pt x="64" y="200"/>
                    <a:pt x="160" y="128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8510400" y="4140720"/>
              <a:ext cx="30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5308200" y="4199400"/>
              <a:ext cx="30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6690240" y="475380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rox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481880" y="3979440"/>
              <a:ext cx="833400" cy="74412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5900040" y="3979440"/>
              <a:ext cx="762120" cy="668520"/>
            </a:xfrm>
            <a:custGeom>
              <a:avLst/>
              <a:gdLst/>
              <a:ahLst/>
              <a:rect l="l" t="t" r="r" b="b"/>
              <a:pathLst>
                <a:path w="480" h="444">
                  <a:moveTo>
                    <a:pt x="480" y="263"/>
                  </a:moveTo>
                  <a:cubicBezTo>
                    <a:pt x="392" y="312"/>
                    <a:pt x="305" y="362"/>
                    <a:pt x="240" y="391"/>
                  </a:cubicBezTo>
                  <a:cubicBezTo>
                    <a:pt x="175" y="420"/>
                    <a:pt x="124" y="444"/>
                    <a:pt x="90" y="435"/>
                  </a:cubicBezTo>
                  <a:cubicBezTo>
                    <a:pt x="56" y="426"/>
                    <a:pt x="53" y="408"/>
                    <a:pt x="38" y="336"/>
                  </a:cubicBezTo>
                  <a:cubicBezTo>
                    <a:pt x="23" y="264"/>
                    <a:pt x="11" y="132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556400" y="3988800"/>
              <a:ext cx="701640" cy="61848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"/>
            <p:cNvGrpSpPr/>
            <p:nvPr/>
          </p:nvGrpSpPr>
          <p:grpSpPr>
            <a:xfrm>
              <a:off x="8007480" y="3965760"/>
              <a:ext cx="1006200" cy="1231920"/>
              <a:chOff x="8007480" y="3965760"/>
              <a:chExt cx="1006200" cy="1231920"/>
            </a:xfrm>
          </p:grpSpPr>
          <p:sp>
            <p:nvSpPr>
              <p:cNvPr id="1978" name=""/>
              <p:cNvSpPr/>
              <p:nvPr/>
            </p:nvSpPr>
            <p:spPr>
              <a:xfrm flipH="1">
                <a:off x="8235000" y="4561920"/>
                <a:ext cx="27072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 rot="520800">
                <a:off x="8086320" y="4023000"/>
                <a:ext cx="847440" cy="1117080"/>
              </a:xfrm>
              <a:custGeom>
                <a:avLst/>
                <a:gdLst/>
                <a:ahLst/>
                <a:rect l="l" t="t" r="r" b="b"/>
                <a:pathLst>
                  <a:path w="534" h="742">
                    <a:moveTo>
                      <a:pt x="0" y="742"/>
                    </a:moveTo>
                    <a:lnTo>
                      <a:pt x="89" y="499"/>
                    </a:lnTo>
                    <a:lnTo>
                      <a:pt x="534" y="0"/>
                    </a:lnTo>
                    <a:lnTo>
                      <a:pt x="486" y="192"/>
                    </a:lnTo>
                    <a:lnTo>
                      <a:pt x="0" y="742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 rot="3481200">
                <a:off x="8486640" y="4536000"/>
                <a:ext cx="403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1" name=""/>
            <p:cNvSpPr/>
            <p:nvPr/>
          </p:nvSpPr>
          <p:spPr>
            <a:xfrm flipH="1">
              <a:off x="5903280" y="3926880"/>
              <a:ext cx="701640" cy="61848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5121000" y="4013640"/>
              <a:ext cx="1006200" cy="1231920"/>
              <a:chOff x="5121000" y="4013640"/>
              <a:chExt cx="1006200" cy="1231920"/>
            </a:xfrm>
          </p:grpSpPr>
          <p:sp>
            <p:nvSpPr>
              <p:cNvPr id="1983" name=""/>
              <p:cNvSpPr/>
              <p:nvPr/>
            </p:nvSpPr>
            <p:spPr>
              <a:xfrm>
                <a:off x="5628960" y="4609800"/>
                <a:ext cx="27072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21079200">
                <a:off x="5200200" y="4070880"/>
                <a:ext cx="847440" cy="1117080"/>
              </a:xfrm>
              <a:custGeom>
                <a:avLst/>
                <a:gdLst/>
                <a:ahLst/>
                <a:rect l="l" t="t" r="r" b="b"/>
                <a:pathLst>
                  <a:path w="534" h="742">
                    <a:moveTo>
                      <a:pt x="0" y="742"/>
                    </a:moveTo>
                    <a:lnTo>
                      <a:pt x="89" y="499"/>
                    </a:lnTo>
                    <a:lnTo>
                      <a:pt x="534" y="0"/>
                    </a:lnTo>
                    <a:lnTo>
                      <a:pt x="486" y="192"/>
                    </a:lnTo>
                    <a:lnTo>
                      <a:pt x="0" y="742"/>
                    </a:lnTo>
                    <a:close/>
                  </a:path>
                </a:pathLst>
              </a:custGeom>
              <a:solidFill>
                <a:srgbClr val="338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8118800">
                <a:off x="5607000" y="4583880"/>
                <a:ext cx="403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>
              <a:off x="6424560" y="3815280"/>
              <a:ext cx="1330560" cy="155160"/>
            </a:xfrm>
            <a:custGeom>
              <a:avLst/>
              <a:gdLst/>
              <a:ahLst/>
              <a:rect l="l" t="t" r="r" b="b"/>
              <a:pathLst>
                <a:path w="838" h="103">
                  <a:moveTo>
                    <a:pt x="0" y="103"/>
                  </a:moveTo>
                  <a:lnTo>
                    <a:pt x="745" y="103"/>
                  </a:lnTo>
                  <a:lnTo>
                    <a:pt x="838" y="0"/>
                  </a:lnTo>
                  <a:lnTo>
                    <a:pt x="147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6953040" y="3505320"/>
              <a:ext cx="30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21457200">
              <a:off x="7061400" y="3867840"/>
              <a:ext cx="4284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rot="17121000">
              <a:off x="5594400" y="4843440"/>
              <a:ext cx="624600" cy="941040"/>
            </a:xfrm>
            <a:custGeom>
              <a:avLst/>
              <a:gdLst/>
              <a:ahLst/>
              <a:rect l="l" t="t" r="r" b="b"/>
              <a:pathLst>
                <a:path w="480" h="444">
                  <a:moveTo>
                    <a:pt x="480" y="263"/>
                  </a:moveTo>
                  <a:cubicBezTo>
                    <a:pt x="392" y="312"/>
                    <a:pt x="305" y="362"/>
                    <a:pt x="240" y="391"/>
                  </a:cubicBezTo>
                  <a:cubicBezTo>
                    <a:pt x="175" y="420"/>
                    <a:pt x="124" y="444"/>
                    <a:pt x="90" y="435"/>
                  </a:cubicBezTo>
                  <a:cubicBezTo>
                    <a:pt x="56" y="426"/>
                    <a:pt x="53" y="408"/>
                    <a:pt x="38" y="336"/>
                  </a:cubicBezTo>
                  <a:cubicBezTo>
                    <a:pt x="23" y="264"/>
                    <a:pt x="11" y="132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rot="17111400">
              <a:off x="5594400" y="4901040"/>
              <a:ext cx="471240" cy="79992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3092-2FE1-4A48-9F9A-DFB20A9642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Geometry adaptive image compression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ersible skew + DWT applied on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Taubman and Zakhor – Trans IP, July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ersible skew + bandletization applied on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Bandelets: Le Pennec &amp; Mallat – VCIP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473040" y="4648320"/>
            <a:ext cx="8301240" cy="1386000"/>
            <a:chOff x="473040" y="4648320"/>
            <a:chExt cx="8301240" cy="1386000"/>
          </a:xfrm>
        </p:grpSpPr>
        <p:sp>
          <p:nvSpPr>
            <p:cNvPr id="1994" name=""/>
            <p:cNvSpPr/>
            <p:nvPr/>
          </p:nvSpPr>
          <p:spPr>
            <a:xfrm flipH="1">
              <a:off x="5333400" y="4648320"/>
              <a:ext cx="608040" cy="12650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14880" y="4648320"/>
              <a:ext cx="1282680" cy="1265040"/>
            </a:xfrm>
            <a:custGeom>
              <a:avLst/>
              <a:gdLst/>
              <a:ahLst/>
              <a:rect l="l" t="t" r="r" b="b"/>
              <a:pathLst>
                <a:path w="861" h="953">
                  <a:moveTo>
                    <a:pt x="408" y="0"/>
                  </a:moveTo>
                  <a:lnTo>
                    <a:pt x="861" y="0"/>
                  </a:lnTo>
                  <a:lnTo>
                    <a:pt x="861" y="953"/>
                  </a:lnTo>
                  <a:lnTo>
                    <a:pt x="0" y="953"/>
                  </a:lnTo>
                </a:path>
              </a:pathLst>
            </a:custGeom>
            <a:solidFill>
              <a:srgbClr val="99cc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73040" y="4648320"/>
              <a:ext cx="2030400" cy="126504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20760" y="4648320"/>
              <a:ext cx="608040" cy="12650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17520" y="4653000"/>
              <a:ext cx="1285920" cy="1258920"/>
            </a:xfrm>
            <a:custGeom>
              <a:avLst/>
              <a:gdLst/>
              <a:ahLst/>
              <a:rect l="l" t="t" r="r" b="b"/>
              <a:pathLst>
                <a:path w="862" h="953">
                  <a:moveTo>
                    <a:pt x="0" y="0"/>
                  </a:moveTo>
                  <a:lnTo>
                    <a:pt x="408" y="953"/>
                  </a:lnTo>
                  <a:lnTo>
                    <a:pt x="862" y="953"/>
                  </a:lnTo>
                  <a:lnTo>
                    <a:pt x="8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085760" y="472608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098720" y="4906800"/>
              <a:ext cx="2052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125360" y="5087880"/>
              <a:ext cx="446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190520" y="5270400"/>
              <a:ext cx="842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98520" y="5416560"/>
              <a:ext cx="1270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455840" y="5545080"/>
              <a:ext cx="10800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577880" y="5684760"/>
              <a:ext cx="5400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352520" y="473400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365120" y="4913280"/>
              <a:ext cx="2088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392120" y="5094360"/>
              <a:ext cx="4464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457280" y="5278320"/>
              <a:ext cx="103320" cy="1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581120" y="5396040"/>
              <a:ext cx="127080" cy="10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44560" y="5526000"/>
              <a:ext cx="8568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844640" y="5692680"/>
              <a:ext cx="54000" cy="11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46080" y="473076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57240" y="4911840"/>
              <a:ext cx="20520" cy="14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984240" y="5091120"/>
              <a:ext cx="4464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50840" y="5275440"/>
              <a:ext cx="842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158840" y="5421240"/>
              <a:ext cx="12708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16160" y="5548320"/>
              <a:ext cx="1062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38200" y="5689440"/>
              <a:ext cx="54000" cy="11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14520" y="47354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525680" y="4916520"/>
              <a:ext cx="2052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552680" y="5097600"/>
              <a:ext cx="442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617840" y="5280120"/>
              <a:ext cx="10296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741320" y="5398920"/>
              <a:ext cx="12708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906560" y="5529240"/>
              <a:ext cx="8424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006640" y="5694480"/>
              <a:ext cx="5400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3314880" y="4648320"/>
              <a:ext cx="607680" cy="12650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b9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597560" y="4648320"/>
              <a:ext cx="1353960" cy="1265040"/>
            </a:xfrm>
            <a:custGeom>
              <a:avLst/>
              <a:gdLst/>
              <a:ahLst/>
              <a:rect l="l" t="t" r="r" b="b"/>
              <a:pathLst>
                <a:path w="908" h="953">
                  <a:moveTo>
                    <a:pt x="908" y="0"/>
                  </a:moveTo>
                  <a:lnTo>
                    <a:pt x="0" y="0"/>
                  </a:lnTo>
                  <a:lnTo>
                    <a:pt x="0" y="953"/>
                  </a:lnTo>
                  <a:lnTo>
                    <a:pt x="499" y="953"/>
                  </a:ln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464000" y="47530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64000" y="4933800"/>
              <a:ext cx="0" cy="13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64000" y="51148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464000" y="529416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464000" y="547524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464000" y="565632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327560" y="47530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27560" y="4933800"/>
              <a:ext cx="0" cy="13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27560" y="51148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27560" y="529416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327560" y="547524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327560" y="565632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734000" y="47530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734000" y="4933800"/>
              <a:ext cx="0" cy="13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734000" y="51148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734000" y="529416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734000" y="547524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734000" y="565632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869000" y="47530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869000" y="4933800"/>
              <a:ext cx="0" cy="13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869000" y="51148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869000" y="529416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69000" y="547524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869000" y="565632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74840" y="47419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74840" y="48625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74840" y="49831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74840" y="51037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74840" y="52243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74840" y="534528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74840" y="546588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74840" y="55879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74840" y="57085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74840" y="582948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73040" y="4648320"/>
              <a:ext cx="2030400" cy="1265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922560" y="4741920"/>
              <a:ext cx="20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913200" y="4862520"/>
              <a:ext cx="20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00600" y="4983120"/>
              <a:ext cx="20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78280" y="5103720"/>
              <a:ext cx="20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41920" y="52243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65600" y="534528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10080" y="546588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494160" y="55879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417840" y="5708520"/>
              <a:ext cx="20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359160" y="5829480"/>
              <a:ext cx="20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3314880" y="4648320"/>
              <a:ext cx="607680" cy="12650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38440" y="473724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38440" y="486252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638440" y="498168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638440" y="509904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638440" y="522756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638440" y="534348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638440" y="546588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638440" y="559260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638440" y="570708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734560" y="5184720"/>
              <a:ext cx="8344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     </a:t>
              </a: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shift</a:t>
              </a:r>
              <a:br>
                <a:rPr sz="1600"/>
              </a:b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ro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983200" y="5311800"/>
              <a:ext cx="54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42080" y="4729320"/>
              <a:ext cx="987480" cy="299880"/>
            </a:xfrm>
            <a:custGeom>
              <a:avLst/>
              <a:gdLst/>
              <a:ahLst/>
              <a:rect l="l" t="t" r="r" b="b"/>
              <a:pathLst>
                <a:path w="861" h="953">
                  <a:moveTo>
                    <a:pt x="408" y="0"/>
                  </a:moveTo>
                  <a:lnTo>
                    <a:pt x="861" y="0"/>
                  </a:lnTo>
                  <a:lnTo>
                    <a:pt x="861" y="953"/>
                  </a:lnTo>
                  <a:lnTo>
                    <a:pt x="0" y="953"/>
                  </a:lnTo>
                </a:path>
              </a:pathLst>
            </a:custGeom>
            <a:solidFill>
              <a:srgbClr val="99cc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6741360" y="4729320"/>
              <a:ext cx="468360" cy="299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6741360" y="4729320"/>
              <a:ext cx="468360" cy="299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a3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8298720" y="4729320"/>
              <a:ext cx="468360" cy="299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729560" y="4729320"/>
              <a:ext cx="1041480" cy="299880"/>
            </a:xfrm>
            <a:custGeom>
              <a:avLst/>
              <a:gdLst/>
              <a:ahLst/>
              <a:rect l="l" t="t" r="r" b="b"/>
              <a:pathLst>
                <a:path w="908" h="953">
                  <a:moveTo>
                    <a:pt x="908" y="0"/>
                  </a:moveTo>
                  <a:lnTo>
                    <a:pt x="0" y="0"/>
                  </a:lnTo>
                  <a:lnTo>
                    <a:pt x="0" y="953"/>
                  </a:lnTo>
                  <a:lnTo>
                    <a:pt x="499" y="953"/>
                  </a:ln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8301960" y="4729320"/>
              <a:ext cx="468360" cy="2998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881480" y="4745160"/>
              <a:ext cx="416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6741360" y="5424480"/>
              <a:ext cx="468360" cy="60156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8298720" y="5424480"/>
              <a:ext cx="468360" cy="60156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5" name=""/>
            <p:cNvCxnSpPr>
              <a:stCxn id="2093" idx="0"/>
              <a:endCxn id="2096" idx="0"/>
            </p:cNvCxnSpPr>
            <p:nvPr/>
          </p:nvCxnSpPr>
          <p:spPr>
            <a:xfrm>
              <a:off x="6744960" y="6033600"/>
              <a:ext cx="1561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096" name=""/>
            <p:cNvSpPr/>
            <p:nvPr/>
          </p:nvSpPr>
          <p:spPr>
            <a:xfrm flipH="1">
              <a:off x="8301960" y="5424480"/>
              <a:ext cx="468360" cy="60156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7" name=""/>
            <p:cNvCxnSpPr/>
            <p:nvPr/>
          </p:nvCxnSpPr>
          <p:spPr>
            <a:xfrm>
              <a:off x="7213320" y="5416200"/>
              <a:ext cx="1561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098" name=""/>
            <p:cNvSpPr/>
            <p:nvPr/>
          </p:nvSpPr>
          <p:spPr>
            <a:xfrm>
              <a:off x="7868160" y="5568840"/>
              <a:ext cx="462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6741360" y="5065560"/>
              <a:ext cx="468360" cy="3034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8298720" y="5065560"/>
              <a:ext cx="468360" cy="3034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1" name=""/>
            <p:cNvCxnSpPr>
              <a:stCxn id="2099" idx="0"/>
              <a:endCxn id="2102" idx="0"/>
            </p:cNvCxnSpPr>
            <p:nvPr/>
          </p:nvCxnSpPr>
          <p:spPr>
            <a:xfrm>
              <a:off x="6741720" y="5376600"/>
              <a:ext cx="1561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102" name=""/>
            <p:cNvSpPr/>
            <p:nvPr/>
          </p:nvSpPr>
          <p:spPr>
            <a:xfrm flipH="1">
              <a:off x="8301960" y="5065560"/>
              <a:ext cx="468360" cy="3034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3" name=""/>
            <p:cNvCxnSpPr/>
            <p:nvPr/>
          </p:nvCxnSpPr>
          <p:spPr>
            <a:xfrm>
              <a:off x="7213320" y="5060520"/>
              <a:ext cx="1561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104" name=""/>
            <p:cNvSpPr/>
            <p:nvPr/>
          </p:nvSpPr>
          <p:spPr>
            <a:xfrm>
              <a:off x="7868160" y="5083200"/>
              <a:ext cx="462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861520" y="4954680"/>
              <a:ext cx="7704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Packet</a:t>
              </a:r>
              <a:br>
                <a:rPr sz="1600"/>
              </a:b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DW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479520" y="2133720"/>
            <a:ext cx="2090520" cy="1249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249200" y="2133720"/>
            <a:ext cx="625680" cy="1249200"/>
          </a:xfrm>
          <a:custGeom>
            <a:avLst/>
            <a:gdLst/>
            <a:ahLst/>
            <a:rect l="l" t="t" r="r" b="b"/>
            <a:pathLst>
              <a:path w="408" h="953">
                <a:moveTo>
                  <a:pt x="0" y="0"/>
                </a:moveTo>
                <a:cubicBezTo>
                  <a:pt x="3" y="45"/>
                  <a:pt x="3" y="187"/>
                  <a:pt x="18" y="270"/>
                </a:cubicBezTo>
                <a:cubicBezTo>
                  <a:pt x="33" y="353"/>
                  <a:pt x="48" y="431"/>
                  <a:pt x="90" y="499"/>
                </a:cubicBezTo>
                <a:cubicBezTo>
                  <a:pt x="132" y="567"/>
                  <a:pt x="219" y="606"/>
                  <a:pt x="272" y="681"/>
                </a:cubicBezTo>
                <a:cubicBezTo>
                  <a:pt x="325" y="756"/>
                  <a:pt x="366" y="854"/>
                  <a:pt x="408" y="953"/>
                </a:cubicBezTo>
              </a:path>
            </a:pathLst>
          </a:custGeom>
          <a:solidFill>
            <a:srgbClr val="69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246320" y="2138400"/>
            <a:ext cx="1323720" cy="1243080"/>
          </a:xfrm>
          <a:custGeom>
            <a:avLst/>
            <a:gdLst/>
            <a:ahLst/>
            <a:rect l="l" t="t" r="r" b="b"/>
            <a:pathLst>
              <a:path w="862" h="953">
                <a:moveTo>
                  <a:pt x="0" y="0"/>
                </a:moveTo>
                <a:lnTo>
                  <a:pt x="408" y="953"/>
                </a:lnTo>
                <a:lnTo>
                  <a:pt x="862" y="953"/>
                </a:lnTo>
                <a:lnTo>
                  <a:pt x="862" y="0"/>
                </a:lnTo>
                <a:lnTo>
                  <a:pt x="0" y="0"/>
                </a:lnTo>
                <a:close/>
              </a:path>
            </a:pathLst>
          </a:custGeom>
          <a:solidFill>
            <a:srgbClr val="6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111320" y="2211480"/>
            <a:ext cx="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122480" y="2389320"/>
            <a:ext cx="21960" cy="13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150920" y="2567160"/>
            <a:ext cx="46080" cy="14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217520" y="2747880"/>
            <a:ext cx="87480" cy="11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330200" y="2892600"/>
            <a:ext cx="130320" cy="96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490760" y="3019320"/>
            <a:ext cx="110880" cy="10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617840" y="3157560"/>
            <a:ext cx="55440" cy="11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386000" y="221760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397160" y="2395440"/>
            <a:ext cx="21960" cy="14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425600" y="2575080"/>
            <a:ext cx="46080" cy="14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492200" y="2755800"/>
            <a:ext cx="106560" cy="9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20720" y="2871720"/>
            <a:ext cx="130320" cy="1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789200" y="3000240"/>
            <a:ext cx="87120" cy="13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892160" y="3164040"/>
            <a:ext cx="55800" cy="11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966960" y="2214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977760" y="2394000"/>
            <a:ext cx="22320" cy="13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006560" y="2571840"/>
            <a:ext cx="46080" cy="14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073160" y="2752560"/>
            <a:ext cx="87480" cy="11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185840" y="2897280"/>
            <a:ext cx="130320" cy="9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47840" y="3022560"/>
            <a:ext cx="109440" cy="10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473120" y="3162240"/>
            <a:ext cx="55800" cy="11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550880" y="2220840"/>
            <a:ext cx="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563840" y="2398680"/>
            <a:ext cx="20520" cy="13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590840" y="2576520"/>
            <a:ext cx="45720" cy="14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658880" y="2757600"/>
            <a:ext cx="106560" cy="10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785960" y="2874960"/>
            <a:ext cx="130320" cy="1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955880" y="3003480"/>
            <a:ext cx="87120" cy="13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057400" y="3166920"/>
            <a:ext cx="55440" cy="11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480960" y="22255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80960" y="23446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480960" y="24638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80960" y="2583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80960" y="27036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80960" y="28224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480960" y="29415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480960" y="3060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80960" y="31798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80960" y="32986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79520" y="2133720"/>
            <a:ext cx="2090520" cy="1249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2709720" y="2133720"/>
            <a:ext cx="3411720" cy="1249200"/>
            <a:chOff x="2709720" y="2133720"/>
            <a:chExt cx="3411720" cy="1249200"/>
          </a:xfrm>
        </p:grpSpPr>
        <p:sp>
          <p:nvSpPr>
            <p:cNvPr id="2149" name=""/>
            <p:cNvSpPr/>
            <p:nvPr/>
          </p:nvSpPr>
          <p:spPr>
            <a:xfrm>
              <a:off x="3405240" y="2133720"/>
              <a:ext cx="1322280" cy="1249200"/>
            </a:xfrm>
            <a:custGeom>
              <a:avLst/>
              <a:gdLst/>
              <a:ahLst/>
              <a:rect l="l" t="t" r="r" b="b"/>
              <a:pathLst>
                <a:path w="861" h="953">
                  <a:moveTo>
                    <a:pt x="408" y="0"/>
                  </a:moveTo>
                  <a:lnTo>
                    <a:pt x="861" y="0"/>
                  </a:lnTo>
                  <a:lnTo>
                    <a:pt x="861" y="953"/>
                  </a:lnTo>
                  <a:lnTo>
                    <a:pt x="0" y="953"/>
                  </a:lnTo>
                </a:path>
              </a:pathLst>
            </a:custGeom>
            <a:solidFill>
              <a:srgbClr val="99cc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404520" y="2133720"/>
              <a:ext cx="625320" cy="124920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c9e7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5489640" y="2133720"/>
              <a:ext cx="627120" cy="124920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727520" y="2133720"/>
              <a:ext cx="1393920" cy="1249200"/>
            </a:xfrm>
            <a:custGeom>
              <a:avLst/>
              <a:gdLst/>
              <a:ahLst/>
              <a:rect l="l" t="t" r="r" b="b"/>
              <a:pathLst>
                <a:path w="908" h="953">
                  <a:moveTo>
                    <a:pt x="908" y="0"/>
                  </a:moveTo>
                  <a:lnTo>
                    <a:pt x="0" y="0"/>
                  </a:lnTo>
                  <a:lnTo>
                    <a:pt x="0" y="953"/>
                  </a:lnTo>
                  <a:lnTo>
                    <a:pt x="499" y="953"/>
                  </a:ln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89640" y="223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89640" y="24163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89640" y="2593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589640" y="277164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589640" y="29512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589640" y="31291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48160" y="223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448160" y="24163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448160" y="2593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448160" y="277164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448160" y="29512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448160" y="31291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867200" y="223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867200" y="24163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867200" y="2593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867200" y="277164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867200" y="29512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67200" y="31291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006880" y="223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006880" y="24163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06880" y="2593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06880" y="277164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006880" y="29512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006880" y="3129120"/>
              <a:ext cx="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0560" y="222552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22640" y="23446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008600" y="24638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984480" y="2583000"/>
              <a:ext cx="208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948120" y="270360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70360" y="282240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10160" y="29415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91000" y="3060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511440" y="3179880"/>
              <a:ext cx="208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451320" y="32986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>
              <a:off x="3404520" y="2133720"/>
              <a:ext cx="625320" cy="124920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5492160" y="2133720"/>
              <a:ext cx="626760" cy="124920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709720" y="222084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709720" y="234468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709720" y="2462040"/>
              <a:ext cx="5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709720" y="257796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709720" y="2705040"/>
              <a:ext cx="5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709720" y="2820960"/>
              <a:ext cx="45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709720" y="294012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709720" y="3065400"/>
              <a:ext cx="16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09720" y="3178080"/>
              <a:ext cx="8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818800" y="2687760"/>
              <a:ext cx="8344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     </a:t>
              </a: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shift</a:t>
              </a:r>
              <a:br>
                <a:rPr sz="1600"/>
              </a:b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ro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6179040" y="2133720"/>
            <a:ext cx="2660040" cy="1259280"/>
            <a:chOff x="6179040" y="2133720"/>
            <a:chExt cx="2660040" cy="1259280"/>
          </a:xfrm>
        </p:grpSpPr>
        <p:sp>
          <p:nvSpPr>
            <p:cNvPr id="2200" name=""/>
            <p:cNvSpPr/>
            <p:nvPr/>
          </p:nvSpPr>
          <p:spPr>
            <a:xfrm>
              <a:off x="6179040" y="2482920"/>
              <a:ext cx="59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3366ff"/>
                  </a:solidFill>
                  <a:latin typeface="Verdana"/>
                </a:rPr>
                <a:t>DW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889680" y="2133720"/>
              <a:ext cx="507960" cy="595080"/>
            </a:xfrm>
            <a:custGeom>
              <a:avLst/>
              <a:gdLst/>
              <a:ahLst/>
              <a:rect l="l" t="t" r="r" b="b"/>
              <a:pathLst>
                <a:path w="861" h="953">
                  <a:moveTo>
                    <a:pt x="408" y="0"/>
                  </a:moveTo>
                  <a:lnTo>
                    <a:pt x="861" y="0"/>
                  </a:lnTo>
                  <a:lnTo>
                    <a:pt x="861" y="953"/>
                  </a:lnTo>
                  <a:lnTo>
                    <a:pt x="0" y="953"/>
                  </a:lnTo>
                </a:path>
              </a:pathLst>
            </a:custGeom>
            <a:solidFill>
              <a:srgbClr val="99cc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6889680" y="2133720"/>
              <a:ext cx="23976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6889680" y="2133720"/>
              <a:ext cx="23976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7689960" y="2133720"/>
              <a:ext cx="24120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397640" y="2133720"/>
              <a:ext cx="534960" cy="595080"/>
            </a:xfrm>
            <a:custGeom>
              <a:avLst/>
              <a:gdLst/>
              <a:ahLst/>
              <a:rect l="l" t="t" r="r" b="b"/>
              <a:pathLst>
                <a:path w="908" h="953">
                  <a:moveTo>
                    <a:pt x="908" y="0"/>
                  </a:moveTo>
                  <a:lnTo>
                    <a:pt x="0" y="0"/>
                  </a:lnTo>
                  <a:lnTo>
                    <a:pt x="0" y="953"/>
                  </a:lnTo>
                  <a:lnTo>
                    <a:pt x="499" y="953"/>
                  </a:ln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7691400" y="2133720"/>
              <a:ext cx="24120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6889680" y="2787480"/>
              <a:ext cx="23976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7689960" y="2787480"/>
              <a:ext cx="24120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92920" y="2133720"/>
              <a:ext cx="507960" cy="595080"/>
            </a:xfrm>
            <a:custGeom>
              <a:avLst/>
              <a:gdLst/>
              <a:ahLst/>
              <a:rect l="l" t="t" r="r" b="b"/>
              <a:pathLst>
                <a:path w="861" h="953">
                  <a:moveTo>
                    <a:pt x="408" y="0"/>
                  </a:moveTo>
                  <a:lnTo>
                    <a:pt x="861" y="0"/>
                  </a:lnTo>
                  <a:lnTo>
                    <a:pt x="861" y="953"/>
                  </a:lnTo>
                  <a:lnTo>
                    <a:pt x="0" y="9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7792200" y="2133720"/>
              <a:ext cx="24156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7792200" y="2133720"/>
              <a:ext cx="24156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8593920" y="2133720"/>
              <a:ext cx="24156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300880" y="2133720"/>
              <a:ext cx="536760" cy="595080"/>
            </a:xfrm>
            <a:custGeom>
              <a:avLst/>
              <a:gdLst/>
              <a:ahLst/>
              <a:rect l="l" t="t" r="r" b="b"/>
              <a:pathLst>
                <a:path w="908" h="953">
                  <a:moveTo>
                    <a:pt x="908" y="0"/>
                  </a:moveTo>
                  <a:lnTo>
                    <a:pt x="0" y="0"/>
                  </a:lnTo>
                  <a:lnTo>
                    <a:pt x="0" y="953"/>
                  </a:lnTo>
                  <a:lnTo>
                    <a:pt x="499" y="9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8596440" y="2133720"/>
              <a:ext cx="241200" cy="59508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5" name=""/>
            <p:cNvCxnSpPr>
              <a:stCxn id="2207" idx="0"/>
              <a:endCxn id="2216" idx="0"/>
            </p:cNvCxnSpPr>
            <p:nvPr/>
          </p:nvCxnSpPr>
          <p:spPr>
            <a:xfrm>
              <a:off x="6889680" y="3390480"/>
              <a:ext cx="80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217" name=""/>
            <p:cNvCxnSpPr>
              <a:stCxn id="2207" idx="1"/>
              <a:endCxn id="2216" idx="1"/>
            </p:cNvCxnSpPr>
            <p:nvPr/>
          </p:nvCxnSpPr>
          <p:spPr>
            <a:xfrm>
              <a:off x="7130880" y="2779200"/>
              <a:ext cx="80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216" name=""/>
            <p:cNvSpPr/>
            <p:nvPr/>
          </p:nvSpPr>
          <p:spPr>
            <a:xfrm flipH="1">
              <a:off x="7691400" y="2787480"/>
              <a:ext cx="24120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381440" y="2270160"/>
              <a:ext cx="400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265240" y="227016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65240" y="292428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7792200" y="2789280"/>
              <a:ext cx="24156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8593920" y="2789280"/>
              <a:ext cx="24156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3" name=""/>
            <p:cNvCxnSpPr>
              <a:stCxn id="2221" idx="0"/>
              <a:endCxn id="2224" idx="0"/>
            </p:cNvCxnSpPr>
            <p:nvPr/>
          </p:nvCxnSpPr>
          <p:spPr>
            <a:xfrm>
              <a:off x="7794360" y="3392280"/>
              <a:ext cx="803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225" name=""/>
            <p:cNvCxnSpPr>
              <a:stCxn id="2221" idx="1"/>
              <a:endCxn id="2224" idx="1"/>
            </p:cNvCxnSpPr>
            <p:nvPr/>
          </p:nvCxnSpPr>
          <p:spPr>
            <a:xfrm>
              <a:off x="8035560" y="2781000"/>
              <a:ext cx="803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224" name=""/>
            <p:cNvSpPr/>
            <p:nvPr/>
          </p:nvSpPr>
          <p:spPr>
            <a:xfrm flipH="1">
              <a:off x="8596440" y="2789280"/>
              <a:ext cx="241200" cy="5954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247240" y="2925720"/>
              <a:ext cx="491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191280" y="2787480"/>
              <a:ext cx="55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305920" y="2133720"/>
              <a:ext cx="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3E98-11A5-4D28-AAD3-F676BCB75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Geometry adaptive packet lifting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xed packet decomposi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block disconti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-band borrowing in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fting steps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1" name=""/>
          <p:cNvGraphicFramePr/>
          <p:nvPr/>
        </p:nvGraphicFramePr>
        <p:xfrm>
          <a:off x="6086520" y="1905120"/>
          <a:ext cx="2600280" cy="1751040"/>
        </p:xfrm>
        <a:graphic>
          <a:graphicData uri="http://schemas.openxmlformats.org/drawingml/2006/table">
            <a:tbl>
              <a:tblPr/>
              <a:tblGrid>
                <a:gridCol w="1468440"/>
                <a:gridCol w="1131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orient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ed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orrow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ed with borrow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2" name=""/>
          <p:cNvGraphicFramePr/>
          <p:nvPr/>
        </p:nvGraphicFramePr>
        <p:xfrm>
          <a:off x="6095880" y="3962520"/>
          <a:ext cx="2590920" cy="1949400"/>
        </p:xfrm>
        <a:graphic>
          <a:graphicData uri="http://schemas.openxmlformats.org/drawingml/2006/table">
            <a:tbl>
              <a:tblPr/>
              <a:tblGrid>
                <a:gridCol w="1446480"/>
                <a:gridCol w="11444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oriented deco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orrow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ed with borrow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33" name=""/>
          <p:cNvGrpSpPr/>
          <p:nvPr/>
        </p:nvGrpSpPr>
        <p:grpSpPr>
          <a:xfrm>
            <a:off x="380880" y="3217320"/>
            <a:ext cx="4648320" cy="2454120"/>
            <a:chOff x="380880" y="3217320"/>
            <a:chExt cx="4648320" cy="2454120"/>
          </a:xfrm>
        </p:grpSpPr>
        <p:sp>
          <p:nvSpPr>
            <p:cNvPr id="2234" name=""/>
            <p:cNvSpPr/>
            <p:nvPr/>
          </p:nvSpPr>
          <p:spPr>
            <a:xfrm rot="16200000">
              <a:off x="441000" y="3531600"/>
              <a:ext cx="805320" cy="925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rot="16200000">
              <a:off x="722880" y="3518280"/>
              <a:ext cx="241560" cy="9259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rot="16200000">
              <a:off x="589320" y="3386520"/>
              <a:ext cx="509760" cy="921240"/>
            </a:xfrm>
            <a:custGeom>
              <a:avLst/>
              <a:gdLst/>
              <a:ahLst/>
              <a:rect l="l" t="t" r="r" b="b"/>
              <a:pathLst>
                <a:path w="862" h="953">
                  <a:moveTo>
                    <a:pt x="0" y="0"/>
                  </a:moveTo>
                  <a:lnTo>
                    <a:pt x="408" y="953"/>
                  </a:lnTo>
                  <a:lnTo>
                    <a:pt x="862" y="953"/>
                  </a:lnTo>
                  <a:lnTo>
                    <a:pt x="8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rot="16200000">
              <a:off x="441000" y="3531600"/>
              <a:ext cx="805320" cy="92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16200000">
              <a:off x="1492560" y="3531600"/>
              <a:ext cx="805320" cy="92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16200000">
              <a:off x="722160" y="4437000"/>
              <a:ext cx="243000" cy="9259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 rot="16200000">
              <a:off x="441000" y="4451040"/>
              <a:ext cx="805320" cy="92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rot="16200000">
              <a:off x="1506600" y="4451400"/>
              <a:ext cx="805320" cy="925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6200000">
              <a:off x="3049920" y="3520800"/>
              <a:ext cx="804960" cy="9241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rot="16200000">
              <a:off x="3331800" y="3507120"/>
              <a:ext cx="241560" cy="92412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solidFill>
              <a:srgbClr val="69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rot="16200000">
              <a:off x="3198600" y="3375720"/>
              <a:ext cx="509760" cy="919440"/>
            </a:xfrm>
            <a:custGeom>
              <a:avLst/>
              <a:gdLst/>
              <a:ahLst/>
              <a:rect l="l" t="t" r="r" b="b"/>
              <a:pathLst>
                <a:path w="862" h="953">
                  <a:moveTo>
                    <a:pt x="0" y="0"/>
                  </a:moveTo>
                  <a:lnTo>
                    <a:pt x="408" y="953"/>
                  </a:lnTo>
                  <a:lnTo>
                    <a:pt x="862" y="953"/>
                  </a:lnTo>
                  <a:lnTo>
                    <a:pt x="8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rot="16200000">
              <a:off x="3049920" y="3520800"/>
              <a:ext cx="804960" cy="92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6200000">
              <a:off x="3077640" y="4679640"/>
              <a:ext cx="242640" cy="417240"/>
            </a:xfrm>
            <a:custGeom>
              <a:avLst/>
              <a:gdLst/>
              <a:ahLst/>
              <a:rect l="l" t="t" r="r" b="b"/>
              <a:pathLst>
                <a:path w="408" h="953">
                  <a:moveTo>
                    <a:pt x="0" y="0"/>
                  </a:moveTo>
                  <a:cubicBezTo>
                    <a:pt x="3" y="45"/>
                    <a:pt x="3" y="187"/>
                    <a:pt x="18" y="270"/>
                  </a:cubicBezTo>
                  <a:cubicBezTo>
                    <a:pt x="33" y="353"/>
                    <a:pt x="48" y="431"/>
                    <a:pt x="90" y="499"/>
                  </a:cubicBezTo>
                  <a:cubicBezTo>
                    <a:pt x="132" y="567"/>
                    <a:pt x="219" y="606"/>
                    <a:pt x="272" y="681"/>
                  </a:cubicBezTo>
                  <a:cubicBezTo>
                    <a:pt x="325" y="756"/>
                    <a:pt x="366" y="854"/>
                    <a:pt x="408" y="953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rot="16200000">
              <a:off x="2796480" y="4693680"/>
              <a:ext cx="805320" cy="41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rot="16200000">
              <a:off x="4115520" y="4440240"/>
              <a:ext cx="805320" cy="92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rot="16200000">
              <a:off x="3300840" y="4694400"/>
              <a:ext cx="803520" cy="41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rot="16200000">
              <a:off x="4341600" y="3743640"/>
              <a:ext cx="362160" cy="92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rot="16200000">
              <a:off x="4344840" y="3299400"/>
              <a:ext cx="362160" cy="92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rot="16200000">
              <a:off x="3389400" y="4940280"/>
              <a:ext cx="115200" cy="960120"/>
            </a:xfrm>
            <a:custGeom>
              <a:avLst/>
              <a:gdLst>
                <a:gd name="textAreaLeft" fmla="*/ 73800 w 115200"/>
                <a:gd name="textAreaRight" fmla="*/ 115560 w 115200"/>
                <a:gd name="textAreaTop" fmla="*/ 24840 h 960120"/>
                <a:gd name="textAreaBottom" fmla="*/ 935280 h 9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3" name=""/>
            <p:cNvCxnSpPr>
              <a:stCxn id="2240" idx="1"/>
              <a:endCxn id="2252" idx="1"/>
            </p:cNvCxnSpPr>
            <p:nvPr/>
          </p:nvCxnSpPr>
          <p:spPr>
            <a:xfrm flipH="1" rot="16200000">
              <a:off x="2063520" y="4103640"/>
              <a:ext cx="161640" cy="2603520"/>
            </a:xfrm>
            <a:prstGeom prst="curvedConnector5">
              <a:avLst>
                <a:gd name="adj1" fmla="val 214955"/>
                <a:gd name="adj2" fmla="val 49993"/>
                <a:gd name="adj3" fmla="val 214955"/>
              </a:avLst>
            </a:prstGeom>
            <a:ln w="19080">
              <a:solidFill>
                <a:srgbClr val="3366ff"/>
              </a:solidFill>
              <a:miter/>
              <a:headEnd len="lg" type="diamond" w="lg"/>
              <a:tailEnd len="lg" type="triangle" w="med"/>
            </a:ln>
          </p:spPr>
        </p:cxnSp>
        <p:cxnSp>
          <p:nvCxnSpPr>
            <p:cNvPr id="2254" name=""/>
            <p:cNvCxnSpPr>
              <a:stCxn id="2237" idx="1"/>
              <a:endCxn id="2252" idx="1"/>
            </p:cNvCxnSpPr>
            <p:nvPr/>
          </p:nvCxnSpPr>
          <p:spPr>
            <a:xfrm flipH="1" rot="16200000">
              <a:off x="1604160" y="3644280"/>
              <a:ext cx="1080720" cy="2603520"/>
            </a:xfrm>
            <a:prstGeom prst="curvedConnector5">
              <a:avLst>
                <a:gd name="adj1" fmla="val 117127"/>
                <a:gd name="adj2" fmla="val 49993"/>
                <a:gd name="adj3" fmla="val 117127"/>
              </a:avLst>
            </a:prstGeom>
            <a:ln w="19080">
              <a:solidFill>
                <a:srgbClr val="3366ff"/>
              </a:solidFill>
              <a:prstDash val="dash"/>
              <a:miter/>
              <a:headEnd len="lg" type="diamond" w="lg"/>
              <a:tailEnd len="lg" type="triangle" w="med"/>
            </a:ln>
          </p:spPr>
        </p:cxnSp>
        <p:sp>
          <p:nvSpPr>
            <p:cNvPr id="2255" name=""/>
            <p:cNvSpPr/>
            <p:nvPr/>
          </p:nvSpPr>
          <p:spPr>
            <a:xfrm flipV="1" rot="5400000">
              <a:off x="4491360" y="2988720"/>
              <a:ext cx="115200" cy="960480"/>
            </a:xfrm>
            <a:custGeom>
              <a:avLst/>
              <a:gdLst>
                <a:gd name="textAreaLeft" fmla="*/ 73800 w 115200"/>
                <a:gd name="textAreaRight" fmla="*/ 115560 w 115200"/>
                <a:gd name="textAreaTop" fmla="*/ 24840 h 960480"/>
                <a:gd name="textAreaBottom" fmla="*/ 93564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6" name=""/>
            <p:cNvCxnSpPr>
              <a:stCxn id="2238" idx="3"/>
              <a:endCxn id="2255" idx="1"/>
            </p:cNvCxnSpPr>
            <p:nvPr/>
          </p:nvCxnSpPr>
          <p:spPr>
            <a:xfrm flipH="1" flipV="1" rot="5400000">
              <a:off x="3131280" y="2166480"/>
              <a:ext cx="181800" cy="2654280"/>
            </a:xfrm>
            <a:prstGeom prst="curvedConnector5">
              <a:avLst>
                <a:gd name="adj1" fmla="val 202182"/>
                <a:gd name="adj2" fmla="val 50000"/>
                <a:gd name="adj3" fmla="val 202182"/>
              </a:avLst>
            </a:prstGeom>
            <a:ln w="19080">
              <a:solidFill>
                <a:srgbClr val="3366ff"/>
              </a:solidFill>
              <a:miter/>
              <a:headEnd len="lg" type="diamond" w="lg"/>
              <a:tailEnd len="lg" type="triangle" w="med"/>
            </a:ln>
          </p:spPr>
        </p:cxnSp>
        <p:cxnSp>
          <p:nvCxnSpPr>
            <p:cNvPr id="2257" name=""/>
            <p:cNvCxnSpPr>
              <a:stCxn id="2237" idx="2"/>
              <a:endCxn id="2255" idx="1"/>
            </p:cNvCxnSpPr>
            <p:nvPr/>
          </p:nvCxnSpPr>
          <p:spPr>
            <a:xfrm flipV="1">
              <a:off x="1315800" y="3403080"/>
              <a:ext cx="3233160" cy="592560"/>
            </a:xfrm>
            <a:prstGeom prst="curvedConnector5">
              <a:avLst>
                <a:gd name="adj1" fmla="val 42416"/>
                <a:gd name="adj2" fmla="val 65592"/>
                <a:gd name="adj3" fmla="val 42416"/>
              </a:avLst>
            </a:prstGeom>
            <a:ln w="19080">
              <a:solidFill>
                <a:srgbClr val="3366ff"/>
              </a:solidFill>
              <a:prstDash val="dash"/>
              <a:miter/>
              <a:headEnd len="lg" type="diamond" w="lg"/>
              <a:tailEnd len="lg" type="triangle" w="med"/>
            </a:ln>
          </p:spPr>
        </p:cxnSp>
        <p:sp>
          <p:nvSpPr>
            <p:cNvPr id="2258" name=""/>
            <p:cNvSpPr/>
            <p:nvPr/>
          </p:nvSpPr>
          <p:spPr>
            <a:xfrm>
              <a:off x="844920" y="4064760"/>
              <a:ext cx="400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873440" y="406476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26200" y="501552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856160" y="5015520"/>
              <a:ext cx="491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53840" y="4053240"/>
              <a:ext cx="400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38360" y="3674520"/>
              <a:ext cx="473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400" spc="-1" strike="noStrike">
                  <a:solidFill>
                    <a:srgbClr val="3366ff"/>
                  </a:solidFill>
                  <a:latin typeface="Verdana"/>
                </a:rPr>
                <a:t>H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960280" y="5070240"/>
              <a:ext cx="473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400" spc="-1" strike="noStrike">
                  <a:solidFill>
                    <a:srgbClr val="3366ff"/>
                  </a:solidFill>
                  <a:latin typeface="Verdana"/>
                </a:rPr>
                <a:t>LH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464360" y="5001840"/>
              <a:ext cx="491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3366ff"/>
                  </a:solidFill>
                  <a:latin typeface="Verdana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18920" y="4134960"/>
              <a:ext cx="50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400" spc="-1" strike="noStrike">
                  <a:solidFill>
                    <a:srgbClr val="3366ff"/>
                  </a:solidFill>
                  <a:latin typeface="Verdana"/>
                </a:rPr>
                <a:t>HL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444840" y="5067720"/>
              <a:ext cx="509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400" spc="-1" strike="noStrike">
                  <a:solidFill>
                    <a:srgbClr val="3366ff"/>
                  </a:solidFill>
                  <a:latin typeface="Verdana"/>
                </a:rPr>
                <a:t>L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8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664920" cy="1220760"/>
          </a:xfrm>
          <a:prstGeom prst="rect">
            <a:avLst/>
          </a:prstGeom>
          <a:ln w="0">
            <a:noFill/>
          </a:ln>
        </p:spPr>
      </p:pic>
      <p:pic>
        <p:nvPicPr>
          <p:cNvPr id="2269" name="" descr=""/>
          <p:cNvPicPr/>
          <p:nvPr/>
        </p:nvPicPr>
        <p:blipFill>
          <a:blip r:embed="rId2"/>
          <a:stretch/>
        </p:blipFill>
        <p:spPr>
          <a:xfrm>
            <a:off x="4724280" y="2220840"/>
            <a:ext cx="1220760" cy="665280"/>
          </a:xfrm>
          <a:prstGeom prst="rect">
            <a:avLst/>
          </a:prstGeom>
          <a:ln w="0">
            <a:noFill/>
          </a:ln>
        </p:spPr>
      </p:pic>
      <p:grpSp>
        <p:nvGrpSpPr>
          <p:cNvPr id="2270" name=""/>
          <p:cNvGrpSpPr/>
          <p:nvPr/>
        </p:nvGrpSpPr>
        <p:grpSpPr>
          <a:xfrm>
            <a:off x="7515360" y="3124080"/>
            <a:ext cx="637920" cy="2638440"/>
            <a:chOff x="7515360" y="3124080"/>
            <a:chExt cx="637920" cy="2638440"/>
          </a:xfrm>
        </p:grpSpPr>
        <p:sp>
          <p:nvSpPr>
            <p:cNvPr id="2271" name=""/>
            <p:cNvSpPr/>
            <p:nvPr/>
          </p:nvSpPr>
          <p:spPr>
            <a:xfrm>
              <a:off x="7543800" y="3124080"/>
              <a:ext cx="60948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515360" y="5381640"/>
              <a:ext cx="60948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756000" y="9507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77777"/>
                </a:solidFill>
                <a:latin typeface="Arial"/>
              </a:rPr>
              <a:t>(Mehrseresht &amp; Taubman – ICIP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48920" y="5686560"/>
            <a:ext cx="7431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lated schemes, without borr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77777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777777"/>
                </a:solidFill>
                <a:latin typeface="Arial"/>
              </a:rPr>
              <a:t>(Ding, Wu, Li – PCS 2004)  and  (Chang &amp; Girod – ICIP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2AFA-73E8-4642-B268-C1C39F9070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Geometry adaptive lifting</a:t>
            </a:r>
            <a:r>
              <a:rPr b="0" lang="en-AU" sz="3200" spc="-1" strike="noStrike">
                <a:solidFill>
                  <a:srgbClr val="5f5f5f"/>
                </a:solidFill>
                <a:latin typeface="Arial"/>
              </a:rPr>
              <a:t> – example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85720" y="1143000"/>
            <a:ext cx="4135680" cy="27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85720" y="3575160"/>
            <a:ext cx="413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85720" y="3247920"/>
            <a:ext cx="413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585720" y="2924280"/>
            <a:ext cx="413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85720" y="2598840"/>
            <a:ext cx="413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85720" y="2281320"/>
            <a:ext cx="413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585720" y="1957320"/>
            <a:ext cx="413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85720" y="1631880"/>
            <a:ext cx="413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85720" y="1306440"/>
            <a:ext cx="413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74760" y="1143000"/>
            <a:ext cx="144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962000" y="1143000"/>
            <a:ext cx="324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2660760" y="1143000"/>
            <a:ext cx="144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346560" y="1143000"/>
            <a:ext cx="144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037040" y="1143000"/>
            <a:ext cx="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21400" y="1143000"/>
            <a:ext cx="2880" cy="2755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85720" y="1143000"/>
            <a:ext cx="4135680" cy="275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85720" y="1143000"/>
            <a:ext cx="3240" cy="27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36400" y="389880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36400" y="35751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36400" y="324792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36400" y="292428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36400" y="25988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536400" y="2281320"/>
            <a:ext cx="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536400" y="19573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36400" y="16318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36400" y="13064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85720" y="3898800"/>
            <a:ext cx="4135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585720" y="3898440"/>
            <a:ext cx="32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1274760" y="38984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1962000" y="3898440"/>
            <a:ext cx="32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2660760" y="38984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3346560" y="38984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4037040" y="3898440"/>
            <a:ext cx="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4721400" y="3898440"/>
            <a:ext cx="288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930240" y="1573200"/>
            <a:ext cx="3448080" cy="2192400"/>
          </a:xfrm>
          <a:custGeom>
            <a:avLst/>
            <a:gdLst/>
            <a:ahLst/>
            <a:rect l="l" t="t" r="r" b="b"/>
            <a:pathLst>
              <a:path w="341" h="229">
                <a:moveTo>
                  <a:pt x="0" y="229"/>
                </a:moveTo>
                <a:lnTo>
                  <a:pt x="68" y="193"/>
                </a:lnTo>
                <a:lnTo>
                  <a:pt x="136" y="153"/>
                </a:lnTo>
                <a:lnTo>
                  <a:pt x="205" y="107"/>
                </a:lnTo>
                <a:lnTo>
                  <a:pt x="273" y="55"/>
                </a:lnTo>
                <a:lnTo>
                  <a:pt x="341" y="0"/>
                </a:lnTo>
              </a:path>
            </a:pathLst>
          </a:custGeom>
          <a:noFill/>
          <a:ln w="22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919080" y="3497400"/>
            <a:ext cx="142920" cy="87120"/>
          </a:xfrm>
          <a:custGeom>
            <a:avLst/>
            <a:gdLst/>
            <a:ahLst/>
            <a:rect l="l" t="t" r="r" b="b"/>
            <a:pathLst>
              <a:path w="67" h="43">
                <a:moveTo>
                  <a:pt x="0" y="33"/>
                </a:moveTo>
                <a:lnTo>
                  <a:pt x="62" y="0"/>
                </a:lnTo>
                <a:lnTo>
                  <a:pt x="67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120680" y="3403440"/>
            <a:ext cx="131760" cy="8604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3"/>
                </a:moveTo>
                <a:lnTo>
                  <a:pt x="58" y="0"/>
                </a:lnTo>
                <a:lnTo>
                  <a:pt x="62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314360" y="3306600"/>
            <a:ext cx="141480" cy="76320"/>
          </a:xfrm>
          <a:custGeom>
            <a:avLst/>
            <a:gdLst/>
            <a:ahLst/>
            <a:rect l="l" t="t" r="r" b="b"/>
            <a:pathLst>
              <a:path w="67" h="38">
                <a:moveTo>
                  <a:pt x="0" y="29"/>
                </a:moveTo>
                <a:lnTo>
                  <a:pt x="63" y="0"/>
                </a:lnTo>
                <a:lnTo>
                  <a:pt x="67" y="9"/>
                </a:lnTo>
                <a:lnTo>
                  <a:pt x="5" y="38"/>
                </a:lnTo>
                <a:lnTo>
                  <a:pt x="0" y="2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515960" y="3220920"/>
            <a:ext cx="100080" cy="65160"/>
          </a:xfrm>
          <a:custGeom>
            <a:avLst/>
            <a:gdLst/>
            <a:ahLst/>
            <a:rect l="l" t="t" r="r" b="b"/>
            <a:pathLst>
              <a:path w="48" h="33">
                <a:moveTo>
                  <a:pt x="0" y="24"/>
                </a:moveTo>
                <a:lnTo>
                  <a:pt x="43" y="0"/>
                </a:lnTo>
                <a:lnTo>
                  <a:pt x="48" y="9"/>
                </a:lnTo>
                <a:lnTo>
                  <a:pt x="5" y="33"/>
                </a:lnTo>
                <a:lnTo>
                  <a:pt x="0" y="2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606680" y="3201840"/>
            <a:ext cx="42840" cy="3672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10"/>
                </a:moveTo>
                <a:lnTo>
                  <a:pt x="15" y="0"/>
                </a:lnTo>
                <a:lnTo>
                  <a:pt x="20" y="10"/>
                </a:lnTo>
                <a:lnTo>
                  <a:pt x="5" y="19"/>
                </a:lnTo>
                <a:lnTo>
                  <a:pt x="0" y="1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706400" y="3086280"/>
            <a:ext cx="135000" cy="85680"/>
          </a:xfrm>
          <a:custGeom>
            <a:avLst/>
            <a:gdLst/>
            <a:ahLst/>
            <a:rect l="l" t="t" r="r" b="b"/>
            <a:pathLst>
              <a:path w="63" h="44">
                <a:moveTo>
                  <a:pt x="0" y="34"/>
                </a:moveTo>
                <a:lnTo>
                  <a:pt x="58" y="0"/>
                </a:lnTo>
                <a:lnTo>
                  <a:pt x="63" y="10"/>
                </a:lnTo>
                <a:lnTo>
                  <a:pt x="5" y="44"/>
                </a:lnTo>
                <a:lnTo>
                  <a:pt x="0" y="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1900080" y="2971800"/>
            <a:ext cx="131760" cy="8568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3"/>
                </a:moveTo>
                <a:lnTo>
                  <a:pt x="57" y="0"/>
                </a:lnTo>
                <a:lnTo>
                  <a:pt x="62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2093760" y="2846520"/>
            <a:ext cx="130320" cy="9504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39"/>
                </a:moveTo>
                <a:lnTo>
                  <a:pt x="58" y="0"/>
                </a:lnTo>
                <a:lnTo>
                  <a:pt x="62" y="10"/>
                </a:lnTo>
                <a:lnTo>
                  <a:pt x="5" y="48"/>
                </a:lnTo>
                <a:lnTo>
                  <a:pt x="0" y="3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2273400" y="2798640"/>
            <a:ext cx="33120" cy="288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5"/>
                </a:moveTo>
                <a:lnTo>
                  <a:pt x="10" y="0"/>
                </a:lnTo>
                <a:lnTo>
                  <a:pt x="15" y="10"/>
                </a:lnTo>
                <a:lnTo>
                  <a:pt x="5" y="15"/>
                </a:lnTo>
                <a:lnTo>
                  <a:pt x="0" y="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2295360" y="2733840"/>
            <a:ext cx="111240" cy="83880"/>
          </a:xfrm>
          <a:custGeom>
            <a:avLst/>
            <a:gdLst/>
            <a:ahLst/>
            <a:rect l="l" t="t" r="r" b="b"/>
            <a:pathLst>
              <a:path w="53" h="43">
                <a:moveTo>
                  <a:pt x="0" y="33"/>
                </a:moveTo>
                <a:lnTo>
                  <a:pt x="48" y="0"/>
                </a:lnTo>
                <a:lnTo>
                  <a:pt x="53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2457360" y="2606760"/>
            <a:ext cx="131760" cy="9504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39"/>
                </a:moveTo>
                <a:lnTo>
                  <a:pt x="57" y="0"/>
                </a:lnTo>
                <a:lnTo>
                  <a:pt x="62" y="10"/>
                </a:lnTo>
                <a:lnTo>
                  <a:pt x="5" y="48"/>
                </a:lnTo>
                <a:lnTo>
                  <a:pt x="0" y="3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2639880" y="2482920"/>
            <a:ext cx="122400" cy="95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8"/>
                </a:moveTo>
                <a:lnTo>
                  <a:pt x="53" y="0"/>
                </a:lnTo>
                <a:lnTo>
                  <a:pt x="58" y="10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820960" y="2359080"/>
            <a:ext cx="120600" cy="96840"/>
          </a:xfrm>
          <a:custGeom>
            <a:avLst/>
            <a:gdLst/>
            <a:ahLst/>
            <a:rect l="l" t="t" r="r" b="b"/>
            <a:pathLst>
              <a:path w="57" h="48">
                <a:moveTo>
                  <a:pt x="0" y="38"/>
                </a:moveTo>
                <a:lnTo>
                  <a:pt x="52" y="0"/>
                </a:lnTo>
                <a:lnTo>
                  <a:pt x="57" y="9"/>
                </a:lnTo>
                <a:lnTo>
                  <a:pt x="4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003480" y="2233440"/>
            <a:ext cx="122400" cy="9540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9"/>
                </a:moveTo>
                <a:lnTo>
                  <a:pt x="53" y="0"/>
                </a:lnTo>
                <a:lnTo>
                  <a:pt x="58" y="10"/>
                </a:lnTo>
                <a:lnTo>
                  <a:pt x="5" y="48"/>
                </a:lnTo>
                <a:lnTo>
                  <a:pt x="0" y="3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184560" y="2119320"/>
            <a:ext cx="122040" cy="9684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8"/>
                </a:moveTo>
                <a:lnTo>
                  <a:pt x="53" y="0"/>
                </a:lnTo>
                <a:lnTo>
                  <a:pt x="58" y="9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367080" y="1994040"/>
            <a:ext cx="120600" cy="96840"/>
          </a:xfrm>
          <a:custGeom>
            <a:avLst/>
            <a:gdLst/>
            <a:ahLst/>
            <a:rect l="l" t="t" r="r" b="b"/>
            <a:pathLst>
              <a:path w="57" h="48">
                <a:moveTo>
                  <a:pt x="0" y="39"/>
                </a:moveTo>
                <a:lnTo>
                  <a:pt x="53" y="0"/>
                </a:lnTo>
                <a:lnTo>
                  <a:pt x="57" y="10"/>
                </a:lnTo>
                <a:lnTo>
                  <a:pt x="5" y="48"/>
                </a:lnTo>
                <a:lnTo>
                  <a:pt x="0" y="3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549600" y="1870200"/>
            <a:ext cx="122400" cy="9684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8"/>
                </a:moveTo>
                <a:lnTo>
                  <a:pt x="53" y="0"/>
                </a:lnTo>
                <a:lnTo>
                  <a:pt x="58" y="9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732120" y="1744560"/>
            <a:ext cx="119160" cy="96840"/>
          </a:xfrm>
          <a:custGeom>
            <a:avLst/>
            <a:gdLst/>
            <a:ahLst/>
            <a:rect l="l" t="t" r="r" b="b"/>
            <a:pathLst>
              <a:path w="57" h="48">
                <a:moveTo>
                  <a:pt x="0" y="39"/>
                </a:moveTo>
                <a:lnTo>
                  <a:pt x="52" y="0"/>
                </a:lnTo>
                <a:lnTo>
                  <a:pt x="57" y="10"/>
                </a:lnTo>
                <a:lnTo>
                  <a:pt x="4" y="48"/>
                </a:lnTo>
                <a:lnTo>
                  <a:pt x="0" y="3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913200" y="1620720"/>
            <a:ext cx="123840" cy="9540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8"/>
                </a:moveTo>
                <a:lnTo>
                  <a:pt x="53" y="0"/>
                </a:lnTo>
                <a:lnTo>
                  <a:pt x="58" y="10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086360" y="1496880"/>
            <a:ext cx="129960" cy="9684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38"/>
                </a:moveTo>
                <a:lnTo>
                  <a:pt x="57" y="0"/>
                </a:lnTo>
                <a:lnTo>
                  <a:pt x="62" y="9"/>
                </a:lnTo>
                <a:lnTo>
                  <a:pt x="4" y="48"/>
                </a:lnTo>
                <a:lnTo>
                  <a:pt x="0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380960"/>
            <a:ext cx="111240" cy="87480"/>
          </a:xfrm>
          <a:custGeom>
            <a:avLst/>
            <a:gdLst/>
            <a:ahLst/>
            <a:rect l="l" t="t" r="r" b="b"/>
            <a:pathLst>
              <a:path w="53" h="43">
                <a:moveTo>
                  <a:pt x="0" y="34"/>
                </a:moveTo>
                <a:lnTo>
                  <a:pt x="48" y="0"/>
                </a:lnTo>
                <a:lnTo>
                  <a:pt x="53" y="10"/>
                </a:lnTo>
                <a:lnTo>
                  <a:pt x="5" y="43"/>
                </a:lnTo>
                <a:lnTo>
                  <a:pt x="0" y="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930240" y="1641600"/>
            <a:ext cx="3448080" cy="2038320"/>
          </a:xfrm>
          <a:custGeom>
            <a:avLst/>
            <a:gdLst/>
            <a:ahLst/>
            <a:rect l="l" t="t" r="r" b="b"/>
            <a:pathLst>
              <a:path w="341" h="213">
                <a:moveTo>
                  <a:pt x="0" y="213"/>
                </a:moveTo>
                <a:lnTo>
                  <a:pt x="68" y="182"/>
                </a:lnTo>
                <a:lnTo>
                  <a:pt x="136" y="144"/>
                </a:lnTo>
                <a:lnTo>
                  <a:pt x="205" y="103"/>
                </a:lnTo>
                <a:lnTo>
                  <a:pt x="273" y="55"/>
                </a:lnTo>
                <a:lnTo>
                  <a:pt x="341" y="0"/>
                </a:ln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919080" y="3316320"/>
            <a:ext cx="131760" cy="8712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3"/>
                </a:moveTo>
                <a:lnTo>
                  <a:pt x="58" y="0"/>
                </a:lnTo>
                <a:lnTo>
                  <a:pt x="62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111320" y="3220920"/>
            <a:ext cx="141120" cy="76320"/>
          </a:xfrm>
          <a:custGeom>
            <a:avLst/>
            <a:gdLst/>
            <a:ahLst/>
            <a:rect l="l" t="t" r="r" b="b"/>
            <a:pathLst>
              <a:path w="67" h="38">
                <a:moveTo>
                  <a:pt x="0" y="28"/>
                </a:moveTo>
                <a:lnTo>
                  <a:pt x="63" y="0"/>
                </a:lnTo>
                <a:lnTo>
                  <a:pt x="67" y="9"/>
                </a:lnTo>
                <a:lnTo>
                  <a:pt x="5" y="38"/>
                </a:lnTo>
                <a:lnTo>
                  <a:pt x="0" y="2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314360" y="3116160"/>
            <a:ext cx="131760" cy="856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33"/>
                </a:moveTo>
                <a:lnTo>
                  <a:pt x="58" y="0"/>
                </a:lnTo>
                <a:lnTo>
                  <a:pt x="63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506600" y="3029040"/>
            <a:ext cx="109440" cy="666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24"/>
                </a:moveTo>
                <a:lnTo>
                  <a:pt x="48" y="0"/>
                </a:lnTo>
                <a:lnTo>
                  <a:pt x="53" y="9"/>
                </a:lnTo>
                <a:lnTo>
                  <a:pt x="5" y="33"/>
                </a:lnTo>
                <a:lnTo>
                  <a:pt x="0" y="2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606680" y="3011400"/>
            <a:ext cx="42840" cy="3672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10"/>
                </a:moveTo>
                <a:lnTo>
                  <a:pt x="15" y="0"/>
                </a:lnTo>
                <a:lnTo>
                  <a:pt x="20" y="10"/>
                </a:lnTo>
                <a:lnTo>
                  <a:pt x="5" y="19"/>
                </a:lnTo>
                <a:lnTo>
                  <a:pt x="0" y="1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698480" y="2905200"/>
            <a:ext cx="142920" cy="84240"/>
          </a:xfrm>
          <a:custGeom>
            <a:avLst/>
            <a:gdLst/>
            <a:ahLst/>
            <a:rect l="l" t="t" r="r" b="b"/>
            <a:pathLst>
              <a:path w="67" h="43">
                <a:moveTo>
                  <a:pt x="0" y="34"/>
                </a:moveTo>
                <a:lnTo>
                  <a:pt x="62" y="0"/>
                </a:lnTo>
                <a:lnTo>
                  <a:pt x="67" y="10"/>
                </a:lnTo>
                <a:lnTo>
                  <a:pt x="4" y="43"/>
                </a:lnTo>
                <a:lnTo>
                  <a:pt x="0" y="3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892160" y="2789280"/>
            <a:ext cx="130320" cy="8712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3"/>
                </a:moveTo>
                <a:lnTo>
                  <a:pt x="58" y="0"/>
                </a:lnTo>
                <a:lnTo>
                  <a:pt x="62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082960" y="2674800"/>
            <a:ext cx="133200" cy="9540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38"/>
                </a:moveTo>
                <a:lnTo>
                  <a:pt x="58" y="0"/>
                </a:lnTo>
                <a:lnTo>
                  <a:pt x="63" y="10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2273400" y="2627280"/>
            <a:ext cx="3312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5"/>
                </a:moveTo>
                <a:lnTo>
                  <a:pt x="10" y="0"/>
                </a:lnTo>
                <a:lnTo>
                  <a:pt x="15" y="10"/>
                </a:lnTo>
                <a:lnTo>
                  <a:pt x="5" y="14"/>
                </a:lnTo>
                <a:lnTo>
                  <a:pt x="0" y="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295360" y="2568600"/>
            <a:ext cx="111240" cy="77760"/>
          </a:xfrm>
          <a:custGeom>
            <a:avLst/>
            <a:gdLst/>
            <a:ahLst/>
            <a:rect l="l" t="t" r="r" b="b"/>
            <a:pathLst>
              <a:path w="53" h="39">
                <a:moveTo>
                  <a:pt x="0" y="29"/>
                </a:moveTo>
                <a:lnTo>
                  <a:pt x="48" y="0"/>
                </a:lnTo>
                <a:lnTo>
                  <a:pt x="53" y="10"/>
                </a:lnTo>
                <a:lnTo>
                  <a:pt x="5" y="39"/>
                </a:lnTo>
                <a:lnTo>
                  <a:pt x="0" y="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68520" y="2463840"/>
            <a:ext cx="131760" cy="88920"/>
          </a:xfrm>
          <a:custGeom>
            <a:avLst/>
            <a:gdLst/>
            <a:ahLst/>
            <a:rect l="l" t="t" r="r" b="b"/>
            <a:pathLst>
              <a:path w="62" h="44">
                <a:moveTo>
                  <a:pt x="0" y="34"/>
                </a:moveTo>
                <a:lnTo>
                  <a:pt x="57" y="0"/>
                </a:lnTo>
                <a:lnTo>
                  <a:pt x="62" y="10"/>
                </a:lnTo>
                <a:lnTo>
                  <a:pt x="4" y="44"/>
                </a:lnTo>
                <a:lnTo>
                  <a:pt x="0" y="3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660760" y="2349360"/>
            <a:ext cx="129960" cy="8604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3"/>
                </a:moveTo>
                <a:lnTo>
                  <a:pt x="57" y="0"/>
                </a:lnTo>
                <a:lnTo>
                  <a:pt x="62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851200" y="2244600"/>
            <a:ext cx="129960" cy="8424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4"/>
                </a:moveTo>
                <a:lnTo>
                  <a:pt x="58" y="0"/>
                </a:lnTo>
                <a:lnTo>
                  <a:pt x="62" y="10"/>
                </a:lnTo>
                <a:lnTo>
                  <a:pt x="5" y="43"/>
                </a:lnTo>
                <a:lnTo>
                  <a:pt x="0" y="3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043080" y="2128680"/>
            <a:ext cx="133560" cy="95400"/>
          </a:xfrm>
          <a:custGeom>
            <a:avLst/>
            <a:gdLst/>
            <a:ahLst/>
            <a:rect l="l" t="t" r="r" b="b"/>
            <a:pathLst>
              <a:path w="63" h="48">
                <a:moveTo>
                  <a:pt x="0" y="39"/>
                </a:moveTo>
                <a:lnTo>
                  <a:pt x="58" y="0"/>
                </a:lnTo>
                <a:lnTo>
                  <a:pt x="63" y="10"/>
                </a:lnTo>
                <a:lnTo>
                  <a:pt x="5" y="48"/>
                </a:lnTo>
                <a:lnTo>
                  <a:pt x="0" y="3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235320" y="2023920"/>
            <a:ext cx="131760" cy="8604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33"/>
                </a:moveTo>
                <a:lnTo>
                  <a:pt x="58" y="0"/>
                </a:lnTo>
                <a:lnTo>
                  <a:pt x="63" y="9"/>
                </a:lnTo>
                <a:lnTo>
                  <a:pt x="5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427560" y="1909800"/>
            <a:ext cx="131760" cy="84240"/>
          </a:xfrm>
          <a:custGeom>
            <a:avLst/>
            <a:gdLst/>
            <a:ahLst/>
            <a:rect l="l" t="t" r="r" b="b"/>
            <a:pathLst>
              <a:path w="62" h="43">
                <a:moveTo>
                  <a:pt x="0" y="34"/>
                </a:moveTo>
                <a:lnTo>
                  <a:pt x="57" y="0"/>
                </a:lnTo>
                <a:lnTo>
                  <a:pt x="62" y="10"/>
                </a:lnTo>
                <a:lnTo>
                  <a:pt x="4" y="43"/>
                </a:lnTo>
                <a:lnTo>
                  <a:pt x="0" y="3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621240" y="1832040"/>
            <a:ext cx="69840" cy="55440"/>
          </a:xfrm>
          <a:custGeom>
            <a:avLst/>
            <a:gdLst/>
            <a:ahLst/>
            <a:rect l="l" t="t" r="r" b="b"/>
            <a:pathLst>
              <a:path w="33" h="28">
                <a:moveTo>
                  <a:pt x="0" y="19"/>
                </a:moveTo>
                <a:lnTo>
                  <a:pt x="29" y="0"/>
                </a:lnTo>
                <a:lnTo>
                  <a:pt x="33" y="9"/>
                </a:lnTo>
                <a:lnTo>
                  <a:pt x="5" y="28"/>
                </a:lnTo>
                <a:lnTo>
                  <a:pt x="0" y="1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3681360" y="1792440"/>
            <a:ext cx="71640" cy="5868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20"/>
                </a:moveTo>
                <a:lnTo>
                  <a:pt x="28" y="0"/>
                </a:lnTo>
                <a:lnTo>
                  <a:pt x="33" y="10"/>
                </a:lnTo>
                <a:lnTo>
                  <a:pt x="4" y="29"/>
                </a:lnTo>
                <a:lnTo>
                  <a:pt x="0" y="2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811680" y="1679400"/>
            <a:ext cx="122040" cy="95400"/>
          </a:xfrm>
          <a:custGeom>
            <a:avLst/>
            <a:gdLst/>
            <a:ahLst/>
            <a:rect l="l" t="t" r="r" b="b"/>
            <a:pathLst>
              <a:path w="58" h="48">
                <a:moveTo>
                  <a:pt x="0" y="38"/>
                </a:moveTo>
                <a:lnTo>
                  <a:pt x="53" y="0"/>
                </a:lnTo>
                <a:lnTo>
                  <a:pt x="58" y="9"/>
                </a:lnTo>
                <a:lnTo>
                  <a:pt x="5" y="48"/>
                </a:lnTo>
                <a:lnTo>
                  <a:pt x="0" y="3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994200" y="1563840"/>
            <a:ext cx="131760" cy="85680"/>
          </a:xfrm>
          <a:custGeom>
            <a:avLst/>
            <a:gdLst/>
            <a:ahLst/>
            <a:rect l="l" t="t" r="r" b="b"/>
            <a:pathLst>
              <a:path w="63" h="43">
                <a:moveTo>
                  <a:pt x="0" y="34"/>
                </a:moveTo>
                <a:lnTo>
                  <a:pt x="58" y="0"/>
                </a:lnTo>
                <a:lnTo>
                  <a:pt x="63" y="10"/>
                </a:lnTo>
                <a:lnTo>
                  <a:pt x="5" y="43"/>
                </a:lnTo>
                <a:lnTo>
                  <a:pt x="0" y="3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4186080" y="1438200"/>
            <a:ext cx="120960" cy="98640"/>
          </a:xfrm>
          <a:custGeom>
            <a:avLst/>
            <a:gdLst/>
            <a:ahLst/>
            <a:rect l="l" t="t" r="r" b="b"/>
            <a:pathLst>
              <a:path w="57" h="48">
                <a:moveTo>
                  <a:pt x="0" y="38"/>
                </a:moveTo>
                <a:lnTo>
                  <a:pt x="52" y="0"/>
                </a:lnTo>
                <a:lnTo>
                  <a:pt x="57" y="9"/>
                </a:lnTo>
                <a:lnTo>
                  <a:pt x="4" y="48"/>
                </a:lnTo>
                <a:lnTo>
                  <a:pt x="0" y="3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900000" y="3736800"/>
            <a:ext cx="60480" cy="590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14"/>
                </a:lnTo>
                <a:lnTo>
                  <a:pt x="15" y="29"/>
                </a:lnTo>
                <a:lnTo>
                  <a:pt x="0" y="14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587600" y="3390840"/>
            <a:ext cx="61920" cy="586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29" y="14"/>
                </a:lnTo>
                <a:lnTo>
                  <a:pt x="14" y="29"/>
                </a:lnTo>
                <a:lnTo>
                  <a:pt x="0" y="14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2273400" y="3011400"/>
            <a:ext cx="63360" cy="5580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14"/>
                </a:lnTo>
                <a:lnTo>
                  <a:pt x="15" y="29"/>
                </a:lnTo>
                <a:lnTo>
                  <a:pt x="0" y="14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973240" y="2568600"/>
            <a:ext cx="59040" cy="58680"/>
          </a:xfrm>
          <a:custGeom>
            <a:avLst/>
            <a:gdLst/>
            <a:ahLst/>
            <a:rect l="l" t="t" r="r" b="b"/>
            <a:pathLst>
              <a:path w="28" h="29">
                <a:moveTo>
                  <a:pt x="14" y="0"/>
                </a:moveTo>
                <a:lnTo>
                  <a:pt x="28" y="15"/>
                </a:lnTo>
                <a:lnTo>
                  <a:pt x="14" y="29"/>
                </a:lnTo>
                <a:lnTo>
                  <a:pt x="0" y="15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660840" y="2073240"/>
            <a:ext cx="60120" cy="5544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0"/>
                </a:moveTo>
                <a:lnTo>
                  <a:pt x="29" y="14"/>
                </a:lnTo>
                <a:lnTo>
                  <a:pt x="14" y="28"/>
                </a:lnTo>
                <a:lnTo>
                  <a:pt x="0" y="14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346640" y="1544760"/>
            <a:ext cx="61920" cy="56880"/>
          </a:xfrm>
          <a:custGeom>
            <a:avLst/>
            <a:gdLst/>
            <a:ahLst/>
            <a:rect l="l" t="t" r="r" b="b"/>
            <a:pathLst>
              <a:path w="29" h="28">
                <a:moveTo>
                  <a:pt x="15" y="0"/>
                </a:moveTo>
                <a:lnTo>
                  <a:pt x="29" y="14"/>
                </a:lnTo>
                <a:lnTo>
                  <a:pt x="15" y="28"/>
                </a:lnTo>
                <a:lnTo>
                  <a:pt x="0" y="14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900000" y="3548160"/>
            <a:ext cx="50760" cy="4608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587600" y="3201840"/>
            <a:ext cx="50760" cy="4608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2273400" y="2781360"/>
            <a:ext cx="52200" cy="4608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2973240" y="2301840"/>
            <a:ext cx="51120" cy="4752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660840" y="1841400"/>
            <a:ext cx="52200" cy="4608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346640" y="1362240"/>
            <a:ext cx="50760" cy="4896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900000" y="3652920"/>
            <a:ext cx="60480" cy="54000"/>
          </a:xfrm>
          <a:custGeom>
            <a:avLst/>
            <a:gdLst/>
            <a:ahLst/>
            <a:rect l="l" t="t" r="r" b="b"/>
            <a:pathLst>
              <a:path w="29" h="28">
                <a:moveTo>
                  <a:pt x="15" y="0"/>
                </a:moveTo>
                <a:lnTo>
                  <a:pt x="29" y="28"/>
                </a:lnTo>
                <a:lnTo>
                  <a:pt x="0" y="28"/>
                </a:lnTo>
                <a:lnTo>
                  <a:pt x="15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587600" y="3354480"/>
            <a:ext cx="61920" cy="586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29" y="29"/>
                </a:lnTo>
                <a:lnTo>
                  <a:pt x="0" y="29"/>
                </a:lnTo>
                <a:lnTo>
                  <a:pt x="14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2273400" y="2989440"/>
            <a:ext cx="63360" cy="586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29"/>
                </a:lnTo>
                <a:lnTo>
                  <a:pt x="0" y="29"/>
                </a:lnTo>
                <a:lnTo>
                  <a:pt x="15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973240" y="2598840"/>
            <a:ext cx="590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28" y="28"/>
                </a:lnTo>
                <a:lnTo>
                  <a:pt x="0" y="28"/>
                </a:lnTo>
                <a:lnTo>
                  <a:pt x="14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660840" y="2138400"/>
            <a:ext cx="60120" cy="572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29" y="29"/>
                </a:lnTo>
                <a:lnTo>
                  <a:pt x="0" y="29"/>
                </a:lnTo>
                <a:lnTo>
                  <a:pt x="14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346640" y="1611360"/>
            <a:ext cx="61920" cy="586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29"/>
                </a:lnTo>
                <a:lnTo>
                  <a:pt x="0" y="29"/>
                </a:lnTo>
                <a:lnTo>
                  <a:pt x="15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890640" y="3354480"/>
            <a:ext cx="90360" cy="87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900000" y="3363480"/>
            <a:ext cx="3024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930240" y="3390840"/>
            <a:ext cx="3024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900000" y="3390840"/>
            <a:ext cx="3024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930240" y="3363480"/>
            <a:ext cx="3024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1576440" y="2998800"/>
            <a:ext cx="90360" cy="87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H="1" flipV="1">
            <a:off x="1587240" y="3011040"/>
            <a:ext cx="28440" cy="2556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1616040" y="3036960"/>
            <a:ext cx="334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1587240" y="3036960"/>
            <a:ext cx="2844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1616040" y="3011040"/>
            <a:ext cx="33480" cy="2556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2266920" y="2598840"/>
            <a:ext cx="88920" cy="83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 flipV="1">
            <a:off x="2273400" y="2606760"/>
            <a:ext cx="3312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306520" y="2637000"/>
            <a:ext cx="3024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2273400" y="2637000"/>
            <a:ext cx="3312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2306520" y="2606760"/>
            <a:ext cx="3024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963880" y="2205000"/>
            <a:ext cx="90360" cy="85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H="1" flipV="1">
            <a:off x="2973240" y="2215800"/>
            <a:ext cx="3024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003480" y="2244600"/>
            <a:ext cx="2880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2973240" y="2244600"/>
            <a:ext cx="3024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3003480" y="2215800"/>
            <a:ext cx="2880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649680" y="1803240"/>
            <a:ext cx="92160" cy="84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H="1" flipV="1">
            <a:off x="3660840" y="1814040"/>
            <a:ext cx="3024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3691080" y="1841400"/>
            <a:ext cx="2988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3660840" y="1841400"/>
            <a:ext cx="30240" cy="288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3691080" y="1814040"/>
            <a:ext cx="2988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338720" y="1371600"/>
            <a:ext cx="90360" cy="85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H="1" flipV="1">
            <a:off x="4346640" y="1380960"/>
            <a:ext cx="316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4378320" y="1411200"/>
            <a:ext cx="3024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4346640" y="1411200"/>
            <a:ext cx="31680" cy="2700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4378320" y="1380960"/>
            <a:ext cx="3024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54240" y="3807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54240" y="348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54240" y="3156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54240" y="2830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54240" y="2506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54240" y="2189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54240" y="1865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54240" y="153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54240" y="1212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78768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47492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11320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85912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54816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4235760" y="39513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190400" y="3505320"/>
            <a:ext cx="325440" cy="21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685080" y="2438280"/>
            <a:ext cx="900000" cy="21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NR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93640" y="1149480"/>
            <a:ext cx="2102040" cy="111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627120" y="1265400"/>
            <a:ext cx="496800" cy="1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839880" y="1235160"/>
            <a:ext cx="61920" cy="586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15"/>
                </a:lnTo>
                <a:lnTo>
                  <a:pt x="15" y="29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166400" y="1187280"/>
            <a:ext cx="110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ntional Mall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652320" y="1525680"/>
            <a:ext cx="142920" cy="19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876240" y="1525680"/>
            <a:ext cx="141480" cy="19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1098720" y="1525680"/>
            <a:ext cx="50760" cy="19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865080" y="1506600"/>
            <a:ext cx="50760" cy="47520"/>
          </a:xfrm>
          <a:prstGeom prst="rect">
            <a:avLst/>
          </a:prstGeom>
          <a:solidFill>
            <a:srgbClr val="333399"/>
          </a:solidFill>
          <a:ln w="7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189800" y="144936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ented Mall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27120" y="1806480"/>
            <a:ext cx="496800" cy="180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839880" y="1776240"/>
            <a:ext cx="61920" cy="590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lnTo>
                  <a:pt x="29" y="29"/>
                </a:lnTo>
                <a:lnTo>
                  <a:pt x="0" y="29"/>
                </a:lnTo>
                <a:lnTo>
                  <a:pt x="15" y="0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1166040" y="1720800"/>
            <a:ext cx="97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ntional P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627120" y="2070000"/>
            <a:ext cx="142920" cy="1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851040" y="2070000"/>
            <a:ext cx="141120" cy="1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073160" y="2070000"/>
            <a:ext cx="50760" cy="1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830160" y="2039760"/>
            <a:ext cx="92160" cy="87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H="1" flipV="1">
            <a:off x="839880" y="2049480"/>
            <a:ext cx="3168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871560" y="2079720"/>
            <a:ext cx="3024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839880" y="2079720"/>
            <a:ext cx="31680" cy="284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871560" y="2049480"/>
            <a:ext cx="30240" cy="30240"/>
          </a:xfrm>
          <a:prstGeom prst="line">
            <a:avLst/>
          </a:prstGeom>
          <a:ln w="7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165680" y="19922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ented P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0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117880" cy="1736640"/>
          </a:xfrm>
          <a:prstGeom prst="rect">
            <a:avLst/>
          </a:prstGeom>
          <a:ln w="0">
            <a:noFill/>
          </a:ln>
        </p:spPr>
      </p:pic>
      <p:sp>
        <p:nvSpPr>
          <p:cNvPr id="2441" name=""/>
          <p:cNvSpPr/>
          <p:nvPr/>
        </p:nvSpPr>
        <p:spPr>
          <a:xfrm>
            <a:off x="304920" y="4191120"/>
            <a:ext cx="4038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NR of reconstruc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levels of D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s an extens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JPEG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tion modeling 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-tree with R-D pru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etric is not yet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2" name="" descr=""/>
          <p:cNvPicPr/>
          <p:nvPr/>
        </p:nvPicPr>
        <p:blipFill>
          <a:blip r:embed="rId2"/>
          <a:srcRect l="0" t="6472" r="71200" b="69351"/>
          <a:stretch/>
        </p:blipFill>
        <p:spPr>
          <a:xfrm>
            <a:off x="4800600" y="3429000"/>
            <a:ext cx="1952640" cy="1952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443" name="" descr=""/>
          <p:cNvPicPr/>
          <p:nvPr/>
        </p:nvPicPr>
        <p:blipFill>
          <a:blip r:embed="rId3"/>
          <a:srcRect l="0" t="6472" r="71200" b="69351"/>
          <a:stretch/>
        </p:blipFill>
        <p:spPr>
          <a:xfrm>
            <a:off x="6858000" y="3429000"/>
            <a:ext cx="1955880" cy="1955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444" name=""/>
          <p:cNvSpPr/>
          <p:nvPr/>
        </p:nvSpPr>
        <p:spPr>
          <a:xfrm>
            <a:off x="5179320" y="54468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onstruction at equal PS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1800-5E5A-41EA-891E-74EAA3C009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057400" y="1066680"/>
            <a:ext cx="6172200" cy="1981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2057400" y="3124080"/>
            <a:ext cx="6172200" cy="198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calable video standardization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– in JVT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133720" y="1219320"/>
            <a:ext cx="19047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ierarchical B-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572000" y="1371600"/>
            <a:ext cx="15238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predi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ra-blocks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6553080" y="1143000"/>
            <a:ext cx="15242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CT), quanti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1" name=""/>
          <p:cNvCxnSpPr>
            <a:stCxn id="2448" idx="2"/>
          </p:cNvCxnSpPr>
          <p:nvPr/>
        </p:nvCxnSpPr>
        <p:spPr>
          <a:xfrm flipH="1" rot="16200000">
            <a:off x="2875680" y="1885680"/>
            <a:ext cx="61020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2" name=""/>
          <p:cNvCxnSpPr>
            <a:stCxn id="2453" idx="0"/>
            <a:endCxn id="2449" idx="2"/>
          </p:cNvCxnSpPr>
          <p:nvPr/>
        </p:nvCxnSpPr>
        <p:spPr>
          <a:xfrm flipV="1">
            <a:off x="5333760" y="1828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4" name=""/>
          <p:cNvCxnSpPr/>
          <p:nvPr/>
        </p:nvCxnSpPr>
        <p:spPr>
          <a:xfrm>
            <a:off x="4038480" y="147924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5" name=""/>
          <p:cNvSpPr/>
          <p:nvPr/>
        </p:nvSpPr>
        <p:spPr>
          <a:xfrm>
            <a:off x="4038480" y="1187280"/>
            <a:ext cx="2514600" cy="2286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0" y="144"/>
                </a:moveTo>
                <a:lnTo>
                  <a:pt x="192" y="0"/>
                </a:lnTo>
                <a:lnTo>
                  <a:pt x="1392" y="0"/>
                </a:lnTo>
                <a:lnTo>
                  <a:pt x="158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6" name=""/>
          <p:cNvCxnSpPr/>
          <p:nvPr/>
        </p:nvCxnSpPr>
        <p:spPr>
          <a:xfrm flipV="1">
            <a:off x="6095880" y="1478880"/>
            <a:ext cx="457920" cy="1530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7" name=""/>
          <p:cNvSpPr/>
          <p:nvPr/>
        </p:nvSpPr>
        <p:spPr>
          <a:xfrm>
            <a:off x="80773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191120" y="2286000"/>
            <a:ext cx="4343400" cy="380880"/>
          </a:xfrm>
          <a:custGeom>
            <a:avLst/>
            <a:gdLst/>
            <a:ahLst/>
            <a:rect l="l" t="t" r="r" b="b"/>
            <a:pathLst>
              <a:path w="3168" h="240">
                <a:moveTo>
                  <a:pt x="0" y="0"/>
                </a:moveTo>
                <a:lnTo>
                  <a:pt x="144" y="0"/>
                </a:lnTo>
                <a:lnTo>
                  <a:pt x="144" y="240"/>
                </a:lnTo>
                <a:lnTo>
                  <a:pt x="316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2133720" y="3276720"/>
            <a:ext cx="19047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ierarchical B-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572000" y="3429000"/>
            <a:ext cx="15238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predi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ra-blocks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6553080" y="3200400"/>
            <a:ext cx="15242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CT), quanti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276720" y="3998880"/>
            <a:ext cx="914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3" name=""/>
          <p:cNvCxnSpPr>
            <a:stCxn id="2459" idx="2"/>
            <a:endCxn id="2462" idx="1"/>
          </p:cNvCxnSpPr>
          <p:nvPr/>
        </p:nvCxnSpPr>
        <p:spPr>
          <a:xfrm flipH="1" rot="16200000">
            <a:off x="2876400" y="3942360"/>
            <a:ext cx="6087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4" name=""/>
          <p:cNvCxnSpPr>
            <a:stCxn id="2465" idx="0"/>
            <a:endCxn id="2460" idx="2"/>
          </p:cNvCxnSpPr>
          <p:nvPr/>
        </p:nvCxnSpPr>
        <p:spPr>
          <a:xfrm flipV="1">
            <a:off x="5333760" y="38854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6" name=""/>
          <p:cNvCxnSpPr/>
          <p:nvPr/>
        </p:nvCxnSpPr>
        <p:spPr>
          <a:xfrm>
            <a:off x="4038480" y="353664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7" name=""/>
          <p:cNvSpPr/>
          <p:nvPr/>
        </p:nvSpPr>
        <p:spPr>
          <a:xfrm>
            <a:off x="4038480" y="3244680"/>
            <a:ext cx="2514600" cy="2286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0" y="144"/>
                </a:moveTo>
                <a:lnTo>
                  <a:pt x="192" y="0"/>
                </a:lnTo>
                <a:lnTo>
                  <a:pt x="1392" y="0"/>
                </a:lnTo>
                <a:lnTo>
                  <a:pt x="158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8" name=""/>
          <p:cNvCxnSpPr/>
          <p:nvPr/>
        </p:nvCxnSpPr>
        <p:spPr>
          <a:xfrm flipV="1">
            <a:off x="6095880" y="3536280"/>
            <a:ext cx="457920" cy="1530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9" name=""/>
          <p:cNvSpPr/>
          <p:nvPr/>
        </p:nvSpPr>
        <p:spPr>
          <a:xfrm>
            <a:off x="80773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191120" y="4343400"/>
            <a:ext cx="4343400" cy="380880"/>
          </a:xfrm>
          <a:custGeom>
            <a:avLst/>
            <a:gdLst/>
            <a:ahLst/>
            <a:rect l="l" t="t" r="r" b="b"/>
            <a:pathLst>
              <a:path w="3168" h="240">
                <a:moveTo>
                  <a:pt x="0" y="0"/>
                </a:moveTo>
                <a:lnTo>
                  <a:pt x="144" y="0"/>
                </a:lnTo>
                <a:lnTo>
                  <a:pt x="144" y="240"/>
                </a:lnTo>
                <a:lnTo>
                  <a:pt x="316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1" name=""/>
          <p:cNvCxnSpPr>
            <a:stCxn id="2462" idx="3"/>
            <a:endCxn id="2472" idx="2"/>
          </p:cNvCxnSpPr>
          <p:nvPr/>
        </p:nvCxnSpPr>
        <p:spPr>
          <a:xfrm flipH="1" flipV="1">
            <a:off x="3733560" y="2626560"/>
            <a:ext cx="457920" cy="1715400"/>
          </a:xfrm>
          <a:prstGeom prst="curvedConnector5">
            <a:avLst>
              <a:gd name="adj1" fmla="val -51691"/>
              <a:gd name="adj2" fmla="val 37762"/>
              <a:gd name="adj3" fmla="val -51691"/>
            </a:avLst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473" name=""/>
          <p:cNvSpPr/>
          <p:nvPr/>
        </p:nvSpPr>
        <p:spPr>
          <a:xfrm>
            <a:off x="2438280" y="4114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2438280" y="20574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800600" y="411480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800600" y="205740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5" name=""/>
          <p:cNvCxnSpPr>
            <a:stCxn id="2461" idx="0"/>
            <a:endCxn id="2453" idx="2"/>
          </p:cNvCxnSpPr>
          <p:nvPr/>
        </p:nvCxnSpPr>
        <p:spPr>
          <a:xfrm flipV="1" rot="16200000">
            <a:off x="5981040" y="1866240"/>
            <a:ext cx="686520" cy="19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476" name=""/>
          <p:cNvSpPr/>
          <p:nvPr/>
        </p:nvSpPr>
        <p:spPr>
          <a:xfrm>
            <a:off x="6934680" y="4673520"/>
            <a:ext cx="802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texture</a:t>
            </a:r>
            <a:br>
              <a:rPr sz="1400"/>
            </a:b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3276720" y="1941480"/>
            <a:ext cx="914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936120" y="2614680"/>
            <a:ext cx="802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texture</a:t>
            </a:r>
            <a:br>
              <a:rPr sz="1400"/>
            </a:b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850200" y="4697280"/>
            <a:ext cx="802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motion</a:t>
            </a:r>
            <a:br>
              <a:rPr sz="1400"/>
            </a:b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846960" y="2638440"/>
            <a:ext cx="802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motion</a:t>
            </a:r>
            <a:br>
              <a:rPr sz="1400"/>
            </a:b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676520" y="1447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239840" cy="9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82" name=""/>
          <p:cNvSpPr/>
          <p:nvPr/>
        </p:nvSpPr>
        <p:spPr>
          <a:xfrm>
            <a:off x="1676520" y="3505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2057400" y="5181480"/>
            <a:ext cx="61722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4191120" y="6103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rot="16200000">
            <a:off x="5893560" y="3402720"/>
            <a:ext cx="5562720" cy="433440"/>
          </a:xfrm>
          <a:prstGeom prst="rightArrow">
            <a:avLst>
              <a:gd name="adj1" fmla="val 63370"/>
              <a:gd name="adj2" fmla="val 1039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-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2133720" y="5334120"/>
            <a:ext cx="19047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r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ierarchical B-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572000" y="5486400"/>
            <a:ext cx="15238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predi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ra-blocks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8" name=""/>
          <p:cNvCxnSpPr/>
          <p:nvPr/>
        </p:nvCxnSpPr>
        <p:spPr>
          <a:xfrm>
            <a:off x="4038480" y="559404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9" name=""/>
          <p:cNvSpPr/>
          <p:nvPr/>
        </p:nvSpPr>
        <p:spPr>
          <a:xfrm>
            <a:off x="4038480" y="5302080"/>
            <a:ext cx="2514600" cy="228600"/>
          </a:xfrm>
          <a:custGeom>
            <a:avLst/>
            <a:gdLst/>
            <a:ahLst/>
            <a:rect l="l" t="t" r="r" b="b"/>
            <a:pathLst>
              <a:path w="1584" h="144">
                <a:moveTo>
                  <a:pt x="0" y="144"/>
                </a:moveTo>
                <a:lnTo>
                  <a:pt x="192" y="0"/>
                </a:lnTo>
                <a:lnTo>
                  <a:pt x="1392" y="0"/>
                </a:lnTo>
                <a:lnTo>
                  <a:pt x="158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0" name=""/>
          <p:cNvCxnSpPr/>
          <p:nvPr/>
        </p:nvCxnSpPr>
        <p:spPr>
          <a:xfrm flipV="1">
            <a:off x="6095880" y="5593680"/>
            <a:ext cx="457920" cy="1530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1" name=""/>
          <p:cNvSpPr/>
          <p:nvPr/>
        </p:nvSpPr>
        <p:spPr>
          <a:xfrm>
            <a:off x="8077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438280" y="59547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6553080" y="5257800"/>
            <a:ext cx="15242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tial transfor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CT), quanti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300480" y="5899320"/>
            <a:ext cx="914400" cy="425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5" name=""/>
          <p:cNvCxnSpPr>
            <a:stCxn id="2486" idx="2"/>
            <a:endCxn id="2494" idx="1"/>
          </p:cNvCxnSpPr>
          <p:nvPr/>
        </p:nvCxnSpPr>
        <p:spPr>
          <a:xfrm flipH="1" rot="16200000">
            <a:off x="3032280" y="5844240"/>
            <a:ext cx="32112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6" name=""/>
          <p:cNvSpPr/>
          <p:nvPr/>
        </p:nvSpPr>
        <p:spPr>
          <a:xfrm>
            <a:off x="1676520" y="55627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952960" y="609588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64 + layered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952960" y="423540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64 + layered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952960" y="220968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64 + layered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0" name=""/>
          <p:cNvCxnSpPr>
            <a:stCxn id="2494" idx="3"/>
            <a:endCxn id="2462" idx="2"/>
          </p:cNvCxnSpPr>
          <p:nvPr/>
        </p:nvCxnSpPr>
        <p:spPr>
          <a:xfrm flipH="1" flipV="1">
            <a:off x="3733560" y="4684320"/>
            <a:ext cx="481680" cy="1427760"/>
          </a:xfrm>
          <a:prstGeom prst="curvedConnector5">
            <a:avLst>
              <a:gd name="adj1" fmla="val -47494"/>
              <a:gd name="adj2" fmla="val 28751"/>
              <a:gd name="adj3" fmla="val -47494"/>
            </a:avLst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93" idx="0"/>
            <a:endCxn id="2465" idx="2"/>
          </p:cNvCxnSpPr>
          <p:nvPr/>
        </p:nvCxnSpPr>
        <p:spPr>
          <a:xfrm flipV="1" rot="16200000">
            <a:off x="5981040" y="3923640"/>
            <a:ext cx="686520" cy="19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grpSp>
        <p:nvGrpSpPr>
          <p:cNvPr id="2502" name=""/>
          <p:cNvGrpSpPr/>
          <p:nvPr/>
        </p:nvGrpSpPr>
        <p:grpSpPr>
          <a:xfrm>
            <a:off x="820800" y="2004480"/>
            <a:ext cx="911160" cy="3744000"/>
            <a:chOff x="820800" y="2004480"/>
            <a:chExt cx="911160" cy="3744000"/>
          </a:xfrm>
        </p:grpSpPr>
        <p:pic>
          <p:nvPicPr>
            <p:cNvPr id="2503" name="" descr="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782640" cy="5857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504" name="" descr=""/>
            <p:cNvPicPr/>
            <p:nvPr/>
          </p:nvPicPr>
          <p:blipFill>
            <a:blip r:embed="rId3"/>
            <a:stretch/>
          </p:blipFill>
          <p:spPr>
            <a:xfrm>
              <a:off x="1143000" y="5334120"/>
              <a:ext cx="554040" cy="4143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505" name=""/>
            <p:cNvSpPr/>
            <p:nvPr/>
          </p:nvSpPr>
          <p:spPr>
            <a:xfrm>
              <a:off x="820800" y="2362320"/>
              <a:ext cx="76176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er &amp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969840" y="4327560"/>
              <a:ext cx="76212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er &amp;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7" name=""/>
            <p:cNvCxnSpPr>
              <a:stCxn id="2481" idx="2"/>
              <a:endCxn id="2505" idx="0"/>
            </p:cNvCxnSpPr>
            <p:nvPr/>
          </p:nvCxnSpPr>
          <p:spPr>
            <a:xfrm flipH="1" rot="16200000">
              <a:off x="960840" y="2121120"/>
              <a:ext cx="358200" cy="124560"/>
            </a:xfrm>
            <a:prstGeom prst="curvedConnector5">
              <a:avLst>
                <a:gd name="adj1" fmla="val 48390"/>
                <a:gd name="adj2" fmla="val 49855"/>
                <a:gd name="adj3" fmla="val 48390"/>
              </a:avLst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2508" name=""/>
            <p:cNvCxnSpPr>
              <a:stCxn id="2505" idx="2"/>
              <a:endCxn id="2503" idx="0"/>
            </p:cNvCxnSpPr>
            <p:nvPr/>
          </p:nvCxnSpPr>
          <p:spPr>
            <a:xfrm flipH="1" rot="16200000">
              <a:off x="1067400" y="2952720"/>
              <a:ext cx="372240" cy="105480"/>
            </a:xfrm>
            <a:prstGeom prst="curvedConnector5">
              <a:avLst>
                <a:gd name="adj1" fmla="val 51210"/>
                <a:gd name="adj2" fmla="val 50000"/>
                <a:gd name="adj3" fmla="val 51210"/>
              </a:avLst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2509" name=""/>
            <p:cNvCxnSpPr>
              <a:stCxn id="2503" idx="2"/>
              <a:endCxn id="2506" idx="0"/>
            </p:cNvCxnSpPr>
            <p:nvPr/>
          </p:nvCxnSpPr>
          <p:spPr>
            <a:xfrm flipH="1" rot="16200000">
              <a:off x="1062720" y="4038840"/>
              <a:ext cx="532440" cy="45360"/>
            </a:xfrm>
            <a:prstGeom prst="curvedConnector5">
              <a:avLst>
                <a:gd name="adj1" fmla="val 48917"/>
                <a:gd name="adj2" fmla="val 49600"/>
                <a:gd name="adj3" fmla="val 48917"/>
              </a:avLst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2510" name=""/>
            <p:cNvCxnSpPr>
              <a:stCxn id="2506" idx="2"/>
              <a:endCxn id="2504" idx="0"/>
            </p:cNvCxnSpPr>
            <p:nvPr/>
          </p:nvCxnSpPr>
          <p:spPr>
            <a:xfrm flipH="1" rot="16200000">
              <a:off x="1116000" y="5019480"/>
              <a:ext cx="540360" cy="70200"/>
            </a:xfrm>
            <a:prstGeom prst="curvedConnector5">
              <a:avLst>
                <a:gd name="adj1" fmla="val 50866"/>
                <a:gd name="adj2" fmla="val 50000"/>
                <a:gd name="adj3" fmla="val 50866"/>
              </a:avLst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79E7-7EBA-44BA-9B2D-618F922F28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calable video standardization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– status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formance indic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achieve roughly comparable performance to non-scalable H.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th careful encoder optimizatio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ts of prediction (notionally open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od adaptation of the prediction strengths in H.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t, remember that prediction alone is sub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seems to be mi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tra lifting steps for noise shaping &amp;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tter adapted motio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grated spatial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D0C3-457F-4B15-B4F1-E042E66601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"/>
          <p:cNvSpPr/>
          <p:nvPr/>
        </p:nvSpPr>
        <p:spPr>
          <a:xfrm>
            <a:off x="4038480" y="1219320"/>
            <a:ext cx="480060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patial aliasing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– in wavelet transforms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39360" y="3252960"/>
            <a:ext cx="293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Analysis filter responses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popular 9/7 wavelet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4048200" y="2046240"/>
                <a:ext cx="4782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7" name=""/>
          <p:cNvSpPr/>
          <p:nvPr/>
        </p:nvSpPr>
        <p:spPr>
          <a:xfrm>
            <a:off x="4041360" y="1222200"/>
            <a:ext cx="3449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undamental constraint:</a:t>
            </a:r>
            <a:br>
              <a:rPr sz="2400"/>
            </a:br>
            <a:r>
              <a:rPr b="0" i="1" lang="en-AU" sz="2000" spc="-1" strike="noStrike">
                <a:solidFill>
                  <a:srgbClr val="5f5f5f"/>
                </a:solidFill>
                <a:latin typeface="Arial"/>
              </a:rPr>
              <a:t>(for perfect re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rot="16200000">
            <a:off x="4762440" y="188532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4041720" y="26478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Arial"/>
              </a:rPr>
              <a:t>half-ban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2109960" y="1218960"/>
            <a:ext cx="1440" cy="188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23800" y="3106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392040" y="2955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80880" y="1320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3551400" y="3129120"/>
                <a:ext cx="25848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3084480" y="3127320"/>
                <a:ext cx="2826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1825560" y="3100320"/>
                <a:ext cx="5637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7" name=""/>
          <p:cNvSpPr/>
          <p:nvPr/>
        </p:nvSpPr>
        <p:spPr>
          <a:xfrm>
            <a:off x="544680" y="1387440"/>
            <a:ext cx="3130560" cy="1714680"/>
          </a:xfrm>
          <a:custGeom>
            <a:avLst/>
            <a:gdLst/>
            <a:ahLst/>
            <a:rect l="l" t="t" r="r" b="b"/>
            <a:pathLst>
              <a:path w="3021" h="1700">
                <a:moveTo>
                  <a:pt x="0" y="0"/>
                </a:moveTo>
                <a:lnTo>
                  <a:pt x="29" y="0"/>
                </a:lnTo>
                <a:lnTo>
                  <a:pt x="58" y="0"/>
                </a:lnTo>
                <a:lnTo>
                  <a:pt x="93" y="6"/>
                </a:lnTo>
                <a:lnTo>
                  <a:pt x="122" y="6"/>
                </a:lnTo>
                <a:lnTo>
                  <a:pt x="151" y="12"/>
                </a:lnTo>
                <a:lnTo>
                  <a:pt x="180" y="12"/>
                </a:lnTo>
                <a:lnTo>
                  <a:pt x="209" y="18"/>
                </a:lnTo>
                <a:lnTo>
                  <a:pt x="244" y="23"/>
                </a:lnTo>
                <a:lnTo>
                  <a:pt x="273" y="29"/>
                </a:lnTo>
                <a:lnTo>
                  <a:pt x="302" y="35"/>
                </a:lnTo>
                <a:lnTo>
                  <a:pt x="331" y="41"/>
                </a:lnTo>
                <a:lnTo>
                  <a:pt x="360" y="47"/>
                </a:lnTo>
                <a:lnTo>
                  <a:pt x="395" y="52"/>
                </a:lnTo>
                <a:lnTo>
                  <a:pt x="424" y="58"/>
                </a:lnTo>
                <a:lnTo>
                  <a:pt x="453" y="58"/>
                </a:lnTo>
                <a:lnTo>
                  <a:pt x="482" y="64"/>
                </a:lnTo>
                <a:lnTo>
                  <a:pt x="511" y="70"/>
                </a:lnTo>
                <a:lnTo>
                  <a:pt x="546" y="76"/>
                </a:lnTo>
                <a:lnTo>
                  <a:pt x="575" y="76"/>
                </a:lnTo>
                <a:lnTo>
                  <a:pt x="604" y="81"/>
                </a:lnTo>
                <a:lnTo>
                  <a:pt x="633" y="81"/>
                </a:lnTo>
                <a:lnTo>
                  <a:pt x="662" y="81"/>
                </a:lnTo>
                <a:lnTo>
                  <a:pt x="697" y="87"/>
                </a:lnTo>
                <a:lnTo>
                  <a:pt x="726" y="87"/>
                </a:lnTo>
                <a:lnTo>
                  <a:pt x="755" y="87"/>
                </a:lnTo>
                <a:lnTo>
                  <a:pt x="784" y="81"/>
                </a:lnTo>
                <a:lnTo>
                  <a:pt x="813" y="81"/>
                </a:lnTo>
                <a:lnTo>
                  <a:pt x="848" y="81"/>
                </a:lnTo>
                <a:lnTo>
                  <a:pt x="877" y="81"/>
                </a:lnTo>
                <a:lnTo>
                  <a:pt x="906" y="81"/>
                </a:lnTo>
                <a:lnTo>
                  <a:pt x="935" y="76"/>
                </a:lnTo>
                <a:lnTo>
                  <a:pt x="964" y="76"/>
                </a:lnTo>
                <a:lnTo>
                  <a:pt x="999" y="76"/>
                </a:lnTo>
                <a:lnTo>
                  <a:pt x="1028" y="76"/>
                </a:lnTo>
                <a:lnTo>
                  <a:pt x="1057" y="81"/>
                </a:lnTo>
                <a:lnTo>
                  <a:pt x="1086" y="81"/>
                </a:lnTo>
                <a:lnTo>
                  <a:pt x="1115" y="87"/>
                </a:lnTo>
                <a:lnTo>
                  <a:pt x="1150" y="93"/>
                </a:lnTo>
                <a:lnTo>
                  <a:pt x="1179" y="99"/>
                </a:lnTo>
                <a:lnTo>
                  <a:pt x="1208" y="105"/>
                </a:lnTo>
                <a:lnTo>
                  <a:pt x="1237" y="116"/>
                </a:lnTo>
                <a:lnTo>
                  <a:pt x="1266" y="128"/>
                </a:lnTo>
                <a:lnTo>
                  <a:pt x="1301" y="145"/>
                </a:lnTo>
                <a:lnTo>
                  <a:pt x="1330" y="163"/>
                </a:lnTo>
                <a:lnTo>
                  <a:pt x="1359" y="180"/>
                </a:lnTo>
                <a:lnTo>
                  <a:pt x="1388" y="203"/>
                </a:lnTo>
                <a:lnTo>
                  <a:pt x="1417" y="227"/>
                </a:lnTo>
                <a:lnTo>
                  <a:pt x="1452" y="256"/>
                </a:lnTo>
                <a:lnTo>
                  <a:pt x="1481" y="285"/>
                </a:lnTo>
                <a:lnTo>
                  <a:pt x="1510" y="319"/>
                </a:lnTo>
                <a:lnTo>
                  <a:pt x="1539" y="354"/>
                </a:lnTo>
                <a:lnTo>
                  <a:pt x="1569" y="389"/>
                </a:lnTo>
                <a:lnTo>
                  <a:pt x="1603" y="430"/>
                </a:lnTo>
                <a:lnTo>
                  <a:pt x="1632" y="476"/>
                </a:lnTo>
                <a:lnTo>
                  <a:pt x="1662" y="517"/>
                </a:lnTo>
                <a:lnTo>
                  <a:pt x="1691" y="563"/>
                </a:lnTo>
                <a:lnTo>
                  <a:pt x="1720" y="609"/>
                </a:lnTo>
                <a:lnTo>
                  <a:pt x="1754" y="662"/>
                </a:lnTo>
                <a:lnTo>
                  <a:pt x="1784" y="708"/>
                </a:lnTo>
                <a:lnTo>
                  <a:pt x="1813" y="760"/>
                </a:lnTo>
                <a:lnTo>
                  <a:pt x="1842" y="812"/>
                </a:lnTo>
                <a:lnTo>
                  <a:pt x="1871" y="865"/>
                </a:lnTo>
                <a:lnTo>
                  <a:pt x="1906" y="911"/>
                </a:lnTo>
                <a:lnTo>
                  <a:pt x="1935" y="963"/>
                </a:lnTo>
                <a:lnTo>
                  <a:pt x="1964" y="1016"/>
                </a:lnTo>
                <a:lnTo>
                  <a:pt x="1993" y="1068"/>
                </a:lnTo>
                <a:lnTo>
                  <a:pt x="2022" y="1114"/>
                </a:lnTo>
                <a:lnTo>
                  <a:pt x="2057" y="1161"/>
                </a:lnTo>
                <a:lnTo>
                  <a:pt x="2086" y="1207"/>
                </a:lnTo>
                <a:lnTo>
                  <a:pt x="2115" y="1253"/>
                </a:lnTo>
                <a:lnTo>
                  <a:pt x="2144" y="1300"/>
                </a:lnTo>
                <a:lnTo>
                  <a:pt x="2173" y="1340"/>
                </a:lnTo>
                <a:lnTo>
                  <a:pt x="2208" y="1375"/>
                </a:lnTo>
                <a:lnTo>
                  <a:pt x="2237" y="1416"/>
                </a:lnTo>
                <a:lnTo>
                  <a:pt x="2266" y="1451"/>
                </a:lnTo>
                <a:lnTo>
                  <a:pt x="2295" y="1480"/>
                </a:lnTo>
                <a:lnTo>
                  <a:pt x="2324" y="1509"/>
                </a:lnTo>
                <a:lnTo>
                  <a:pt x="2359" y="1538"/>
                </a:lnTo>
                <a:lnTo>
                  <a:pt x="2388" y="1561"/>
                </a:lnTo>
                <a:lnTo>
                  <a:pt x="2417" y="1584"/>
                </a:lnTo>
                <a:lnTo>
                  <a:pt x="2446" y="1601"/>
                </a:lnTo>
                <a:lnTo>
                  <a:pt x="2475" y="1619"/>
                </a:lnTo>
                <a:lnTo>
                  <a:pt x="2510" y="1636"/>
                </a:lnTo>
                <a:lnTo>
                  <a:pt x="2539" y="1648"/>
                </a:lnTo>
                <a:lnTo>
                  <a:pt x="2568" y="1660"/>
                </a:lnTo>
                <a:lnTo>
                  <a:pt x="2597" y="1671"/>
                </a:lnTo>
                <a:lnTo>
                  <a:pt x="2626" y="1677"/>
                </a:lnTo>
                <a:lnTo>
                  <a:pt x="2661" y="1683"/>
                </a:lnTo>
                <a:lnTo>
                  <a:pt x="2690" y="1689"/>
                </a:lnTo>
                <a:lnTo>
                  <a:pt x="2719" y="1689"/>
                </a:lnTo>
                <a:lnTo>
                  <a:pt x="2748" y="1694"/>
                </a:lnTo>
                <a:lnTo>
                  <a:pt x="2777" y="1694"/>
                </a:lnTo>
                <a:lnTo>
                  <a:pt x="2812" y="1700"/>
                </a:lnTo>
                <a:lnTo>
                  <a:pt x="2841" y="1700"/>
                </a:lnTo>
                <a:lnTo>
                  <a:pt x="2870" y="1700"/>
                </a:lnTo>
                <a:lnTo>
                  <a:pt x="2899" y="1700"/>
                </a:lnTo>
                <a:lnTo>
                  <a:pt x="2928" y="1700"/>
                </a:lnTo>
                <a:lnTo>
                  <a:pt x="2963" y="1700"/>
                </a:lnTo>
                <a:lnTo>
                  <a:pt x="2992" y="1700"/>
                </a:lnTo>
                <a:lnTo>
                  <a:pt x="3021" y="1700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835200" y="1797120"/>
                <a:ext cx="728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529" name=""/>
          <p:cNvCxnSpPr>
            <a:endCxn id="2527" idx="0"/>
          </p:cNvCxnSpPr>
          <p:nvPr/>
        </p:nvCxnSpPr>
        <p:spPr>
          <a:xfrm flipH="1" flipV="1" rot="5400000">
            <a:off x="1157040" y="1501200"/>
            <a:ext cx="337320" cy="254880"/>
          </a:xfrm>
          <a:prstGeom prst="curvedConnector5">
            <a:avLst>
              <a:gd name="adj1" fmla="val 47970"/>
              <a:gd name="adj2" fmla="val 49929"/>
              <a:gd name="adj3" fmla="val 4797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30" name=""/>
          <p:cNvGrpSpPr/>
          <p:nvPr/>
        </p:nvGrpSpPr>
        <p:grpSpPr>
          <a:xfrm>
            <a:off x="544680" y="1228680"/>
            <a:ext cx="3130560" cy="1873440"/>
            <a:chOff x="544680" y="1228680"/>
            <a:chExt cx="3130560" cy="1873440"/>
          </a:xfrm>
        </p:grpSpPr>
        <p:sp>
          <p:nvSpPr>
            <p:cNvPr id="2531" name=""/>
            <p:cNvSpPr/>
            <p:nvPr/>
          </p:nvSpPr>
          <p:spPr>
            <a:xfrm>
              <a:off x="544680" y="1228680"/>
              <a:ext cx="3130560" cy="1873440"/>
            </a:xfrm>
            <a:custGeom>
              <a:avLst/>
              <a:gdLst/>
              <a:ahLst/>
              <a:rect l="l" t="t" r="r" b="b"/>
              <a:pathLst>
                <a:path w="520" h="410">
                  <a:moveTo>
                    <a:pt x="0" y="410"/>
                  </a:moveTo>
                  <a:lnTo>
                    <a:pt x="520" y="410"/>
                  </a:lnTo>
                  <a:lnTo>
                    <a:pt x="5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544680" y="1228680"/>
              <a:ext cx="1080" cy="18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"/>
          <p:cNvSpPr/>
          <p:nvPr/>
        </p:nvSpPr>
        <p:spPr>
          <a:xfrm flipH="1">
            <a:off x="534960" y="1306440"/>
            <a:ext cx="3130560" cy="1790640"/>
          </a:xfrm>
          <a:custGeom>
            <a:avLst/>
            <a:gdLst/>
            <a:ahLst/>
            <a:rect l="l" t="t" r="r" b="b"/>
            <a:pathLst>
              <a:path w="3021" h="1775">
                <a:moveTo>
                  <a:pt x="0" y="1775"/>
                </a:moveTo>
                <a:lnTo>
                  <a:pt x="29" y="1775"/>
                </a:lnTo>
                <a:lnTo>
                  <a:pt x="58" y="1775"/>
                </a:lnTo>
                <a:lnTo>
                  <a:pt x="93" y="1775"/>
                </a:lnTo>
                <a:lnTo>
                  <a:pt x="122" y="1775"/>
                </a:lnTo>
                <a:lnTo>
                  <a:pt x="151" y="1775"/>
                </a:lnTo>
                <a:lnTo>
                  <a:pt x="180" y="1775"/>
                </a:lnTo>
                <a:lnTo>
                  <a:pt x="209" y="1775"/>
                </a:lnTo>
                <a:lnTo>
                  <a:pt x="244" y="1775"/>
                </a:lnTo>
                <a:lnTo>
                  <a:pt x="273" y="1775"/>
                </a:lnTo>
                <a:lnTo>
                  <a:pt x="302" y="1769"/>
                </a:lnTo>
                <a:lnTo>
                  <a:pt x="331" y="1769"/>
                </a:lnTo>
                <a:lnTo>
                  <a:pt x="360" y="1769"/>
                </a:lnTo>
                <a:lnTo>
                  <a:pt x="395" y="1764"/>
                </a:lnTo>
                <a:lnTo>
                  <a:pt x="424" y="1764"/>
                </a:lnTo>
                <a:lnTo>
                  <a:pt x="453" y="1758"/>
                </a:lnTo>
                <a:lnTo>
                  <a:pt x="482" y="1752"/>
                </a:lnTo>
                <a:lnTo>
                  <a:pt x="511" y="1746"/>
                </a:lnTo>
                <a:lnTo>
                  <a:pt x="546" y="1735"/>
                </a:lnTo>
                <a:lnTo>
                  <a:pt x="575" y="1729"/>
                </a:lnTo>
                <a:lnTo>
                  <a:pt x="604" y="1717"/>
                </a:lnTo>
                <a:lnTo>
                  <a:pt x="633" y="1705"/>
                </a:lnTo>
                <a:lnTo>
                  <a:pt x="662" y="1694"/>
                </a:lnTo>
                <a:lnTo>
                  <a:pt x="697" y="1682"/>
                </a:lnTo>
                <a:lnTo>
                  <a:pt x="726" y="1665"/>
                </a:lnTo>
                <a:lnTo>
                  <a:pt x="755" y="1647"/>
                </a:lnTo>
                <a:lnTo>
                  <a:pt x="784" y="1630"/>
                </a:lnTo>
                <a:lnTo>
                  <a:pt x="813" y="1607"/>
                </a:lnTo>
                <a:lnTo>
                  <a:pt x="848" y="1584"/>
                </a:lnTo>
                <a:lnTo>
                  <a:pt x="877" y="1560"/>
                </a:lnTo>
                <a:lnTo>
                  <a:pt x="906" y="1537"/>
                </a:lnTo>
                <a:lnTo>
                  <a:pt x="935" y="1508"/>
                </a:lnTo>
                <a:lnTo>
                  <a:pt x="964" y="1479"/>
                </a:lnTo>
                <a:lnTo>
                  <a:pt x="999" y="1444"/>
                </a:lnTo>
                <a:lnTo>
                  <a:pt x="1028" y="1415"/>
                </a:lnTo>
                <a:lnTo>
                  <a:pt x="1057" y="1381"/>
                </a:lnTo>
                <a:lnTo>
                  <a:pt x="1086" y="1340"/>
                </a:lnTo>
                <a:lnTo>
                  <a:pt x="1115" y="1305"/>
                </a:lnTo>
                <a:lnTo>
                  <a:pt x="1150" y="1265"/>
                </a:lnTo>
                <a:lnTo>
                  <a:pt x="1179" y="1224"/>
                </a:lnTo>
                <a:lnTo>
                  <a:pt x="1208" y="1183"/>
                </a:lnTo>
                <a:lnTo>
                  <a:pt x="1237" y="1143"/>
                </a:lnTo>
                <a:lnTo>
                  <a:pt x="1266" y="1096"/>
                </a:lnTo>
                <a:lnTo>
                  <a:pt x="1301" y="1056"/>
                </a:lnTo>
                <a:lnTo>
                  <a:pt x="1330" y="1009"/>
                </a:lnTo>
                <a:lnTo>
                  <a:pt x="1359" y="963"/>
                </a:lnTo>
                <a:lnTo>
                  <a:pt x="1388" y="916"/>
                </a:lnTo>
                <a:lnTo>
                  <a:pt x="1417" y="870"/>
                </a:lnTo>
                <a:lnTo>
                  <a:pt x="1452" y="824"/>
                </a:lnTo>
                <a:lnTo>
                  <a:pt x="1481" y="777"/>
                </a:lnTo>
                <a:lnTo>
                  <a:pt x="1510" y="731"/>
                </a:lnTo>
                <a:lnTo>
                  <a:pt x="1539" y="684"/>
                </a:lnTo>
                <a:lnTo>
                  <a:pt x="1569" y="638"/>
                </a:lnTo>
                <a:lnTo>
                  <a:pt x="1603" y="592"/>
                </a:lnTo>
                <a:lnTo>
                  <a:pt x="1632" y="551"/>
                </a:lnTo>
                <a:lnTo>
                  <a:pt x="1662" y="510"/>
                </a:lnTo>
                <a:lnTo>
                  <a:pt x="1691" y="464"/>
                </a:lnTo>
                <a:lnTo>
                  <a:pt x="1720" y="423"/>
                </a:lnTo>
                <a:lnTo>
                  <a:pt x="1754" y="389"/>
                </a:lnTo>
                <a:lnTo>
                  <a:pt x="1784" y="348"/>
                </a:lnTo>
                <a:lnTo>
                  <a:pt x="1813" y="313"/>
                </a:lnTo>
                <a:lnTo>
                  <a:pt x="1842" y="278"/>
                </a:lnTo>
                <a:lnTo>
                  <a:pt x="1871" y="249"/>
                </a:lnTo>
                <a:lnTo>
                  <a:pt x="1906" y="214"/>
                </a:lnTo>
                <a:lnTo>
                  <a:pt x="1935" y="191"/>
                </a:lnTo>
                <a:lnTo>
                  <a:pt x="1964" y="162"/>
                </a:lnTo>
                <a:lnTo>
                  <a:pt x="1993" y="139"/>
                </a:lnTo>
                <a:lnTo>
                  <a:pt x="2022" y="116"/>
                </a:lnTo>
                <a:lnTo>
                  <a:pt x="2057" y="93"/>
                </a:lnTo>
                <a:lnTo>
                  <a:pt x="2086" y="75"/>
                </a:lnTo>
                <a:lnTo>
                  <a:pt x="2115" y="58"/>
                </a:lnTo>
                <a:lnTo>
                  <a:pt x="2144" y="46"/>
                </a:lnTo>
                <a:lnTo>
                  <a:pt x="2173" y="35"/>
                </a:lnTo>
                <a:lnTo>
                  <a:pt x="2208" y="23"/>
                </a:lnTo>
                <a:lnTo>
                  <a:pt x="2237" y="17"/>
                </a:lnTo>
                <a:lnTo>
                  <a:pt x="2266" y="6"/>
                </a:lnTo>
                <a:lnTo>
                  <a:pt x="2295" y="6"/>
                </a:lnTo>
                <a:lnTo>
                  <a:pt x="2324" y="0"/>
                </a:lnTo>
                <a:lnTo>
                  <a:pt x="2359" y="0"/>
                </a:lnTo>
                <a:lnTo>
                  <a:pt x="2388" y="0"/>
                </a:lnTo>
                <a:lnTo>
                  <a:pt x="2417" y="0"/>
                </a:lnTo>
                <a:lnTo>
                  <a:pt x="2446" y="0"/>
                </a:lnTo>
                <a:lnTo>
                  <a:pt x="2475" y="0"/>
                </a:lnTo>
                <a:lnTo>
                  <a:pt x="2510" y="6"/>
                </a:lnTo>
                <a:lnTo>
                  <a:pt x="2539" y="11"/>
                </a:lnTo>
                <a:lnTo>
                  <a:pt x="2568" y="11"/>
                </a:lnTo>
                <a:lnTo>
                  <a:pt x="2597" y="17"/>
                </a:lnTo>
                <a:lnTo>
                  <a:pt x="2626" y="23"/>
                </a:lnTo>
                <a:lnTo>
                  <a:pt x="2661" y="29"/>
                </a:lnTo>
                <a:lnTo>
                  <a:pt x="2690" y="35"/>
                </a:lnTo>
                <a:lnTo>
                  <a:pt x="2719" y="40"/>
                </a:lnTo>
                <a:lnTo>
                  <a:pt x="2748" y="46"/>
                </a:lnTo>
                <a:lnTo>
                  <a:pt x="2777" y="52"/>
                </a:lnTo>
                <a:lnTo>
                  <a:pt x="2812" y="58"/>
                </a:lnTo>
                <a:lnTo>
                  <a:pt x="2841" y="64"/>
                </a:lnTo>
                <a:lnTo>
                  <a:pt x="2870" y="64"/>
                </a:lnTo>
                <a:lnTo>
                  <a:pt x="2899" y="69"/>
                </a:lnTo>
                <a:lnTo>
                  <a:pt x="2928" y="69"/>
                </a:lnTo>
                <a:lnTo>
                  <a:pt x="2963" y="75"/>
                </a:lnTo>
                <a:lnTo>
                  <a:pt x="2992" y="75"/>
                </a:lnTo>
                <a:lnTo>
                  <a:pt x="3021" y="75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1449360" y="971640"/>
                <a:ext cx="750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535" name=""/>
          <p:cNvCxnSpPr>
            <a:endCxn id="2533" idx="0"/>
          </p:cNvCxnSpPr>
          <p:nvPr/>
        </p:nvCxnSpPr>
        <p:spPr>
          <a:xfrm flipV="1" rot="10800000">
            <a:off x="1189800" y="1134720"/>
            <a:ext cx="259560" cy="1627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536" name="" descr=""/>
          <p:cNvPicPr/>
          <p:nvPr/>
        </p:nvPicPr>
        <p:blipFill>
          <a:blip r:embed="rId1"/>
          <a:stretch/>
        </p:blipFill>
        <p:spPr>
          <a:xfrm>
            <a:off x="5791320" y="3908520"/>
            <a:ext cx="3047760" cy="24922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2537" name="" descr=""/>
          <p:cNvPicPr/>
          <p:nvPr/>
        </p:nvPicPr>
        <p:blipFill>
          <a:blip r:embed="rId2"/>
          <a:stretch/>
        </p:blipFill>
        <p:spPr>
          <a:xfrm>
            <a:off x="1066680" y="3906720"/>
            <a:ext cx="3046680" cy="2494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538" name=""/>
          <p:cNvSpPr/>
          <p:nvPr/>
        </p:nvSpPr>
        <p:spPr>
          <a:xfrm>
            <a:off x="4267080" y="48769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344840" y="4267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Extract LL</a:t>
            </a:r>
            <a:br>
              <a:rPr sz="1800"/>
            </a:b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ub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7086600" y="3886200"/>
            <a:ext cx="990720" cy="2133720"/>
          </a:xfrm>
          <a:prstGeom prst="wedgeEllipseCallout">
            <a:avLst>
              <a:gd name="adj1" fmla="val -87018"/>
              <a:gd name="adj2" fmla="val -5692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579280" y="3352680"/>
            <a:ext cx="1712520" cy="3682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patial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F217-6780-4FCC-9458-BDA8C2D516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– small D+</a:t>
            </a:r>
            <a:r>
              <a:rPr b="0" lang="en-US" sz="2400" spc="-1" strike="noStrike">
                <a:solidFill>
                  <a:srgbClr val="777777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R, for </a:t>
            </a:r>
            <a:r>
              <a:rPr b="0" lang="en-US" sz="2400" spc="-1" strike="noStrike">
                <a:solidFill>
                  <a:srgbClr val="777777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 &gt; 0 of 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is not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67040" y="5121360"/>
            <a:ext cx="53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67040" y="2286000"/>
            <a:ext cx="0" cy="283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7040" y="2544840"/>
            <a:ext cx="5046480" cy="2543040"/>
          </a:xfrm>
          <a:custGeom>
            <a:avLst/>
            <a:gdLst/>
            <a:ahLst/>
            <a:rect l="l" t="t" r="r" b="b"/>
            <a:pathLst>
              <a:path w="2168" h="947">
                <a:moveTo>
                  <a:pt x="0" y="0"/>
                </a:moveTo>
                <a:cubicBezTo>
                  <a:pt x="15" y="46"/>
                  <a:pt x="51" y="190"/>
                  <a:pt x="90" y="277"/>
                </a:cubicBezTo>
                <a:cubicBezTo>
                  <a:pt x="129" y="364"/>
                  <a:pt x="167" y="450"/>
                  <a:pt x="234" y="520"/>
                </a:cubicBezTo>
                <a:cubicBezTo>
                  <a:pt x="301" y="590"/>
                  <a:pt x="392" y="649"/>
                  <a:pt x="494" y="696"/>
                </a:cubicBezTo>
                <a:cubicBezTo>
                  <a:pt x="596" y="743"/>
                  <a:pt x="697" y="772"/>
                  <a:pt x="848" y="803"/>
                </a:cubicBezTo>
                <a:cubicBezTo>
                  <a:pt x="999" y="834"/>
                  <a:pt x="1182" y="859"/>
                  <a:pt x="1402" y="883"/>
                </a:cubicBezTo>
                <a:cubicBezTo>
                  <a:pt x="1622" y="907"/>
                  <a:pt x="2009" y="934"/>
                  <a:pt x="2168" y="947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940440" y="5154480"/>
                <a:ext cx="22392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76520" y="2465280"/>
                <a:ext cx="2444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457200" y="3513240"/>
            <a:ext cx="3352680" cy="1608120"/>
            <a:chOff x="457200" y="3513240"/>
            <a:chExt cx="3352680" cy="1608120"/>
          </a:xfrm>
        </p:grpSpPr>
        <p:sp>
          <p:nvSpPr>
            <p:cNvPr id="56" name=""/>
            <p:cNvSpPr/>
            <p:nvPr/>
          </p:nvSpPr>
          <p:spPr>
            <a:xfrm>
              <a:off x="1967040" y="3513240"/>
              <a:ext cx="1842840" cy="16081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457200" y="3857760"/>
                  <a:ext cx="12812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ope </m:t>
                      </m:r>
                      <m:r>
                        <m:t xml:space="preserve"> </m:t>
                      </m:r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1752480" y="3886200"/>
              <a:ext cx="60984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42" y="140"/>
                    <a:pt x="186" y="144"/>
                    <a:pt x="250" y="120"/>
                  </a:cubicBezTo>
                  <a:cubicBezTo>
                    <a:pt x="314" y="96"/>
                    <a:pt x="356" y="25"/>
                    <a:pt x="384" y="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FDA8-27A2-4655-BE9F-626C51817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457200" y="4002120"/>
            <a:ext cx="2286000" cy="22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038240" y="4535640"/>
            <a:ext cx="1143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patial pyramids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promising directions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914400" y="209376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914400" y="2550960"/>
            <a:ext cx="755640" cy="304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295280" y="20937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295280" y="33130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295280" y="285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2438280" y="1941480"/>
            <a:ext cx="304920" cy="30492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216160" y="2550960"/>
            <a:ext cx="755640" cy="304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2590920" y="285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2590920" y="22464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2743200" y="20937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32800" y="1859040"/>
            <a:ext cx="599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full res</a:t>
            </a:r>
            <a:br>
              <a:rPr sz="1600"/>
            </a:b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533520" y="3078000"/>
            <a:ext cx="666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half res</a:t>
            </a:r>
            <a:br>
              <a:rPr sz="1600"/>
            </a:b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5003640" y="1976400"/>
            <a:ext cx="260640" cy="26208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4614840" y="210816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264280" y="210816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5133960" y="2238120"/>
            <a:ext cx="0" cy="261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5005440" y="3191040"/>
            <a:ext cx="260280" cy="261720"/>
          </a:xfrm>
          <a:prstGeom prst="flowChartOr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4616280" y="3321000"/>
            <a:ext cx="389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265720" y="332100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5135400" y="345276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4805280" y="3541680"/>
                <a:ext cx="322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4770360" y="2254320"/>
                <a:ext cx="355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4620240" y="2720880"/>
            <a:ext cx="1276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4495680" y="1865160"/>
            <a:ext cx="1524240" cy="1716120"/>
            <a:chOff x="4495680" y="1865160"/>
            <a:chExt cx="1524240" cy="1716120"/>
          </a:xfrm>
        </p:grpSpPr>
        <p:sp>
          <p:nvSpPr>
            <p:cNvPr id="2569" name=""/>
            <p:cNvSpPr/>
            <p:nvPr/>
          </p:nvSpPr>
          <p:spPr>
            <a:xfrm>
              <a:off x="6019920" y="186516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95680" y="186516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3781800" y="1846440"/>
            <a:ext cx="48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3826800" y="3073320"/>
            <a:ext cx="44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7620120" y="1941480"/>
            <a:ext cx="304560" cy="304920"/>
          </a:xfrm>
          <a:prstGeom prst="flowChartOr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7397640" y="2550960"/>
            <a:ext cx="755640" cy="304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7772400" y="285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7772400" y="22464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172200" y="331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6172200" y="20937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7924680" y="2093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8164080" y="1865160"/>
            <a:ext cx="599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full res</a:t>
            </a:r>
            <a:br>
              <a:rPr sz="1600"/>
            </a:b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2362320" y="232236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2" name=""/>
          <p:cNvGrpSpPr/>
          <p:nvPr/>
        </p:nvGrpSpPr>
        <p:grpSpPr>
          <a:xfrm>
            <a:off x="2209680" y="1941480"/>
            <a:ext cx="108000" cy="108000"/>
            <a:chOff x="2209680" y="1941480"/>
            <a:chExt cx="108000" cy="108000"/>
          </a:xfrm>
        </p:grpSpPr>
        <p:sp>
          <p:nvSpPr>
            <p:cNvPr id="2583" name=""/>
            <p:cNvSpPr/>
            <p:nvPr/>
          </p:nvSpPr>
          <p:spPr>
            <a:xfrm>
              <a:off x="2209680" y="199404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260800" y="19414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7435800" y="1941480"/>
            <a:ext cx="108000" cy="108000"/>
            <a:chOff x="7435800" y="1941480"/>
            <a:chExt cx="108000" cy="108000"/>
          </a:xfrm>
        </p:grpSpPr>
        <p:sp>
          <p:nvSpPr>
            <p:cNvPr id="2586" name=""/>
            <p:cNvSpPr/>
            <p:nvPr/>
          </p:nvSpPr>
          <p:spPr>
            <a:xfrm>
              <a:off x="7435800" y="199404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7486920" y="19414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7588080" y="2290680"/>
            <a:ext cx="108000" cy="108000"/>
            <a:chOff x="7588080" y="2290680"/>
            <a:chExt cx="108000" cy="108000"/>
          </a:xfrm>
        </p:grpSpPr>
        <p:sp>
          <p:nvSpPr>
            <p:cNvPr id="2589" name=""/>
            <p:cNvSpPr/>
            <p:nvPr/>
          </p:nvSpPr>
          <p:spPr>
            <a:xfrm>
              <a:off x="7588080" y="234324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7639200" y="2290680"/>
              <a:ext cx="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819520" y="4992840"/>
                <a:ext cx="39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1649520" y="3571920"/>
                <a:ext cx="422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593" name=""/>
          <p:cNvGrpSpPr/>
          <p:nvPr/>
        </p:nvGrpSpPr>
        <p:grpSpPr>
          <a:xfrm>
            <a:off x="4038480" y="4068720"/>
            <a:ext cx="1909800" cy="1761480"/>
            <a:chOff x="4038480" y="4068720"/>
            <a:chExt cx="1909800" cy="1761480"/>
          </a:xfrm>
        </p:grpSpPr>
        <p:sp>
          <p:nvSpPr>
            <p:cNvPr id="2594" name=""/>
            <p:cNvSpPr/>
            <p:nvPr/>
          </p:nvSpPr>
          <p:spPr>
            <a:xfrm>
              <a:off x="4309920" y="4536720"/>
              <a:ext cx="1143000" cy="10670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038480" y="5068800"/>
              <a:ext cx="175284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4876920" y="4230000"/>
              <a:ext cx="0" cy="160020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7" name=""/>
                <p:cNvSpPr txBox="1"/>
                <p:nvPr/>
              </p:nvSpPr>
              <p:spPr>
                <a:xfrm>
                  <a:off x="5553000" y="5040000"/>
                  <a:ext cx="3952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8" name=""/>
                <p:cNvSpPr txBox="1"/>
                <p:nvPr/>
              </p:nvSpPr>
              <p:spPr>
                <a:xfrm>
                  <a:off x="4905360" y="4068720"/>
                  <a:ext cx="4222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9" name=""/>
          <p:cNvSpPr/>
          <p:nvPr/>
        </p:nvSpPr>
        <p:spPr>
          <a:xfrm>
            <a:off x="2162160" y="4484520"/>
            <a:ext cx="2133720" cy="355680"/>
          </a:xfrm>
          <a:custGeom>
            <a:avLst/>
            <a:gdLst/>
            <a:ahLst/>
            <a:rect l="l" t="t" r="r" b="b"/>
            <a:pathLst>
              <a:path w="1392" h="224">
                <a:moveTo>
                  <a:pt x="0" y="224"/>
                </a:moveTo>
                <a:cubicBezTo>
                  <a:pt x="152" y="144"/>
                  <a:pt x="304" y="64"/>
                  <a:pt x="480" y="32"/>
                </a:cubicBezTo>
                <a:cubicBezTo>
                  <a:pt x="656" y="0"/>
                  <a:pt x="904" y="0"/>
                  <a:pt x="1056" y="32"/>
                </a:cubicBezTo>
                <a:cubicBezTo>
                  <a:pt x="1208" y="64"/>
                  <a:pt x="1300" y="144"/>
                  <a:pt x="1392" y="2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1038240" y="4535640"/>
            <a:ext cx="3267000" cy="1190520"/>
            <a:chOff x="1038240" y="4535640"/>
            <a:chExt cx="3267000" cy="1190520"/>
          </a:xfrm>
        </p:grpSpPr>
        <p:sp>
          <p:nvSpPr>
            <p:cNvPr id="2601" name=""/>
            <p:cNvSpPr/>
            <p:nvPr/>
          </p:nvSpPr>
          <p:spPr>
            <a:xfrm>
              <a:off x="1038240" y="4535640"/>
              <a:ext cx="1143000" cy="1066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2171520" y="5370480"/>
              <a:ext cx="2133720" cy="355680"/>
            </a:xfrm>
            <a:custGeom>
              <a:avLst/>
              <a:gdLst/>
              <a:ahLst/>
              <a:rect l="l" t="t" r="r" b="b"/>
              <a:pathLst>
                <a:path w="1392" h="224">
                  <a:moveTo>
                    <a:pt x="0" y="224"/>
                  </a:moveTo>
                  <a:cubicBezTo>
                    <a:pt x="152" y="144"/>
                    <a:pt x="304" y="64"/>
                    <a:pt x="480" y="32"/>
                  </a:cubicBezTo>
                  <a:cubicBezTo>
                    <a:pt x="656" y="0"/>
                    <a:pt x="904" y="0"/>
                    <a:pt x="1056" y="32"/>
                  </a:cubicBezTo>
                  <a:cubicBezTo>
                    <a:pt x="1208" y="64"/>
                    <a:pt x="1300" y="144"/>
                    <a:pt x="1392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493560" y="4038480"/>
            <a:ext cx="2249640" cy="2216160"/>
            <a:chOff x="493560" y="4038480"/>
            <a:chExt cx="2249640" cy="2216160"/>
          </a:xfrm>
        </p:grpSpPr>
        <p:sp>
          <p:nvSpPr>
            <p:cNvPr id="2604" name=""/>
            <p:cNvSpPr/>
            <p:nvPr/>
          </p:nvSpPr>
          <p:spPr>
            <a:xfrm>
              <a:off x="685800" y="4306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38080" y="43066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914400" y="44193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103400" y="453204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219320" y="464472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295280" y="48765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143000" y="51084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990720" y="52210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38080" y="49924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103400" y="47638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368360" y="46479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295280" y="44193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143000" y="42670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914400" y="41907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5800" y="41907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93560" y="434304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69880" y="45352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46200" y="47638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2160" y="45352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09480" y="53337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96800" y="56019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9880" y="59068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42960" y="57546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22160" y="560196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01720" y="5638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80920" y="54496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55680" y="5260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30440" y="51051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52480" y="494964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874880" y="479412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996920" y="48765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523880" y="495900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179360" y="48765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523880" y="51814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868400" y="55260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905120" y="587052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05120" y="621468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752480" y="605916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600200" y="58305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447920" y="5638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295280" y="571464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179360" y="58672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55680" y="60958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38080" y="621180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69880" y="61354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22160" y="605916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874800" y="59832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027080" y="56782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103400" y="54100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407960" y="54100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789200" y="5449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33720" y="52974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438280" y="49924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33720" y="46875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523880" y="457164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560600" y="47242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447920" y="49528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560600" y="52574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600200" y="5449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789200" y="52974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828800" y="51051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752480" y="468756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676520" y="427032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81080" y="525744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017800" y="55260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054160" y="59432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093760" y="61354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33720" y="58305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828800" y="5638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398680" y="55623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666880" y="57909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514600" y="60195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362320" y="62118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246400" y="59832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322360" y="575460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398680" y="52974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50960" y="47638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03600" y="41144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362320" y="40384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021040" y="41144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941480" y="43430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70080" y="43066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475000" y="42303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590920" y="434304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438280" y="449568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86000" y="453528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371600" y="41544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46400" y="49161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286000" y="5144760"/>
              <a:ext cx="3960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4379760" y="4572000"/>
            <a:ext cx="993960" cy="993240"/>
            <a:chOff x="4379760" y="4572000"/>
            <a:chExt cx="993960" cy="993240"/>
          </a:xfrm>
        </p:grpSpPr>
        <p:sp>
          <p:nvSpPr>
            <p:cNvPr id="2694" name=""/>
            <p:cNvSpPr/>
            <p:nvPr/>
          </p:nvSpPr>
          <p:spPr>
            <a:xfrm>
              <a:off x="4419720" y="461160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24280" y="480024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029200" y="502884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334120" y="533376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105520" y="53733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495680" y="5297400"/>
              <a:ext cx="3996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456080" y="491616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72000" y="464796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687920" y="510516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803840" y="544968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419720" y="552600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379760" y="51447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800600" y="461160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334120" y="4572000"/>
              <a:ext cx="3960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29200" y="464796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218200" y="472428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34120" y="487656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29200" y="484020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724280" y="525744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29200" y="5221080"/>
              <a:ext cx="396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181480" y="5184720"/>
              <a:ext cx="3996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181480" y="4916160"/>
              <a:ext cx="39960" cy="3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81480" y="4647960"/>
              <a:ext cx="3996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6254640" y="2103480"/>
            <a:ext cx="755640" cy="1371600"/>
            <a:chOff x="6254640" y="2103480"/>
            <a:chExt cx="755640" cy="1371600"/>
          </a:xfrm>
        </p:grpSpPr>
        <p:grpSp>
          <p:nvGrpSpPr>
            <p:cNvPr id="2718" name=""/>
            <p:cNvGrpSpPr/>
            <p:nvPr/>
          </p:nvGrpSpPr>
          <p:grpSpPr>
            <a:xfrm>
              <a:off x="6254640" y="2103480"/>
              <a:ext cx="755640" cy="1371600"/>
              <a:chOff x="6254640" y="2103480"/>
              <a:chExt cx="755640" cy="1371600"/>
            </a:xfrm>
          </p:grpSpPr>
          <p:sp>
            <p:nvSpPr>
              <p:cNvPr id="2719" name=""/>
              <p:cNvSpPr/>
              <p:nvPr/>
            </p:nvSpPr>
            <p:spPr>
              <a:xfrm>
                <a:off x="6254640" y="2560680"/>
                <a:ext cx="755640" cy="30492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600" spc="-1" strike="noStrike">
                    <a:solidFill>
                      <a:srgbClr val="000000"/>
                    </a:solidFill>
                    <a:latin typeface="Arial"/>
                  </a:rPr>
                  <a:t>redu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635880" y="21034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>
                <a:off x="6629400" y="2865600"/>
                <a:ext cx="64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77120" y="3170520"/>
                <a:ext cx="304560" cy="304560"/>
              </a:xfrm>
              <a:prstGeom prst="flowChartOr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3" name=""/>
              <p:cNvGrpSpPr/>
              <p:nvPr/>
            </p:nvGrpSpPr>
            <p:grpSpPr>
              <a:xfrm>
                <a:off x="6369120" y="3138480"/>
                <a:ext cx="108000" cy="108000"/>
                <a:chOff x="6369120" y="3138480"/>
                <a:chExt cx="108000" cy="10800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6369120" y="31910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V="1">
                  <a:off x="6420240" y="313848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6705720" y="3084480"/>
              <a:ext cx="1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7" name=""/>
          <p:cNvSpPr/>
          <p:nvPr/>
        </p:nvSpPr>
        <p:spPr>
          <a:xfrm>
            <a:off x="1038240" y="4535640"/>
            <a:ext cx="1143000" cy="1066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04920" y="5068800"/>
            <a:ext cx="2666880" cy="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V="1">
            <a:off x="1600200" y="3773520"/>
            <a:ext cx="0" cy="266688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3206880" y="2103480"/>
            <a:ext cx="755640" cy="1371600"/>
            <a:chOff x="3206880" y="2103480"/>
            <a:chExt cx="755640" cy="1371600"/>
          </a:xfrm>
        </p:grpSpPr>
        <p:grpSp>
          <p:nvGrpSpPr>
            <p:cNvPr id="2731" name=""/>
            <p:cNvGrpSpPr/>
            <p:nvPr/>
          </p:nvGrpSpPr>
          <p:grpSpPr>
            <a:xfrm>
              <a:off x="3206880" y="2103480"/>
              <a:ext cx="755640" cy="1371600"/>
              <a:chOff x="3206880" y="2103480"/>
              <a:chExt cx="755640" cy="1371600"/>
            </a:xfrm>
          </p:grpSpPr>
          <p:sp>
            <p:nvSpPr>
              <p:cNvPr id="2732" name=""/>
              <p:cNvSpPr/>
              <p:nvPr/>
            </p:nvSpPr>
            <p:spPr>
              <a:xfrm>
                <a:off x="3206880" y="2560680"/>
                <a:ext cx="755640" cy="30492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600" spc="-1" strike="noStrike">
                    <a:solidFill>
                      <a:srgbClr val="000000"/>
                    </a:solidFill>
                    <a:latin typeface="Arial"/>
                  </a:rPr>
                  <a:t>redu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588120" y="21034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3581640" y="2865600"/>
                <a:ext cx="64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429360" y="3170520"/>
                <a:ext cx="304560" cy="304560"/>
              </a:xfrm>
              <a:prstGeom prst="flowChartOr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6" name=""/>
              <p:cNvGrpSpPr/>
              <p:nvPr/>
            </p:nvGrpSpPr>
            <p:grpSpPr>
              <a:xfrm>
                <a:off x="3321360" y="3138480"/>
                <a:ext cx="108000" cy="108000"/>
                <a:chOff x="3321360" y="3138480"/>
                <a:chExt cx="108000" cy="10800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3321360" y="31910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3372480" y="313848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9" name=""/>
            <p:cNvGrpSpPr/>
            <p:nvPr/>
          </p:nvGrpSpPr>
          <p:grpSpPr>
            <a:xfrm>
              <a:off x="3648240" y="3014640"/>
              <a:ext cx="107640" cy="108000"/>
              <a:chOff x="3648240" y="3014640"/>
              <a:chExt cx="107640" cy="108000"/>
            </a:xfrm>
          </p:grpSpPr>
          <p:sp>
            <p:nvSpPr>
              <p:cNvPr id="2740" name=""/>
              <p:cNvSpPr/>
              <p:nvPr/>
            </p:nvSpPr>
            <p:spPr>
              <a:xfrm>
                <a:off x="3648240" y="3067200"/>
                <a:ext cx="10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V="1">
                <a:off x="3699000" y="30146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2" name=""/>
          <p:cNvSpPr/>
          <p:nvPr/>
        </p:nvSpPr>
        <p:spPr>
          <a:xfrm>
            <a:off x="758160" y="1127160"/>
            <a:ext cx="52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77777"/>
                </a:solidFill>
                <a:latin typeface="Arial"/>
              </a:rPr>
              <a:t>(Santa-Cruz, Reichel and Ziliani – ICIP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324480" y="990720"/>
            <a:ext cx="243864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diction alone is sub-optim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4" name=""/>
          <p:cNvGrpSpPr/>
          <p:nvPr/>
        </p:nvGrpSpPr>
        <p:grpSpPr>
          <a:xfrm>
            <a:off x="5865840" y="3835440"/>
            <a:ext cx="3027240" cy="2555640"/>
            <a:chOff x="5865840" y="3835440"/>
            <a:chExt cx="3027240" cy="2555640"/>
          </a:xfrm>
        </p:grpSpPr>
        <p:sp>
          <p:nvSpPr>
            <p:cNvPr id="2745" name=""/>
            <p:cNvSpPr/>
            <p:nvPr/>
          </p:nvSpPr>
          <p:spPr>
            <a:xfrm>
              <a:off x="5894280" y="3841920"/>
              <a:ext cx="2997360" cy="2508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94280" y="3841920"/>
              <a:ext cx="1800" cy="250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865840" y="63500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894280" y="6350040"/>
              <a:ext cx="2997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5894280" y="634968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6496200" y="634968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7095960" y="634968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V="1">
              <a:off x="7689960" y="634968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8290080" y="634968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8891640" y="634968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94280" y="5991120"/>
              <a:ext cx="299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94280" y="5637240"/>
              <a:ext cx="2997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4280" y="5278320"/>
              <a:ext cx="299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894280" y="4916520"/>
              <a:ext cx="299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894280" y="4554360"/>
              <a:ext cx="299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894280" y="4203720"/>
              <a:ext cx="299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894280" y="3841920"/>
              <a:ext cx="299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65840" y="599112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65840" y="56372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65840" y="527832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865840" y="49165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865840" y="455436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865840" y="42037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65840" y="3841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018120" y="3911760"/>
              <a:ext cx="1927440" cy="20588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263" y="0"/>
                  </a:moveTo>
                  <a:lnTo>
                    <a:pt x="137" y="76"/>
                  </a:lnTo>
                  <a:lnTo>
                    <a:pt x="55" y="143"/>
                  </a:lnTo>
                  <a:lnTo>
                    <a:pt x="0" y="205"/>
                  </a:ln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29360" y="4011480"/>
              <a:ext cx="2563920" cy="2221200"/>
            </a:xfrm>
            <a:custGeom>
              <a:avLst/>
              <a:gdLst/>
              <a:ahLst/>
              <a:rect l="l" t="t" r="r" b="b"/>
              <a:pathLst>
                <a:path w="350" h="221">
                  <a:moveTo>
                    <a:pt x="350" y="0"/>
                  </a:moveTo>
                  <a:lnTo>
                    <a:pt x="183" y="79"/>
                  </a:lnTo>
                  <a:lnTo>
                    <a:pt x="72" y="152"/>
                  </a:lnTo>
                  <a:lnTo>
                    <a:pt x="0" y="22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924680" y="3881520"/>
              <a:ext cx="42840" cy="6012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3" y="0"/>
                  </a:moveTo>
                  <a:lnTo>
                    <a:pt x="27" y="16"/>
                  </a:lnTo>
                  <a:lnTo>
                    <a:pt x="13" y="32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00920" y="4645080"/>
              <a:ext cx="44280" cy="58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4" y="0"/>
                  </a:moveTo>
                  <a:lnTo>
                    <a:pt x="28" y="16"/>
                  </a:lnTo>
                  <a:lnTo>
                    <a:pt x="14" y="32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400800" y="5316480"/>
              <a:ext cx="42840" cy="6192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0"/>
                  </a:moveTo>
                  <a:lnTo>
                    <a:pt x="27" y="17"/>
                  </a:lnTo>
                  <a:lnTo>
                    <a:pt x="13" y="33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997600" y="5940360"/>
              <a:ext cx="42840" cy="586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3" y="0"/>
                  </a:moveTo>
                  <a:lnTo>
                    <a:pt x="27" y="16"/>
                  </a:lnTo>
                  <a:lnTo>
                    <a:pt x="13" y="32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670960" y="3981600"/>
              <a:ext cx="44280" cy="619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4" y="0"/>
                  </a:moveTo>
                  <a:lnTo>
                    <a:pt x="28" y="33"/>
                  </a:lnTo>
                  <a:lnTo>
                    <a:pt x="0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448400" y="4775040"/>
              <a:ext cx="42840" cy="604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3" y="0"/>
                  </a:moveTo>
                  <a:lnTo>
                    <a:pt x="27" y="33"/>
                  </a:lnTo>
                  <a:lnTo>
                    <a:pt x="0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634080" y="5508720"/>
              <a:ext cx="44640" cy="601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4" y="0"/>
                  </a:moveTo>
                  <a:lnTo>
                    <a:pt x="28" y="33"/>
                  </a:lnTo>
                  <a:lnTo>
                    <a:pt x="0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107040" y="620064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4" y="0"/>
                  </a:moveTo>
                  <a:lnTo>
                    <a:pt x="28" y="33"/>
                  </a:lnTo>
                  <a:lnTo>
                    <a:pt x="0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76960" y="5037120"/>
              <a:ext cx="6516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 flipV="1">
              <a:off x="7183440" y="5045040"/>
              <a:ext cx="22320" cy="3168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205760" y="5076720"/>
              <a:ext cx="2196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7183440" y="5076720"/>
              <a:ext cx="2232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7205760" y="5045040"/>
              <a:ext cx="21960" cy="3168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7205760" y="5045040"/>
              <a:ext cx="1440" cy="3168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205760" y="5076720"/>
              <a:ext cx="144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00800" y="5740560"/>
              <a:ext cx="6516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H="1" flipV="1">
              <a:off x="6406920" y="5749560"/>
              <a:ext cx="21960" cy="284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29240" y="5778360"/>
              <a:ext cx="2232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>
              <a:off x="6406920" y="5778360"/>
              <a:ext cx="2196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6429240" y="5749560"/>
              <a:ext cx="22320" cy="284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6429240" y="5749560"/>
              <a:ext cx="1800" cy="284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29240" y="5778360"/>
              <a:ext cx="1800" cy="30240"/>
            </a:xfrm>
            <a:prstGeom prst="line">
              <a:avLst/>
            </a:prstGeom>
            <a:ln w="7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943240" y="5530680"/>
              <a:ext cx="1407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943240" y="5168880"/>
              <a:ext cx="1407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943240" y="4808520"/>
              <a:ext cx="1407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943240" y="4446720"/>
              <a:ext cx="1407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943240" y="4095720"/>
              <a:ext cx="1407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414480" y="6124680"/>
              <a:ext cx="2109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16040" y="6124680"/>
              <a:ext cx="2109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609680" y="6124680"/>
              <a:ext cx="2109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176320" y="6124680"/>
              <a:ext cx="281160" cy="15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114240" y="383544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333399"/>
                  </a:solidFill>
                  <a:latin typeface="Arial"/>
                </a:rPr>
                <a:t>PSNR (d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167320" y="57070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333399"/>
                  </a:solidFill>
                  <a:latin typeface="Arial"/>
                </a:rPr>
                <a:t>kbits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101640" y="415116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000000"/>
                  </a:solidFill>
                  <a:latin typeface="Arial"/>
                </a:rPr>
                <a:t>single-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36920" y="5270400"/>
              <a:ext cx="164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000000"/>
                  </a:solidFill>
                  <a:latin typeface="Arial"/>
                </a:rPr>
                <a:t>LP-lift open lo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6" name=""/>
            <p:cNvCxnSpPr>
              <a:stCxn id="2804" idx="2"/>
              <a:endCxn id="2772" idx="0"/>
            </p:cNvCxnSpPr>
            <p:nvPr/>
          </p:nvCxnSpPr>
          <p:spPr>
            <a:xfrm flipH="1" rot="16200000">
              <a:off x="6753960" y="4434480"/>
              <a:ext cx="216720" cy="322920"/>
            </a:xfrm>
            <a:prstGeom prst="curvedConnector5">
              <a:avLst>
                <a:gd name="adj1" fmla="val 50582"/>
                <a:gd name="adj2" fmla="val 50000"/>
                <a:gd name="adj3" fmla="val 50582"/>
              </a:avLst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2807" name=""/>
            <p:cNvCxnSpPr>
              <a:stCxn id="2805" idx="0"/>
              <a:endCxn id="2776" idx="0"/>
            </p:cNvCxnSpPr>
            <p:nvPr/>
          </p:nvCxnSpPr>
          <p:spPr>
            <a:xfrm flipV="1" rot="16200000">
              <a:off x="7458480" y="4867200"/>
              <a:ext cx="435600" cy="370800"/>
            </a:xfrm>
            <a:prstGeom prst="curvedConnector5">
              <a:avLst>
                <a:gd name="adj1" fmla="val 49958"/>
                <a:gd name="adj2" fmla="val 49951"/>
                <a:gd name="adj3" fmla="val 49958"/>
              </a:avLst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2808" name=""/>
          <p:cNvGrpSpPr/>
          <p:nvPr/>
        </p:nvGrpSpPr>
        <p:grpSpPr>
          <a:xfrm>
            <a:off x="5952960" y="5076720"/>
            <a:ext cx="2120760" cy="1324080"/>
            <a:chOff x="5952960" y="5076720"/>
            <a:chExt cx="2120760" cy="1324080"/>
          </a:xfrm>
        </p:grpSpPr>
        <p:sp>
          <p:nvSpPr>
            <p:cNvPr id="2809" name=""/>
            <p:cNvSpPr/>
            <p:nvPr/>
          </p:nvSpPr>
          <p:spPr>
            <a:xfrm>
              <a:off x="5952960" y="5076720"/>
              <a:ext cx="1252800" cy="1324080"/>
            </a:xfrm>
            <a:custGeom>
              <a:avLst/>
              <a:gdLst/>
              <a:ahLst/>
              <a:rect l="l" t="t" r="r" b="b"/>
              <a:pathLst>
                <a:path w="171" h="132">
                  <a:moveTo>
                    <a:pt x="171" y="0"/>
                  </a:moveTo>
                  <a:lnTo>
                    <a:pt x="65" y="70"/>
                  </a:lnTo>
                  <a:lnTo>
                    <a:pt x="0" y="132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59560" y="569124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000000"/>
                  </a:solidFill>
                  <a:latin typeface="Arial"/>
                </a:rPr>
                <a:t>LP closed lo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1" name=""/>
            <p:cNvCxnSpPr/>
            <p:nvPr/>
          </p:nvCxnSpPr>
          <p:spPr>
            <a:xfrm flipV="1" rot="16200000">
              <a:off x="6872040" y="5385960"/>
              <a:ext cx="273240" cy="4420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7CD5-0FCF-4A30-91BC-2AFB1ED885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4132 0.05208 E">
                                      <p:cBhvr>
                                        <p:cTn id="806" dur="2000" fill="hold"/>
                                        <p:tgtEl>
                                          <p:spTgt spid="2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Spatial “wavelets”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promising directions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ed lifting steps</a:t>
            </a:r>
            <a:br>
              <a:rPr sz="28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(Gan and Taubman, submitted to ICASSP’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4" name="" descr=""/>
          <p:cNvPicPr/>
          <p:nvPr/>
        </p:nvPicPr>
        <p:blipFill>
          <a:blip r:embed="rId1"/>
          <a:stretch/>
        </p:blipFill>
        <p:spPr>
          <a:xfrm>
            <a:off x="304920" y="2629080"/>
            <a:ext cx="4240080" cy="3178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2815" name="" descr=""/>
          <p:cNvPicPr/>
          <p:nvPr/>
        </p:nvPicPr>
        <p:blipFill>
          <a:blip r:embed="rId2"/>
          <a:stretch/>
        </p:blipFill>
        <p:spPr>
          <a:xfrm>
            <a:off x="4648320" y="2611440"/>
            <a:ext cx="4240080" cy="31798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11E6-2618-481D-82D5-13A374826A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Motion modeling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beyond quad-trees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ad-trees are a natural mechanism for representing complex fields at variabl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ilitate direct minimiz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ee pr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t, refinement creates a lot of redundant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af merging fixes things</a:t>
            </a:r>
            <a:br>
              <a:rPr sz="2400"/>
            </a:b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0" lang="en-AU" sz="1600" spc="-1" strike="noStrike">
                <a:solidFill>
                  <a:srgbClr val="808080"/>
                </a:solidFill>
                <a:latin typeface="Arial"/>
              </a:rPr>
              <a:t>(De Forni &amp; Taubman – ICIP 2005)</a:t>
            </a:r>
            <a:br>
              <a:rPr sz="1600"/>
            </a:br>
            <a:r>
              <a:rPr b="0" lang="en-AU" sz="1600" spc="-1" strike="noStrike">
                <a:solidFill>
                  <a:srgbClr val="808080"/>
                </a:solidFill>
                <a:latin typeface="Arial"/>
              </a:rPr>
              <a:t>              (Tagliasacchi et al. – ICME 2006)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spired by</a:t>
            </a:r>
            <a:br>
              <a:rPr sz="1800"/>
            </a:br>
            <a:r>
              <a:rPr b="0" lang="en-AU" sz="1600" spc="-1" strike="noStrike">
                <a:solidFill>
                  <a:srgbClr val="808080"/>
                </a:solidFill>
                <a:latin typeface="Arial"/>
              </a:rPr>
              <a:t>  (Shukla, Dragotti, Do &amp; Vetterli – Trans IP 9/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5867280" y="1219320"/>
            <a:ext cx="2590920" cy="2189160"/>
            <a:chOff x="5867280" y="1219320"/>
            <a:chExt cx="2590920" cy="2189160"/>
          </a:xfrm>
        </p:grpSpPr>
        <p:sp>
          <p:nvSpPr>
            <p:cNvPr id="2819" name=""/>
            <p:cNvSpPr/>
            <p:nvPr/>
          </p:nvSpPr>
          <p:spPr>
            <a:xfrm>
              <a:off x="5867280" y="1219320"/>
              <a:ext cx="2590920" cy="218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902560" y="1348560"/>
              <a:ext cx="2014200" cy="1973520"/>
            </a:xfrm>
            <a:custGeom>
              <a:avLst/>
              <a:gdLst/>
              <a:ahLst/>
              <a:rect l="l" t="t" r="r" b="b"/>
              <a:pathLst>
                <a:path w="1573" h="1391">
                  <a:moveTo>
                    <a:pt x="447" y="1164"/>
                  </a:moveTo>
                  <a:cubicBezTo>
                    <a:pt x="258" y="1088"/>
                    <a:pt x="243" y="1020"/>
                    <a:pt x="175" y="937"/>
                  </a:cubicBezTo>
                  <a:cubicBezTo>
                    <a:pt x="107" y="854"/>
                    <a:pt x="0" y="794"/>
                    <a:pt x="38" y="665"/>
                  </a:cubicBezTo>
                  <a:cubicBezTo>
                    <a:pt x="76" y="536"/>
                    <a:pt x="182" y="272"/>
                    <a:pt x="401" y="166"/>
                  </a:cubicBezTo>
                  <a:cubicBezTo>
                    <a:pt x="620" y="60"/>
                    <a:pt x="1173" y="0"/>
                    <a:pt x="1354" y="30"/>
                  </a:cubicBezTo>
                  <a:cubicBezTo>
                    <a:pt x="1535" y="60"/>
                    <a:pt x="1573" y="235"/>
                    <a:pt x="1490" y="348"/>
                  </a:cubicBezTo>
                  <a:cubicBezTo>
                    <a:pt x="1407" y="461"/>
                    <a:pt x="870" y="575"/>
                    <a:pt x="855" y="711"/>
                  </a:cubicBezTo>
                  <a:cubicBezTo>
                    <a:pt x="840" y="847"/>
                    <a:pt x="1323" y="1051"/>
                    <a:pt x="1399" y="1164"/>
                  </a:cubicBezTo>
                  <a:cubicBezTo>
                    <a:pt x="1475" y="1277"/>
                    <a:pt x="1468" y="1391"/>
                    <a:pt x="1309" y="1391"/>
                  </a:cubicBezTo>
                  <a:cubicBezTo>
                    <a:pt x="1150" y="1391"/>
                    <a:pt x="636" y="1240"/>
                    <a:pt x="447" y="116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489800" y="2078640"/>
              <a:ext cx="805320" cy="750600"/>
            </a:xfrm>
            <a:custGeom>
              <a:avLst/>
              <a:gdLst/>
              <a:ahLst/>
              <a:rect l="l" t="t" r="r" b="b"/>
              <a:pathLst>
                <a:path w="628" h="529">
                  <a:moveTo>
                    <a:pt x="348" y="529"/>
                  </a:moveTo>
                  <a:cubicBezTo>
                    <a:pt x="265" y="529"/>
                    <a:pt x="129" y="491"/>
                    <a:pt x="76" y="438"/>
                  </a:cubicBezTo>
                  <a:cubicBezTo>
                    <a:pt x="23" y="385"/>
                    <a:pt x="0" y="280"/>
                    <a:pt x="30" y="212"/>
                  </a:cubicBezTo>
                  <a:cubicBezTo>
                    <a:pt x="60" y="144"/>
                    <a:pt x="174" y="60"/>
                    <a:pt x="257" y="30"/>
                  </a:cubicBezTo>
                  <a:cubicBezTo>
                    <a:pt x="340" y="0"/>
                    <a:pt x="469" y="0"/>
                    <a:pt x="529" y="30"/>
                  </a:cubicBezTo>
                  <a:cubicBezTo>
                    <a:pt x="589" y="60"/>
                    <a:pt x="612" y="144"/>
                    <a:pt x="620" y="212"/>
                  </a:cubicBezTo>
                  <a:cubicBezTo>
                    <a:pt x="628" y="280"/>
                    <a:pt x="619" y="385"/>
                    <a:pt x="574" y="438"/>
                  </a:cubicBezTo>
                  <a:cubicBezTo>
                    <a:pt x="529" y="491"/>
                    <a:pt x="431" y="529"/>
                    <a:pt x="348" y="529"/>
                  </a:cubicBezTo>
                  <a:close/>
                </a:path>
              </a:pathLst>
            </a:custGeom>
            <a:solidFill>
              <a:srgbClr val="babe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2" name=""/>
            <p:cNvGrpSpPr/>
            <p:nvPr/>
          </p:nvGrpSpPr>
          <p:grpSpPr>
            <a:xfrm>
              <a:off x="6078240" y="2571120"/>
              <a:ext cx="1079280" cy="64440"/>
              <a:chOff x="6078240" y="2571120"/>
              <a:chExt cx="1079280" cy="64440"/>
            </a:xfrm>
          </p:grpSpPr>
          <p:sp>
            <p:nvSpPr>
              <p:cNvPr id="2823" name=""/>
              <p:cNvSpPr/>
              <p:nvPr/>
            </p:nvSpPr>
            <p:spPr>
              <a:xfrm flipV="1">
                <a:off x="6078240" y="2571120"/>
                <a:ext cx="116280" cy="64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6270120" y="2571120"/>
                <a:ext cx="139680" cy="64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6463440" y="2571120"/>
                <a:ext cx="163800" cy="64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6704280" y="2571120"/>
                <a:ext cx="187920" cy="64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6946200" y="2571120"/>
                <a:ext cx="211320" cy="644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8" name=""/>
            <p:cNvGrpSpPr/>
            <p:nvPr/>
          </p:nvGrpSpPr>
          <p:grpSpPr>
            <a:xfrm>
              <a:off x="5961240" y="2185200"/>
              <a:ext cx="1078920" cy="128520"/>
              <a:chOff x="5961240" y="2185200"/>
              <a:chExt cx="1078920" cy="128520"/>
            </a:xfrm>
          </p:grpSpPr>
          <p:sp>
            <p:nvSpPr>
              <p:cNvPr id="2829" name=""/>
              <p:cNvSpPr/>
              <p:nvPr/>
            </p:nvSpPr>
            <p:spPr>
              <a:xfrm flipV="1">
                <a:off x="5961240" y="2185200"/>
                <a:ext cx="115560" cy="128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6152400" y="2185200"/>
                <a:ext cx="138600" cy="128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6345720" y="2185200"/>
                <a:ext cx="163080" cy="128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6587640" y="2185200"/>
                <a:ext cx="187200" cy="128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6828120" y="2185200"/>
                <a:ext cx="212040" cy="128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4" name=""/>
            <p:cNvGrpSpPr/>
            <p:nvPr/>
          </p:nvGrpSpPr>
          <p:grpSpPr>
            <a:xfrm>
              <a:off x="6136920" y="1823400"/>
              <a:ext cx="1391760" cy="103680"/>
              <a:chOff x="6136920" y="1823400"/>
              <a:chExt cx="1391760" cy="103680"/>
            </a:xfrm>
          </p:grpSpPr>
          <p:sp>
            <p:nvSpPr>
              <p:cNvPr id="2835" name=""/>
              <p:cNvSpPr/>
              <p:nvPr/>
            </p:nvSpPr>
            <p:spPr>
              <a:xfrm flipV="1">
                <a:off x="6136920" y="1823400"/>
                <a:ext cx="11556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6329160" y="1823400"/>
                <a:ext cx="13896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6521400" y="1823400"/>
                <a:ext cx="16344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V="1">
                <a:off x="6762600" y="1823400"/>
                <a:ext cx="18792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7004160" y="1823400"/>
                <a:ext cx="21132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7292880" y="1823400"/>
                <a:ext cx="23580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1" name=""/>
            <p:cNvGrpSpPr/>
            <p:nvPr/>
          </p:nvGrpSpPr>
          <p:grpSpPr>
            <a:xfrm>
              <a:off x="6484680" y="1503360"/>
              <a:ext cx="1335240" cy="102240"/>
              <a:chOff x="6484680" y="1503360"/>
              <a:chExt cx="1335240" cy="102240"/>
            </a:xfrm>
          </p:grpSpPr>
          <p:sp>
            <p:nvSpPr>
              <p:cNvPr id="2842" name=""/>
              <p:cNvSpPr/>
              <p:nvPr/>
            </p:nvSpPr>
            <p:spPr>
              <a:xfrm flipV="1">
                <a:off x="6484680" y="1503360"/>
                <a:ext cx="11088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6669000" y="1503360"/>
                <a:ext cx="13320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6853680" y="1503360"/>
                <a:ext cx="15696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7085160" y="1503360"/>
                <a:ext cx="18036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V="1">
                <a:off x="7316640" y="1503360"/>
                <a:ext cx="20268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7593840" y="1503360"/>
                <a:ext cx="226080" cy="102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8" name=""/>
            <p:cNvGrpSpPr/>
            <p:nvPr/>
          </p:nvGrpSpPr>
          <p:grpSpPr>
            <a:xfrm>
              <a:off x="6250320" y="2829240"/>
              <a:ext cx="1104840" cy="65520"/>
              <a:chOff x="6250320" y="2829240"/>
              <a:chExt cx="1104840" cy="65520"/>
            </a:xfrm>
          </p:grpSpPr>
          <p:sp>
            <p:nvSpPr>
              <p:cNvPr id="2849" name=""/>
              <p:cNvSpPr/>
              <p:nvPr/>
            </p:nvSpPr>
            <p:spPr>
              <a:xfrm>
                <a:off x="6250320" y="2829240"/>
                <a:ext cx="119160" cy="6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446520" y="2829240"/>
                <a:ext cx="142920" cy="6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644520" y="2829240"/>
                <a:ext cx="167400" cy="6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891120" y="2829240"/>
                <a:ext cx="192600" cy="6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138800" y="2829240"/>
                <a:ext cx="216360" cy="65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4" name=""/>
            <p:cNvGrpSpPr/>
            <p:nvPr/>
          </p:nvGrpSpPr>
          <p:grpSpPr>
            <a:xfrm>
              <a:off x="6774840" y="3087360"/>
              <a:ext cx="831960" cy="64800"/>
              <a:chOff x="6774840" y="3087360"/>
              <a:chExt cx="831960" cy="64800"/>
            </a:xfrm>
          </p:grpSpPr>
          <p:sp>
            <p:nvSpPr>
              <p:cNvPr id="2855" name=""/>
              <p:cNvSpPr/>
              <p:nvPr/>
            </p:nvSpPr>
            <p:spPr>
              <a:xfrm>
                <a:off x="6774840" y="3087360"/>
                <a:ext cx="11952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970680" y="3087360"/>
                <a:ext cx="14400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169400" y="3087360"/>
                <a:ext cx="16812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415280" y="3087360"/>
                <a:ext cx="19152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9" name=""/>
            <p:cNvGrpSpPr/>
            <p:nvPr/>
          </p:nvGrpSpPr>
          <p:grpSpPr>
            <a:xfrm>
              <a:off x="7529040" y="2442600"/>
              <a:ext cx="695880" cy="64800"/>
              <a:chOff x="7529040" y="2442600"/>
              <a:chExt cx="695880" cy="64800"/>
            </a:xfrm>
          </p:grpSpPr>
          <p:sp>
            <p:nvSpPr>
              <p:cNvPr id="2860" name=""/>
              <p:cNvSpPr/>
              <p:nvPr/>
            </p:nvSpPr>
            <p:spPr>
              <a:xfrm>
                <a:off x="7529040" y="2442600"/>
                <a:ext cx="7488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652880" y="2442600"/>
                <a:ext cx="9000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777440" y="2442600"/>
                <a:ext cx="10548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32960" y="2442600"/>
                <a:ext cx="12132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088840" y="2442600"/>
                <a:ext cx="136080" cy="64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5" name=""/>
            <p:cNvGrpSpPr/>
            <p:nvPr/>
          </p:nvGrpSpPr>
          <p:grpSpPr>
            <a:xfrm>
              <a:off x="7645320" y="2250360"/>
              <a:ext cx="579600" cy="63720"/>
              <a:chOff x="7645320" y="2250360"/>
              <a:chExt cx="579600" cy="63720"/>
            </a:xfrm>
          </p:grpSpPr>
          <p:sp>
            <p:nvSpPr>
              <p:cNvPr id="2866" name=""/>
              <p:cNvSpPr/>
              <p:nvPr/>
            </p:nvSpPr>
            <p:spPr>
              <a:xfrm>
                <a:off x="7645320" y="2250360"/>
                <a:ext cx="62280" cy="63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748280" y="2250360"/>
                <a:ext cx="74880" cy="63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852320" y="2250360"/>
                <a:ext cx="87840" cy="63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81560" y="2250360"/>
                <a:ext cx="100800" cy="63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111520" y="2250360"/>
                <a:ext cx="113400" cy="63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>
              <a:off x="7587720" y="2635920"/>
              <a:ext cx="88200" cy="128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731720" y="2635920"/>
              <a:ext cx="105840" cy="128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878960" y="2635920"/>
              <a:ext cx="122400" cy="128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058240" y="2635920"/>
              <a:ext cx="142920" cy="128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877880" y="2120040"/>
              <a:ext cx="55800" cy="65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970040" y="2120040"/>
              <a:ext cx="67680" cy="65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063640" y="2120040"/>
              <a:ext cx="78840" cy="65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5867280" y="1219320"/>
            <a:ext cx="2590920" cy="2209680"/>
            <a:chOff x="5867280" y="1219320"/>
            <a:chExt cx="2590920" cy="2209680"/>
          </a:xfrm>
        </p:grpSpPr>
        <p:sp>
          <p:nvSpPr>
            <p:cNvPr id="2879" name=""/>
            <p:cNvSpPr/>
            <p:nvPr/>
          </p:nvSpPr>
          <p:spPr>
            <a:xfrm>
              <a:off x="5867280" y="1219320"/>
              <a:ext cx="2590920" cy="220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02560" y="1348920"/>
              <a:ext cx="2014200" cy="1993320"/>
            </a:xfrm>
            <a:custGeom>
              <a:avLst/>
              <a:gdLst/>
              <a:ahLst/>
              <a:rect l="l" t="t" r="r" b="b"/>
              <a:pathLst>
                <a:path w="1573" h="1391">
                  <a:moveTo>
                    <a:pt x="447" y="1164"/>
                  </a:moveTo>
                  <a:cubicBezTo>
                    <a:pt x="258" y="1088"/>
                    <a:pt x="243" y="1020"/>
                    <a:pt x="175" y="937"/>
                  </a:cubicBezTo>
                  <a:cubicBezTo>
                    <a:pt x="107" y="854"/>
                    <a:pt x="0" y="794"/>
                    <a:pt x="38" y="665"/>
                  </a:cubicBezTo>
                  <a:cubicBezTo>
                    <a:pt x="76" y="536"/>
                    <a:pt x="182" y="272"/>
                    <a:pt x="401" y="166"/>
                  </a:cubicBezTo>
                  <a:cubicBezTo>
                    <a:pt x="620" y="60"/>
                    <a:pt x="1173" y="0"/>
                    <a:pt x="1354" y="30"/>
                  </a:cubicBezTo>
                  <a:cubicBezTo>
                    <a:pt x="1535" y="60"/>
                    <a:pt x="1573" y="235"/>
                    <a:pt x="1490" y="348"/>
                  </a:cubicBezTo>
                  <a:cubicBezTo>
                    <a:pt x="1407" y="461"/>
                    <a:pt x="870" y="575"/>
                    <a:pt x="855" y="711"/>
                  </a:cubicBezTo>
                  <a:cubicBezTo>
                    <a:pt x="840" y="847"/>
                    <a:pt x="1323" y="1051"/>
                    <a:pt x="1399" y="1164"/>
                  </a:cubicBezTo>
                  <a:cubicBezTo>
                    <a:pt x="1475" y="1277"/>
                    <a:pt x="1468" y="1391"/>
                    <a:pt x="1309" y="1391"/>
                  </a:cubicBezTo>
                  <a:cubicBezTo>
                    <a:pt x="1150" y="1391"/>
                    <a:pt x="636" y="1240"/>
                    <a:pt x="447" y="116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490160" y="2086920"/>
              <a:ext cx="805320" cy="757800"/>
            </a:xfrm>
            <a:custGeom>
              <a:avLst/>
              <a:gdLst/>
              <a:ahLst/>
              <a:rect l="l" t="t" r="r" b="b"/>
              <a:pathLst>
                <a:path w="628" h="529">
                  <a:moveTo>
                    <a:pt x="348" y="529"/>
                  </a:moveTo>
                  <a:cubicBezTo>
                    <a:pt x="265" y="529"/>
                    <a:pt x="129" y="491"/>
                    <a:pt x="76" y="438"/>
                  </a:cubicBezTo>
                  <a:cubicBezTo>
                    <a:pt x="23" y="385"/>
                    <a:pt x="0" y="280"/>
                    <a:pt x="30" y="212"/>
                  </a:cubicBezTo>
                  <a:cubicBezTo>
                    <a:pt x="60" y="144"/>
                    <a:pt x="174" y="60"/>
                    <a:pt x="257" y="30"/>
                  </a:cubicBezTo>
                  <a:cubicBezTo>
                    <a:pt x="340" y="0"/>
                    <a:pt x="469" y="0"/>
                    <a:pt x="529" y="30"/>
                  </a:cubicBezTo>
                  <a:cubicBezTo>
                    <a:pt x="589" y="60"/>
                    <a:pt x="612" y="144"/>
                    <a:pt x="620" y="212"/>
                  </a:cubicBezTo>
                  <a:cubicBezTo>
                    <a:pt x="628" y="280"/>
                    <a:pt x="619" y="385"/>
                    <a:pt x="574" y="438"/>
                  </a:cubicBezTo>
                  <a:cubicBezTo>
                    <a:pt x="529" y="491"/>
                    <a:pt x="431" y="529"/>
                    <a:pt x="348" y="529"/>
                  </a:cubicBezTo>
                  <a:close/>
                </a:path>
              </a:pathLst>
            </a:custGeom>
            <a:solidFill>
              <a:srgbClr val="babe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"/>
            <p:cNvGrpSpPr/>
            <p:nvPr/>
          </p:nvGrpSpPr>
          <p:grpSpPr>
            <a:xfrm>
              <a:off x="6078240" y="2584440"/>
              <a:ext cx="1079280" cy="65160"/>
              <a:chOff x="6078240" y="2584440"/>
              <a:chExt cx="1079280" cy="65160"/>
            </a:xfrm>
          </p:grpSpPr>
          <p:sp>
            <p:nvSpPr>
              <p:cNvPr id="2883" name=""/>
              <p:cNvSpPr/>
              <p:nvPr/>
            </p:nvSpPr>
            <p:spPr>
              <a:xfrm flipV="1">
                <a:off x="6078240" y="2584440"/>
                <a:ext cx="1162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6270120" y="2584440"/>
                <a:ext cx="1396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6463440" y="2584440"/>
                <a:ext cx="16380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6704280" y="2584440"/>
                <a:ext cx="1879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6946200" y="2584440"/>
                <a:ext cx="2113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8" name=""/>
            <p:cNvGrpSpPr/>
            <p:nvPr/>
          </p:nvGrpSpPr>
          <p:grpSpPr>
            <a:xfrm>
              <a:off x="5960880" y="2195280"/>
              <a:ext cx="1079280" cy="129600"/>
              <a:chOff x="5960880" y="2195280"/>
              <a:chExt cx="1079280" cy="129600"/>
            </a:xfrm>
          </p:grpSpPr>
          <p:sp>
            <p:nvSpPr>
              <p:cNvPr id="2889" name=""/>
              <p:cNvSpPr/>
              <p:nvPr/>
            </p:nvSpPr>
            <p:spPr>
              <a:xfrm flipV="1">
                <a:off x="5960880" y="2195280"/>
                <a:ext cx="115560" cy="12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6152040" y="2195280"/>
                <a:ext cx="138600" cy="12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6345720" y="2195280"/>
                <a:ext cx="163080" cy="12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6587640" y="2195280"/>
                <a:ext cx="187200" cy="12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6828120" y="2195280"/>
                <a:ext cx="212040" cy="12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4" name=""/>
            <p:cNvGrpSpPr/>
            <p:nvPr/>
          </p:nvGrpSpPr>
          <p:grpSpPr>
            <a:xfrm>
              <a:off x="6136920" y="1829880"/>
              <a:ext cx="1391760" cy="103680"/>
              <a:chOff x="6136920" y="1829880"/>
              <a:chExt cx="1391760" cy="103680"/>
            </a:xfrm>
          </p:grpSpPr>
          <p:sp>
            <p:nvSpPr>
              <p:cNvPr id="2895" name=""/>
              <p:cNvSpPr/>
              <p:nvPr/>
            </p:nvSpPr>
            <p:spPr>
              <a:xfrm flipV="1">
                <a:off x="6136920" y="1829880"/>
                <a:ext cx="11556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6329160" y="1829880"/>
                <a:ext cx="13896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6521400" y="1829880"/>
                <a:ext cx="16344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6762600" y="1829880"/>
                <a:ext cx="18792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7004160" y="1829880"/>
                <a:ext cx="21132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7292880" y="1829880"/>
                <a:ext cx="235800" cy="1036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1" name=""/>
            <p:cNvGrpSpPr/>
            <p:nvPr/>
          </p:nvGrpSpPr>
          <p:grpSpPr>
            <a:xfrm>
              <a:off x="6484680" y="1506240"/>
              <a:ext cx="1334880" cy="103320"/>
              <a:chOff x="6484680" y="1506240"/>
              <a:chExt cx="1334880" cy="103320"/>
            </a:xfrm>
          </p:grpSpPr>
          <p:sp>
            <p:nvSpPr>
              <p:cNvPr id="2902" name=""/>
              <p:cNvSpPr/>
              <p:nvPr/>
            </p:nvSpPr>
            <p:spPr>
              <a:xfrm flipV="1">
                <a:off x="6484680" y="1506240"/>
                <a:ext cx="11088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6669000" y="1506240"/>
                <a:ext cx="13320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6853320" y="1506240"/>
                <a:ext cx="15696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7084800" y="1506240"/>
                <a:ext cx="18000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7316280" y="1506240"/>
                <a:ext cx="20268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7593480" y="1506240"/>
                <a:ext cx="22608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8" name=""/>
            <p:cNvGrpSpPr/>
            <p:nvPr/>
          </p:nvGrpSpPr>
          <p:grpSpPr>
            <a:xfrm>
              <a:off x="6250320" y="2845080"/>
              <a:ext cx="1104120" cy="66240"/>
              <a:chOff x="6250320" y="2845080"/>
              <a:chExt cx="1104120" cy="66240"/>
            </a:xfrm>
          </p:grpSpPr>
          <p:sp>
            <p:nvSpPr>
              <p:cNvPr id="2909" name=""/>
              <p:cNvSpPr/>
              <p:nvPr/>
            </p:nvSpPr>
            <p:spPr>
              <a:xfrm>
                <a:off x="6250320" y="2845080"/>
                <a:ext cx="11916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446520" y="2845080"/>
                <a:ext cx="14292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644520" y="2845080"/>
                <a:ext cx="16740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890760" y="2845080"/>
                <a:ext cx="19224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38440" y="2845080"/>
                <a:ext cx="216000" cy="66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4" name=""/>
            <p:cNvGrpSpPr/>
            <p:nvPr/>
          </p:nvGrpSpPr>
          <p:grpSpPr>
            <a:xfrm>
              <a:off x="6774840" y="3105720"/>
              <a:ext cx="831960" cy="65160"/>
              <a:chOff x="6774840" y="3105720"/>
              <a:chExt cx="831960" cy="65160"/>
            </a:xfrm>
          </p:grpSpPr>
          <p:sp>
            <p:nvSpPr>
              <p:cNvPr id="2915" name=""/>
              <p:cNvSpPr/>
              <p:nvPr/>
            </p:nvSpPr>
            <p:spPr>
              <a:xfrm>
                <a:off x="6774840" y="3105720"/>
                <a:ext cx="1195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970680" y="3105720"/>
                <a:ext cx="14400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169400" y="3105720"/>
                <a:ext cx="1681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415280" y="3105720"/>
                <a:ext cx="1915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9" name=""/>
            <p:cNvGrpSpPr/>
            <p:nvPr/>
          </p:nvGrpSpPr>
          <p:grpSpPr>
            <a:xfrm>
              <a:off x="7529040" y="2454840"/>
              <a:ext cx="696600" cy="65160"/>
              <a:chOff x="7529040" y="2454840"/>
              <a:chExt cx="696600" cy="65160"/>
            </a:xfrm>
          </p:grpSpPr>
          <p:sp>
            <p:nvSpPr>
              <p:cNvPr id="2920" name=""/>
              <p:cNvSpPr/>
              <p:nvPr/>
            </p:nvSpPr>
            <p:spPr>
              <a:xfrm>
                <a:off x="7529040" y="2454840"/>
                <a:ext cx="748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652880" y="2454840"/>
                <a:ext cx="9000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777440" y="2454840"/>
                <a:ext cx="10548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32960" y="2454840"/>
                <a:ext cx="12132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089200" y="2454840"/>
                <a:ext cx="136440" cy="65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5" name=""/>
            <p:cNvGrpSpPr/>
            <p:nvPr/>
          </p:nvGrpSpPr>
          <p:grpSpPr>
            <a:xfrm>
              <a:off x="7645320" y="2260440"/>
              <a:ext cx="579960" cy="64080"/>
              <a:chOff x="7645320" y="2260440"/>
              <a:chExt cx="579960" cy="64080"/>
            </a:xfrm>
          </p:grpSpPr>
          <p:sp>
            <p:nvSpPr>
              <p:cNvPr id="2926" name=""/>
              <p:cNvSpPr/>
              <p:nvPr/>
            </p:nvSpPr>
            <p:spPr>
              <a:xfrm>
                <a:off x="7645320" y="2260440"/>
                <a:ext cx="62280" cy="64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748280" y="2260440"/>
                <a:ext cx="74880" cy="64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852320" y="2260440"/>
                <a:ext cx="87840" cy="64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81920" y="2260440"/>
                <a:ext cx="101160" cy="64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111880" y="2260440"/>
                <a:ext cx="113400" cy="64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1" name=""/>
            <p:cNvSpPr/>
            <p:nvPr/>
          </p:nvSpPr>
          <p:spPr>
            <a:xfrm>
              <a:off x="7587720" y="2649960"/>
              <a:ext cx="8820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731720" y="2649960"/>
              <a:ext cx="10584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878960" y="2649960"/>
              <a:ext cx="12240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058240" y="2649960"/>
              <a:ext cx="14292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877880" y="2129040"/>
              <a:ext cx="5544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970040" y="2129040"/>
              <a:ext cx="6768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064000" y="2129040"/>
              <a:ext cx="7884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8" name=""/>
            <p:cNvGrpSpPr/>
            <p:nvPr/>
          </p:nvGrpSpPr>
          <p:grpSpPr>
            <a:xfrm>
              <a:off x="5867280" y="1219320"/>
              <a:ext cx="2590560" cy="2209680"/>
              <a:chOff x="5867280" y="1219320"/>
              <a:chExt cx="2590560" cy="2209680"/>
            </a:xfrm>
          </p:grpSpPr>
          <p:sp>
            <p:nvSpPr>
              <p:cNvPr id="2939" name=""/>
              <p:cNvSpPr/>
              <p:nvPr/>
            </p:nvSpPr>
            <p:spPr>
              <a:xfrm>
                <a:off x="5867280" y="121932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237000" y="121932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608160" y="121932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978600" y="121932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348320" y="121932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718400" y="121932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88120" y="121932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867280" y="158724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237000" y="158724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608160" y="158724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978600" y="158724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348320" y="158724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718400" y="158724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088120" y="158724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867280" y="1955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237000" y="1955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608160" y="1955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978600" y="1955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348320" y="1955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718400" y="1955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088120" y="1955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867280" y="23248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237000" y="23248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608160" y="23248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978600" y="23248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348320" y="23248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718400" y="23248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088120" y="23248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867280" y="2693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37000" y="2693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608160" y="2693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978600" y="2693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348320" y="269316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718400" y="2693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088120" y="269316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867280" y="30610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237000" y="30610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608160" y="30610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978600" y="30610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48320" y="3061080"/>
                <a:ext cx="3700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718400" y="30610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088120" y="3061080"/>
                <a:ext cx="36972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422040" y="140328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237000" y="121932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608160" y="140328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93200" y="121932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978600" y="1403280"/>
                <a:ext cx="36972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48320" y="1403280"/>
                <a:ext cx="37008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718400" y="1403280"/>
                <a:ext cx="18468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03080" y="121932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718400" y="1587240"/>
                <a:ext cx="18468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348320" y="195516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533360" y="2140560"/>
                <a:ext cx="185040" cy="183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2" name=""/>
              <p:cNvGrpSpPr/>
              <p:nvPr/>
            </p:nvGrpSpPr>
            <p:grpSpPr>
              <a:xfrm>
                <a:off x="5867280" y="2324880"/>
                <a:ext cx="369360" cy="367920"/>
                <a:chOff x="5867280" y="2324880"/>
                <a:chExt cx="369360" cy="367920"/>
              </a:xfrm>
            </p:grpSpPr>
            <p:sp>
              <p:nvSpPr>
                <p:cNvPr id="2993" name=""/>
                <p:cNvSpPr/>
                <p:nvPr/>
              </p:nvSpPr>
              <p:spPr>
                <a:xfrm>
                  <a:off x="5867280" y="23248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6051960" y="23248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5867280" y="25088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051960" y="25088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6608160" y="3061080"/>
                <a:ext cx="370080" cy="367920"/>
                <a:chOff x="6608160" y="3061080"/>
                <a:chExt cx="370080" cy="367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6608160" y="306108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793200" y="306108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6608160" y="324504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6793200" y="324504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2" name=""/>
              <p:cNvGrpSpPr/>
              <p:nvPr/>
            </p:nvGrpSpPr>
            <p:grpSpPr>
              <a:xfrm>
                <a:off x="5867280" y="1956960"/>
                <a:ext cx="369360" cy="367920"/>
                <a:chOff x="5867280" y="1956960"/>
                <a:chExt cx="369360" cy="367920"/>
              </a:xfrm>
            </p:grpSpPr>
            <p:sp>
              <p:nvSpPr>
                <p:cNvPr id="3003" name=""/>
                <p:cNvSpPr/>
                <p:nvPr/>
              </p:nvSpPr>
              <p:spPr>
                <a:xfrm>
                  <a:off x="586728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05196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586728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605196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7" name=""/>
              <p:cNvGrpSpPr/>
              <p:nvPr/>
            </p:nvGrpSpPr>
            <p:grpSpPr>
              <a:xfrm>
                <a:off x="6237000" y="2693160"/>
                <a:ext cx="370080" cy="367920"/>
                <a:chOff x="6237000" y="2693160"/>
                <a:chExt cx="370080" cy="367920"/>
              </a:xfrm>
            </p:grpSpPr>
            <p:sp>
              <p:nvSpPr>
                <p:cNvPr id="3008" name=""/>
                <p:cNvSpPr/>
                <p:nvPr/>
              </p:nvSpPr>
              <p:spPr>
                <a:xfrm>
                  <a:off x="6237000" y="269316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6422040" y="269316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6237000" y="287712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6422040" y="287712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"/>
              <p:cNvGrpSpPr/>
              <p:nvPr/>
            </p:nvGrpSpPr>
            <p:grpSpPr>
              <a:xfrm>
                <a:off x="6978600" y="3061080"/>
                <a:ext cx="369360" cy="367920"/>
                <a:chOff x="6978600" y="3061080"/>
                <a:chExt cx="369360" cy="36792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6978600" y="30610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163280" y="30610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978600" y="32450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163280" y="32450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7" name=""/>
              <p:cNvGrpSpPr/>
              <p:nvPr/>
            </p:nvGrpSpPr>
            <p:grpSpPr>
              <a:xfrm>
                <a:off x="7348320" y="3061080"/>
                <a:ext cx="370080" cy="367920"/>
                <a:chOff x="7348320" y="3061080"/>
                <a:chExt cx="370080" cy="367920"/>
              </a:xfrm>
            </p:grpSpPr>
            <p:sp>
              <p:nvSpPr>
                <p:cNvPr id="3018" name=""/>
                <p:cNvSpPr/>
                <p:nvPr/>
              </p:nvSpPr>
              <p:spPr>
                <a:xfrm>
                  <a:off x="7348320" y="306108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533360" y="306108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348320" y="324504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533360" y="324504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2" name=""/>
              <p:cNvGrpSpPr/>
              <p:nvPr/>
            </p:nvGrpSpPr>
            <p:grpSpPr>
              <a:xfrm>
                <a:off x="7348320" y="2693160"/>
                <a:ext cx="370080" cy="367920"/>
                <a:chOff x="7348320" y="2693160"/>
                <a:chExt cx="370080" cy="367920"/>
              </a:xfrm>
            </p:grpSpPr>
            <p:sp>
              <p:nvSpPr>
                <p:cNvPr id="3023" name=""/>
                <p:cNvSpPr/>
                <p:nvPr/>
              </p:nvSpPr>
              <p:spPr>
                <a:xfrm>
                  <a:off x="7348320" y="269316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533360" y="269316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348320" y="287712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533360" y="2877120"/>
                  <a:ext cx="18504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7" name=""/>
              <p:cNvGrpSpPr/>
              <p:nvPr/>
            </p:nvGrpSpPr>
            <p:grpSpPr>
              <a:xfrm>
                <a:off x="6978600" y="2324880"/>
                <a:ext cx="369360" cy="367920"/>
                <a:chOff x="6978600" y="2324880"/>
                <a:chExt cx="369360" cy="36792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6978600" y="23248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163280" y="232488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6978600" y="25088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163280" y="250884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2" name=""/>
              <p:cNvGrpSpPr/>
              <p:nvPr/>
            </p:nvGrpSpPr>
            <p:grpSpPr>
              <a:xfrm>
                <a:off x="6978600" y="1956960"/>
                <a:ext cx="369360" cy="367920"/>
                <a:chOff x="6978600" y="1956960"/>
                <a:chExt cx="369360" cy="36792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697860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16328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697860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16328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7" name=""/>
              <p:cNvGrpSpPr/>
              <p:nvPr/>
            </p:nvGrpSpPr>
            <p:grpSpPr>
              <a:xfrm>
                <a:off x="8088120" y="2693160"/>
                <a:ext cx="369360" cy="367920"/>
                <a:chOff x="8088120" y="2693160"/>
                <a:chExt cx="369360" cy="367920"/>
              </a:xfrm>
            </p:grpSpPr>
            <p:sp>
              <p:nvSpPr>
                <p:cNvPr id="3038" name=""/>
                <p:cNvSpPr/>
                <p:nvPr/>
              </p:nvSpPr>
              <p:spPr>
                <a:xfrm>
                  <a:off x="8088120" y="26931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8272800" y="26931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8088120" y="28771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8272800" y="28771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8088120" y="1956960"/>
                <a:ext cx="369360" cy="367920"/>
                <a:chOff x="8088120" y="1956960"/>
                <a:chExt cx="369360" cy="36792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808812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8272800" y="195696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808812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8272800" y="2140920"/>
                  <a:ext cx="184680" cy="1839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7" name=""/>
              <p:cNvSpPr/>
              <p:nvPr/>
            </p:nvSpPr>
            <p:spPr>
              <a:xfrm>
                <a:off x="8088120" y="2324880"/>
                <a:ext cx="185040" cy="367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718400" y="1956960"/>
                <a:ext cx="36972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718400" y="2693160"/>
                <a:ext cx="36972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0" name=""/>
              <p:cNvGrpSpPr/>
              <p:nvPr/>
            </p:nvGrpSpPr>
            <p:grpSpPr>
              <a:xfrm>
                <a:off x="6237000" y="2876760"/>
                <a:ext cx="185040" cy="183600"/>
                <a:chOff x="6237000" y="2876760"/>
                <a:chExt cx="185040" cy="18360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6237000" y="2876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6329520" y="2876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6237000" y="2968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329520" y="2968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5" name=""/>
              <p:cNvGrpSpPr/>
              <p:nvPr/>
            </p:nvGrpSpPr>
            <p:grpSpPr>
              <a:xfrm>
                <a:off x="6608160" y="3061080"/>
                <a:ext cx="185040" cy="183600"/>
                <a:chOff x="6608160" y="3061080"/>
                <a:chExt cx="185040" cy="18360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6608160" y="30610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700680" y="30610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608160" y="3152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6700680" y="3152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6793200" y="3061080"/>
                <a:ext cx="185040" cy="183600"/>
                <a:chOff x="6793200" y="3061080"/>
                <a:chExt cx="185040" cy="18360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6793200" y="30610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6885720" y="30610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6793200" y="3152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6885720" y="3152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5" name=""/>
              <p:cNvGrpSpPr/>
              <p:nvPr/>
            </p:nvGrpSpPr>
            <p:grpSpPr>
              <a:xfrm>
                <a:off x="7533360" y="3245040"/>
                <a:ext cx="185040" cy="183600"/>
                <a:chOff x="7533360" y="3245040"/>
                <a:chExt cx="185040" cy="183600"/>
              </a:xfrm>
            </p:grpSpPr>
            <p:sp>
              <p:nvSpPr>
                <p:cNvPr id="3066" name=""/>
                <p:cNvSpPr/>
                <p:nvPr/>
              </p:nvSpPr>
              <p:spPr>
                <a:xfrm>
                  <a:off x="7533360" y="324504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25880" y="324504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533360" y="333684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25880" y="333684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0" name=""/>
              <p:cNvGrpSpPr/>
              <p:nvPr/>
            </p:nvGrpSpPr>
            <p:grpSpPr>
              <a:xfrm>
                <a:off x="7718400" y="1404720"/>
                <a:ext cx="184320" cy="183600"/>
                <a:chOff x="7718400" y="1404720"/>
                <a:chExt cx="184320" cy="18360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7718400" y="140472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810560" y="140472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718400" y="149652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810560" y="149652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7348320" y="1956960"/>
                <a:ext cx="185040" cy="183600"/>
                <a:chOff x="7348320" y="1956960"/>
                <a:chExt cx="185040" cy="18360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7348320" y="1956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440840" y="1956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7348320" y="2048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7440840" y="2048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0" name=""/>
              <p:cNvGrpSpPr/>
              <p:nvPr/>
            </p:nvGrpSpPr>
            <p:grpSpPr>
              <a:xfrm>
                <a:off x="5867280" y="2324880"/>
                <a:ext cx="185040" cy="183600"/>
                <a:chOff x="5867280" y="2324880"/>
                <a:chExt cx="185040" cy="183600"/>
              </a:xfrm>
            </p:grpSpPr>
            <p:sp>
              <p:nvSpPr>
                <p:cNvPr id="3081" name=""/>
                <p:cNvSpPr/>
                <p:nvPr/>
              </p:nvSpPr>
              <p:spPr>
                <a:xfrm>
                  <a:off x="5867280" y="2324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959800" y="23248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867280" y="24166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959800" y="241668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5" name=""/>
              <p:cNvGrpSpPr/>
              <p:nvPr/>
            </p:nvGrpSpPr>
            <p:grpSpPr>
              <a:xfrm>
                <a:off x="5867280" y="2140560"/>
                <a:ext cx="185040" cy="183600"/>
                <a:chOff x="5867280" y="2140560"/>
                <a:chExt cx="185040" cy="18360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5867280" y="2140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959800" y="2140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867280" y="22323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959800" y="22323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0" name=""/>
              <p:cNvGrpSpPr/>
              <p:nvPr/>
            </p:nvGrpSpPr>
            <p:grpSpPr>
              <a:xfrm>
                <a:off x="6608160" y="1404720"/>
                <a:ext cx="185040" cy="183600"/>
                <a:chOff x="6608160" y="1404720"/>
                <a:chExt cx="185040" cy="18360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6608160" y="140472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6700680" y="140472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6608160" y="149652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6700680" y="149652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5" name=""/>
              <p:cNvGrpSpPr/>
              <p:nvPr/>
            </p:nvGrpSpPr>
            <p:grpSpPr>
              <a:xfrm>
                <a:off x="8088120" y="2693160"/>
                <a:ext cx="185040" cy="183600"/>
                <a:chOff x="8088120" y="2693160"/>
                <a:chExt cx="185040" cy="183600"/>
              </a:xfrm>
            </p:grpSpPr>
            <p:sp>
              <p:nvSpPr>
                <p:cNvPr id="3096" name=""/>
                <p:cNvSpPr/>
                <p:nvPr/>
              </p:nvSpPr>
              <p:spPr>
                <a:xfrm>
                  <a:off x="808812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818064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808812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818064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0" name=""/>
              <p:cNvGrpSpPr/>
              <p:nvPr/>
            </p:nvGrpSpPr>
            <p:grpSpPr>
              <a:xfrm>
                <a:off x="7533360" y="2140560"/>
                <a:ext cx="185040" cy="183600"/>
                <a:chOff x="7533360" y="2140560"/>
                <a:chExt cx="185040" cy="183600"/>
              </a:xfrm>
            </p:grpSpPr>
            <p:sp>
              <p:nvSpPr>
                <p:cNvPr id="3101" name=""/>
                <p:cNvSpPr/>
                <p:nvPr/>
              </p:nvSpPr>
              <p:spPr>
                <a:xfrm>
                  <a:off x="7533360" y="2140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7625880" y="2140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7533360" y="22323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7625880" y="22323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7533360" y="2693160"/>
                <a:ext cx="185040" cy="183600"/>
                <a:chOff x="7533360" y="2693160"/>
                <a:chExt cx="185040" cy="18360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753336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762588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753336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762588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0" name=""/>
              <p:cNvGrpSpPr/>
              <p:nvPr/>
            </p:nvGrpSpPr>
            <p:grpSpPr>
              <a:xfrm>
                <a:off x="7348320" y="2693160"/>
                <a:ext cx="185040" cy="183600"/>
                <a:chOff x="7348320" y="2693160"/>
                <a:chExt cx="185040" cy="183600"/>
              </a:xfrm>
            </p:grpSpPr>
            <p:sp>
              <p:nvSpPr>
                <p:cNvPr id="3111" name=""/>
                <p:cNvSpPr/>
                <p:nvPr/>
              </p:nvSpPr>
              <p:spPr>
                <a:xfrm>
                  <a:off x="734832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7440840" y="26931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734832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7440840" y="27849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5" name=""/>
              <p:cNvGrpSpPr/>
              <p:nvPr/>
            </p:nvGrpSpPr>
            <p:grpSpPr>
              <a:xfrm>
                <a:off x="7533360" y="2876760"/>
                <a:ext cx="185040" cy="183600"/>
                <a:chOff x="7533360" y="2876760"/>
                <a:chExt cx="185040" cy="183600"/>
              </a:xfrm>
            </p:grpSpPr>
            <p:sp>
              <p:nvSpPr>
                <p:cNvPr id="3116" name=""/>
                <p:cNvSpPr/>
                <p:nvPr/>
              </p:nvSpPr>
              <p:spPr>
                <a:xfrm>
                  <a:off x="7533360" y="2876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7625880" y="28767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7533360" y="2968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7625880" y="2968560"/>
                  <a:ext cx="9252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0" name=""/>
              <p:cNvGrpSpPr/>
              <p:nvPr/>
            </p:nvGrpSpPr>
            <p:grpSpPr>
              <a:xfrm>
                <a:off x="6978600" y="2140560"/>
                <a:ext cx="184320" cy="183600"/>
                <a:chOff x="6978600" y="2140560"/>
                <a:chExt cx="184320" cy="183600"/>
              </a:xfrm>
            </p:grpSpPr>
            <p:sp>
              <p:nvSpPr>
                <p:cNvPr id="3121" name=""/>
                <p:cNvSpPr/>
                <p:nvPr/>
              </p:nvSpPr>
              <p:spPr>
                <a:xfrm>
                  <a:off x="6978600" y="214056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7070760" y="214056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978600" y="223236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7070760" y="2232360"/>
                  <a:ext cx="92160" cy="91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125" name=""/>
              <p:cNvSpPr txBox="1"/>
              <p:nvPr/>
            </p:nvSpPr>
            <p:spPr>
              <a:xfrm>
                <a:off x="1222200" y="2782800"/>
                <a:ext cx="36752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lea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de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lea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de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en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126" name=""/>
          <p:cNvGrpSpPr/>
          <p:nvPr/>
        </p:nvGrpSpPr>
        <p:grpSpPr>
          <a:xfrm>
            <a:off x="5867280" y="3962520"/>
            <a:ext cx="2590920" cy="2209680"/>
            <a:chOff x="5867280" y="3962520"/>
            <a:chExt cx="2590920" cy="2209680"/>
          </a:xfrm>
        </p:grpSpPr>
        <p:sp>
          <p:nvSpPr>
            <p:cNvPr id="3127" name=""/>
            <p:cNvSpPr/>
            <p:nvPr/>
          </p:nvSpPr>
          <p:spPr>
            <a:xfrm>
              <a:off x="7348680" y="4883040"/>
              <a:ext cx="1846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902560" y="4092120"/>
              <a:ext cx="2014200" cy="1993320"/>
            </a:xfrm>
            <a:custGeom>
              <a:avLst/>
              <a:gdLst/>
              <a:ahLst/>
              <a:rect l="l" t="t" r="r" b="b"/>
              <a:pathLst>
                <a:path w="1573" h="1391">
                  <a:moveTo>
                    <a:pt x="447" y="1164"/>
                  </a:moveTo>
                  <a:cubicBezTo>
                    <a:pt x="258" y="1088"/>
                    <a:pt x="243" y="1020"/>
                    <a:pt x="175" y="937"/>
                  </a:cubicBezTo>
                  <a:cubicBezTo>
                    <a:pt x="107" y="854"/>
                    <a:pt x="0" y="794"/>
                    <a:pt x="38" y="665"/>
                  </a:cubicBezTo>
                  <a:cubicBezTo>
                    <a:pt x="76" y="536"/>
                    <a:pt x="182" y="272"/>
                    <a:pt x="401" y="166"/>
                  </a:cubicBezTo>
                  <a:cubicBezTo>
                    <a:pt x="620" y="60"/>
                    <a:pt x="1173" y="0"/>
                    <a:pt x="1354" y="30"/>
                  </a:cubicBezTo>
                  <a:cubicBezTo>
                    <a:pt x="1535" y="60"/>
                    <a:pt x="1573" y="235"/>
                    <a:pt x="1490" y="348"/>
                  </a:cubicBezTo>
                  <a:cubicBezTo>
                    <a:pt x="1407" y="461"/>
                    <a:pt x="870" y="575"/>
                    <a:pt x="855" y="711"/>
                  </a:cubicBezTo>
                  <a:cubicBezTo>
                    <a:pt x="840" y="847"/>
                    <a:pt x="1323" y="1051"/>
                    <a:pt x="1399" y="1164"/>
                  </a:cubicBezTo>
                  <a:cubicBezTo>
                    <a:pt x="1475" y="1277"/>
                    <a:pt x="1468" y="1391"/>
                    <a:pt x="1309" y="1391"/>
                  </a:cubicBezTo>
                  <a:cubicBezTo>
                    <a:pt x="1150" y="1391"/>
                    <a:pt x="636" y="1240"/>
                    <a:pt x="447" y="116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489800" y="4829400"/>
              <a:ext cx="805320" cy="757800"/>
            </a:xfrm>
            <a:custGeom>
              <a:avLst/>
              <a:gdLst/>
              <a:ahLst/>
              <a:rect l="l" t="t" r="r" b="b"/>
              <a:pathLst>
                <a:path w="628" h="529">
                  <a:moveTo>
                    <a:pt x="348" y="529"/>
                  </a:moveTo>
                  <a:cubicBezTo>
                    <a:pt x="265" y="529"/>
                    <a:pt x="129" y="491"/>
                    <a:pt x="76" y="438"/>
                  </a:cubicBezTo>
                  <a:cubicBezTo>
                    <a:pt x="23" y="385"/>
                    <a:pt x="0" y="280"/>
                    <a:pt x="30" y="212"/>
                  </a:cubicBezTo>
                  <a:cubicBezTo>
                    <a:pt x="60" y="144"/>
                    <a:pt x="174" y="60"/>
                    <a:pt x="257" y="30"/>
                  </a:cubicBezTo>
                  <a:cubicBezTo>
                    <a:pt x="340" y="0"/>
                    <a:pt x="469" y="0"/>
                    <a:pt x="529" y="30"/>
                  </a:cubicBezTo>
                  <a:cubicBezTo>
                    <a:pt x="589" y="60"/>
                    <a:pt x="612" y="144"/>
                    <a:pt x="620" y="212"/>
                  </a:cubicBezTo>
                  <a:cubicBezTo>
                    <a:pt x="628" y="280"/>
                    <a:pt x="619" y="385"/>
                    <a:pt x="574" y="438"/>
                  </a:cubicBezTo>
                  <a:cubicBezTo>
                    <a:pt x="529" y="491"/>
                    <a:pt x="431" y="529"/>
                    <a:pt x="348" y="529"/>
                  </a:cubicBezTo>
                  <a:close/>
                </a:path>
              </a:pathLst>
            </a:custGeom>
            <a:solidFill>
              <a:srgbClr val="babe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6078240" y="5328000"/>
              <a:ext cx="11592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6269760" y="5328000"/>
              <a:ext cx="14004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V="1">
              <a:off x="6464160" y="5328000"/>
              <a:ext cx="16344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6705000" y="5328000"/>
              <a:ext cx="18756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V="1">
              <a:off x="6946920" y="5328000"/>
              <a:ext cx="21096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V="1">
              <a:off x="5961240" y="4938480"/>
              <a:ext cx="11484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6152760" y="4938480"/>
              <a:ext cx="13824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V="1">
              <a:off x="6346080" y="4938480"/>
              <a:ext cx="16272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588000" y="4938480"/>
              <a:ext cx="18756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6828840" y="4938480"/>
              <a:ext cx="21168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6136920" y="4547160"/>
              <a:ext cx="11520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328440" y="4547160"/>
              <a:ext cx="13932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6521040" y="4547160"/>
              <a:ext cx="16344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6761880" y="4547160"/>
              <a:ext cx="18972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7004520" y="4547160"/>
              <a:ext cx="21024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7292880" y="4547160"/>
              <a:ext cx="236160" cy="12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6484680" y="4223520"/>
              <a:ext cx="11124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6669720" y="4223520"/>
              <a:ext cx="13284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6852960" y="4223520"/>
              <a:ext cx="15768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7085520" y="4223520"/>
              <a:ext cx="17928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7317000" y="4223520"/>
              <a:ext cx="20232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7594200" y="4223520"/>
              <a:ext cx="226080" cy="12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250320" y="5587560"/>
              <a:ext cx="11988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446520" y="5587560"/>
              <a:ext cx="14328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645600" y="5587560"/>
              <a:ext cx="16632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891120" y="5587560"/>
              <a:ext cx="19332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138440" y="5587560"/>
              <a:ext cx="21672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774120" y="5848920"/>
              <a:ext cx="11988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414560" y="5848920"/>
              <a:ext cx="19116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529040" y="5198040"/>
              <a:ext cx="7524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652880" y="5198040"/>
              <a:ext cx="9000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778160" y="5198040"/>
              <a:ext cx="10584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932600" y="5198040"/>
              <a:ext cx="12168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089560" y="5198040"/>
              <a:ext cx="135720" cy="64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644240" y="5002920"/>
              <a:ext cx="6300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748640" y="5002920"/>
              <a:ext cx="7416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851960" y="5002920"/>
              <a:ext cx="8784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981920" y="5002920"/>
              <a:ext cx="10008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111160" y="5002920"/>
              <a:ext cx="11412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87720" y="5392440"/>
              <a:ext cx="88200" cy="130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731720" y="5392440"/>
              <a:ext cx="105840" cy="130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878600" y="5392440"/>
              <a:ext cx="122760" cy="130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058240" y="5392440"/>
              <a:ext cx="142920" cy="130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877880" y="4872240"/>
              <a:ext cx="5472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970040" y="4872240"/>
              <a:ext cx="6768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063640" y="4872240"/>
              <a:ext cx="78840" cy="6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867280" y="39625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37360" y="39625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608520" y="39625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978600" y="3962520"/>
              <a:ext cx="3700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348680" y="3962520"/>
              <a:ext cx="36900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718040" y="39625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088120" y="3962520"/>
              <a:ext cx="3700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867280" y="4330080"/>
              <a:ext cx="3700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7360" y="4330080"/>
              <a:ext cx="370080" cy="368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608520" y="4330080"/>
              <a:ext cx="370080" cy="368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978600" y="4330080"/>
              <a:ext cx="3700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348680" y="4330080"/>
              <a:ext cx="36900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718040" y="4330080"/>
              <a:ext cx="370080" cy="368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88120" y="4330080"/>
              <a:ext cx="3700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867280" y="46987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237360" y="4698720"/>
              <a:ext cx="370080" cy="3675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608520" y="4698720"/>
              <a:ext cx="370080" cy="3675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978600" y="46987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348680" y="4698720"/>
              <a:ext cx="36900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718040" y="46987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8120" y="469872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867280" y="506808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237360" y="5066280"/>
              <a:ext cx="3700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608520" y="5068080"/>
              <a:ext cx="370080" cy="3675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978600" y="506808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348680" y="5068080"/>
              <a:ext cx="36900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718040" y="5068080"/>
              <a:ext cx="3700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088120" y="5066280"/>
              <a:ext cx="37008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867280" y="5435640"/>
              <a:ext cx="3700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237360" y="5435640"/>
              <a:ext cx="370080" cy="368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608520" y="5435640"/>
              <a:ext cx="370080" cy="368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978600" y="5435640"/>
              <a:ext cx="3700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348680" y="5435640"/>
              <a:ext cx="369000" cy="368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718040" y="5435640"/>
              <a:ext cx="370080" cy="368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088120" y="5435640"/>
              <a:ext cx="370080" cy="368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867280" y="580464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237360" y="580464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608520" y="580464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348680" y="5804640"/>
              <a:ext cx="36900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18040" y="5804640"/>
              <a:ext cx="3700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088120" y="5804640"/>
              <a:ext cx="3700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422400" y="4146480"/>
              <a:ext cx="1846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237360" y="3962520"/>
              <a:ext cx="1850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608520" y="4146480"/>
              <a:ext cx="18468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793200" y="3962520"/>
              <a:ext cx="1850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978600" y="4146480"/>
              <a:ext cx="37008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348680" y="4146480"/>
              <a:ext cx="36900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718040" y="4146480"/>
              <a:ext cx="18468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902720" y="3962520"/>
              <a:ext cx="1850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718040" y="4330080"/>
              <a:ext cx="18468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348680" y="469872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533720" y="4883760"/>
              <a:ext cx="18432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867280" y="5068080"/>
              <a:ext cx="18504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052320" y="5068080"/>
              <a:ext cx="1846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867280" y="5251680"/>
              <a:ext cx="1850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052320" y="5251680"/>
              <a:ext cx="184680" cy="1839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2" name=""/>
            <p:cNvGrpSpPr/>
            <p:nvPr/>
          </p:nvGrpSpPr>
          <p:grpSpPr>
            <a:xfrm>
              <a:off x="6608520" y="5804640"/>
              <a:ext cx="370080" cy="367200"/>
              <a:chOff x="6608520" y="5804640"/>
              <a:chExt cx="370080" cy="367200"/>
            </a:xfrm>
          </p:grpSpPr>
          <p:sp>
            <p:nvSpPr>
              <p:cNvPr id="3233" name=""/>
              <p:cNvSpPr/>
              <p:nvPr/>
            </p:nvSpPr>
            <p:spPr>
              <a:xfrm>
                <a:off x="6608520" y="5804640"/>
                <a:ext cx="18504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793560" y="5804640"/>
                <a:ext cx="18504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608520" y="5988240"/>
                <a:ext cx="18504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793560" y="5988240"/>
                <a:ext cx="185040" cy="183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5867280" y="4699440"/>
              <a:ext cx="370080" cy="367920"/>
              <a:chOff x="5867280" y="4699440"/>
              <a:chExt cx="370080" cy="367920"/>
            </a:xfrm>
          </p:grpSpPr>
          <p:sp>
            <p:nvSpPr>
              <p:cNvPr id="3238" name=""/>
              <p:cNvSpPr/>
              <p:nvPr/>
            </p:nvSpPr>
            <p:spPr>
              <a:xfrm>
                <a:off x="5867280" y="4699440"/>
                <a:ext cx="185040" cy="183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052320" y="4699440"/>
                <a:ext cx="185040" cy="183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867280" y="4883400"/>
                <a:ext cx="185040" cy="183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052320" y="4883400"/>
                <a:ext cx="185040" cy="183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2" name=""/>
            <p:cNvSpPr/>
            <p:nvPr/>
          </p:nvSpPr>
          <p:spPr>
            <a:xfrm>
              <a:off x="6237360" y="5435640"/>
              <a:ext cx="185040" cy="1839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422400" y="5435640"/>
              <a:ext cx="184680" cy="1839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237360" y="5619960"/>
              <a:ext cx="18504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422400" y="5619960"/>
              <a:ext cx="184680" cy="1843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533720" y="5804640"/>
              <a:ext cx="18432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348680" y="5804640"/>
              <a:ext cx="1846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348680" y="5988600"/>
              <a:ext cx="1846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533720" y="5988600"/>
              <a:ext cx="18432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348680" y="543564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533720" y="5435640"/>
              <a:ext cx="18432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348680" y="5619960"/>
              <a:ext cx="184680" cy="184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533720" y="5619960"/>
              <a:ext cx="18432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163640" y="5068080"/>
              <a:ext cx="18504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978600" y="5068080"/>
              <a:ext cx="1846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978600" y="5251680"/>
              <a:ext cx="184680" cy="1839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163640" y="525168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978600" y="4699440"/>
              <a:ext cx="184680" cy="1839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163640" y="469944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978600" y="488376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163640" y="488376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088120" y="543564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73160" y="5435640"/>
              <a:ext cx="1850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088120" y="5619960"/>
              <a:ext cx="18468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3160" y="5619960"/>
              <a:ext cx="18504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088120" y="4699440"/>
              <a:ext cx="1846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73160" y="469944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088120" y="4883760"/>
              <a:ext cx="1846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73160" y="488376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088120" y="5068080"/>
              <a:ext cx="184680" cy="367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718040" y="4699440"/>
              <a:ext cx="3700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718040" y="5435640"/>
              <a:ext cx="3700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5619960"/>
              <a:ext cx="9288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330240" y="5619960"/>
              <a:ext cx="9216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237360" y="5712840"/>
              <a:ext cx="92880" cy="91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330240" y="5712840"/>
              <a:ext cx="92160" cy="91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6701400" y="5804640"/>
              <a:ext cx="9180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608520" y="580464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608520" y="589608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701400" y="5896080"/>
              <a:ext cx="9180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793200" y="580464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886440" y="5804640"/>
              <a:ext cx="9216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6793200" y="589608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886440" y="5896080"/>
              <a:ext cx="9216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5" name=""/>
            <p:cNvGrpSpPr/>
            <p:nvPr/>
          </p:nvGrpSpPr>
          <p:grpSpPr>
            <a:xfrm>
              <a:off x="7533720" y="5987880"/>
              <a:ext cx="184320" cy="184320"/>
              <a:chOff x="7533720" y="5987880"/>
              <a:chExt cx="184320" cy="184320"/>
            </a:xfrm>
          </p:grpSpPr>
          <p:sp>
            <p:nvSpPr>
              <p:cNvPr id="3286" name=""/>
              <p:cNvSpPr/>
              <p:nvPr/>
            </p:nvSpPr>
            <p:spPr>
              <a:xfrm>
                <a:off x="7533720" y="598788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625880" y="598788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533720" y="608004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625880" y="608004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7718040" y="4147560"/>
              <a:ext cx="184320" cy="183600"/>
              <a:chOff x="7718040" y="4147560"/>
              <a:chExt cx="184320" cy="183600"/>
            </a:xfrm>
          </p:grpSpPr>
          <p:sp>
            <p:nvSpPr>
              <p:cNvPr id="3291" name=""/>
              <p:cNvSpPr/>
              <p:nvPr/>
            </p:nvSpPr>
            <p:spPr>
              <a:xfrm>
                <a:off x="7718040" y="414756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810200" y="414756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718040" y="423936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810200" y="423936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5" name=""/>
            <p:cNvSpPr/>
            <p:nvPr/>
          </p:nvSpPr>
          <p:spPr>
            <a:xfrm>
              <a:off x="7348680" y="4699440"/>
              <a:ext cx="9288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441560" y="4699440"/>
              <a:ext cx="9180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348680" y="479232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41560" y="4792320"/>
              <a:ext cx="91800" cy="9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9" name=""/>
            <p:cNvGrpSpPr/>
            <p:nvPr/>
          </p:nvGrpSpPr>
          <p:grpSpPr>
            <a:xfrm>
              <a:off x="5867280" y="5068080"/>
              <a:ext cx="185040" cy="182880"/>
              <a:chOff x="5867280" y="5068080"/>
              <a:chExt cx="185040" cy="182880"/>
            </a:xfrm>
          </p:grpSpPr>
          <p:sp>
            <p:nvSpPr>
              <p:cNvPr id="3300" name=""/>
              <p:cNvSpPr/>
              <p:nvPr/>
            </p:nvSpPr>
            <p:spPr>
              <a:xfrm>
                <a:off x="5867280" y="5068080"/>
                <a:ext cx="92520" cy="9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959800" y="5068080"/>
                <a:ext cx="92520" cy="9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867280" y="5159520"/>
                <a:ext cx="92520" cy="9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959800" y="5159520"/>
                <a:ext cx="92520" cy="9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5867280" y="4883760"/>
              <a:ext cx="185040" cy="183600"/>
              <a:chOff x="5867280" y="4883760"/>
              <a:chExt cx="185040" cy="183600"/>
            </a:xfrm>
          </p:grpSpPr>
          <p:sp>
            <p:nvSpPr>
              <p:cNvPr id="3305" name=""/>
              <p:cNvSpPr/>
              <p:nvPr/>
            </p:nvSpPr>
            <p:spPr>
              <a:xfrm>
                <a:off x="5867280" y="4883760"/>
                <a:ext cx="92520" cy="91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959800" y="4883760"/>
                <a:ext cx="92520" cy="91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867280" y="4975560"/>
                <a:ext cx="92520" cy="91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959800" y="4975560"/>
                <a:ext cx="92520" cy="91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9" name=""/>
            <p:cNvSpPr/>
            <p:nvPr/>
          </p:nvSpPr>
          <p:spPr>
            <a:xfrm>
              <a:off x="6608520" y="4147560"/>
              <a:ext cx="92880" cy="9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701400" y="4147560"/>
              <a:ext cx="91800" cy="9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608520" y="4240440"/>
              <a:ext cx="92880" cy="91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701400" y="4240440"/>
              <a:ext cx="91800" cy="91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088120" y="5435640"/>
              <a:ext cx="9288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181000" y="5435640"/>
              <a:ext cx="9180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088120" y="552852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1000" y="5528520"/>
              <a:ext cx="9180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533720" y="4883760"/>
              <a:ext cx="92160" cy="9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625880" y="4883760"/>
              <a:ext cx="92160" cy="9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533720" y="4976640"/>
              <a:ext cx="9216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625880" y="4976640"/>
              <a:ext cx="9216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7533720" y="5435640"/>
              <a:ext cx="184320" cy="183600"/>
              <a:chOff x="7533720" y="5435640"/>
              <a:chExt cx="184320" cy="183600"/>
            </a:xfrm>
          </p:grpSpPr>
          <p:sp>
            <p:nvSpPr>
              <p:cNvPr id="3322" name=""/>
              <p:cNvSpPr/>
              <p:nvPr/>
            </p:nvSpPr>
            <p:spPr>
              <a:xfrm>
                <a:off x="7533720" y="54356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625880" y="54356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533720" y="55274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625880" y="55274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7348680" y="5435640"/>
              <a:ext cx="184320" cy="183600"/>
              <a:chOff x="7348680" y="5435640"/>
              <a:chExt cx="184320" cy="183600"/>
            </a:xfrm>
          </p:grpSpPr>
          <p:sp>
            <p:nvSpPr>
              <p:cNvPr id="3327" name=""/>
              <p:cNvSpPr/>
              <p:nvPr/>
            </p:nvSpPr>
            <p:spPr>
              <a:xfrm>
                <a:off x="7348680" y="54356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440840" y="54356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348680" y="55274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440840" y="5527440"/>
                <a:ext cx="92160" cy="91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1" name=""/>
            <p:cNvGrpSpPr/>
            <p:nvPr/>
          </p:nvGrpSpPr>
          <p:grpSpPr>
            <a:xfrm>
              <a:off x="7533720" y="5619960"/>
              <a:ext cx="184320" cy="184320"/>
              <a:chOff x="7533720" y="5619960"/>
              <a:chExt cx="184320" cy="184320"/>
            </a:xfrm>
          </p:grpSpPr>
          <p:sp>
            <p:nvSpPr>
              <p:cNvPr id="3332" name=""/>
              <p:cNvSpPr/>
              <p:nvPr/>
            </p:nvSpPr>
            <p:spPr>
              <a:xfrm>
                <a:off x="7533720" y="561996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625880" y="561996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533720" y="571212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625880" y="5712120"/>
                <a:ext cx="92160" cy="92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6" name=""/>
            <p:cNvSpPr/>
            <p:nvPr/>
          </p:nvSpPr>
          <p:spPr>
            <a:xfrm>
              <a:off x="6978600" y="4883760"/>
              <a:ext cx="92880" cy="925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071480" y="4883760"/>
              <a:ext cx="91800" cy="9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978600" y="4976640"/>
              <a:ext cx="9288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071480" y="4976640"/>
              <a:ext cx="91800" cy="91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969960" y="5848920"/>
              <a:ext cx="14400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607440" y="5988600"/>
              <a:ext cx="18504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792480" y="5988600"/>
              <a:ext cx="18396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169040" y="5848920"/>
              <a:ext cx="168120" cy="65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978600" y="5804640"/>
              <a:ext cx="370080" cy="36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978600" y="5804640"/>
              <a:ext cx="18468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163640" y="580464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978600" y="5988600"/>
              <a:ext cx="18468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163640" y="5988600"/>
              <a:ext cx="18504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791400" y="4146480"/>
              <a:ext cx="185040" cy="1832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02720" y="4330080"/>
              <a:ext cx="185040" cy="36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422400" y="396252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237360" y="4146480"/>
              <a:ext cx="18504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607440" y="3962520"/>
              <a:ext cx="18396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718040" y="4883040"/>
              <a:ext cx="370080" cy="18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73160" y="5066280"/>
              <a:ext cx="185040" cy="3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718040" y="5619960"/>
              <a:ext cx="370080" cy="184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73160" y="5435640"/>
              <a:ext cx="18504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088120" y="5619960"/>
              <a:ext cx="184680" cy="1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902720" y="4146480"/>
              <a:ext cx="185040" cy="183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7718040" y="3962520"/>
              <a:ext cx="18468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533720" y="4698720"/>
              <a:ext cx="184320" cy="18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121080" y="532152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6331320" y="5362200"/>
              <a:ext cx="0" cy="20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500520" y="552744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500520" y="569196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6795360" y="5321520"/>
              <a:ext cx="720" cy="30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6795360" y="4950720"/>
              <a:ext cx="720" cy="304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6795360" y="4538520"/>
              <a:ext cx="720" cy="304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6415920" y="4579920"/>
              <a:ext cx="720" cy="30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6415920" y="4950720"/>
              <a:ext cx="720" cy="304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458760" y="4497840"/>
              <a:ext cx="31140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879960" y="4209480"/>
              <a:ext cx="0" cy="20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247440" y="4332600"/>
              <a:ext cx="168840" cy="16416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H="1">
              <a:off x="6879960" y="532152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>
              <a:off x="6879960" y="478584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657480" y="4277160"/>
              <a:ext cx="0" cy="12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753600" y="4277160"/>
              <a:ext cx="0" cy="12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6899040" y="4925520"/>
              <a:ext cx="126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DFDC-99B5-4161-A115-013E90D2BB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6840" y="426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Motion modeling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– polynomial leaf merging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models to allow translation &amp; affi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ne models derived by fitting regular M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-D optimal tree pruning followed by a disciplined R-D driven leaf merging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exhaustive motion vector search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pass, non-iterative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1" name="" descr=""/>
          <p:cNvPicPr/>
          <p:nvPr/>
        </p:nvPicPr>
        <p:blipFill>
          <a:blip r:embed="rId1"/>
          <a:stretch/>
        </p:blipFill>
        <p:spPr>
          <a:xfrm>
            <a:off x="1295280" y="3735360"/>
            <a:ext cx="3810240" cy="2660760"/>
          </a:xfrm>
          <a:prstGeom prst="rect">
            <a:avLst/>
          </a:prstGeom>
          <a:ln w="0">
            <a:noFill/>
          </a:ln>
        </p:spPr>
      </p:pic>
      <p:pic>
        <p:nvPicPr>
          <p:cNvPr id="3382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657600" cy="2682720"/>
          </a:xfrm>
          <a:prstGeom prst="rect">
            <a:avLst/>
          </a:prstGeom>
          <a:ln w="0">
            <a:noFill/>
          </a:ln>
        </p:spPr>
      </p:pic>
      <p:sp>
        <p:nvSpPr>
          <p:cNvPr id="3383" name=""/>
          <p:cNvSpPr/>
          <p:nvPr/>
        </p:nvSpPr>
        <p:spPr>
          <a:xfrm>
            <a:off x="917640" y="99072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Mathew &amp; Taubman – ICIP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E3A1-A875-4CA5-8C51-6123B25861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Distribution over lossy network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rge body of work on on-line encoding with network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ynamic channel conditions used to modify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pular approach involves a stochastic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.g., “Rope”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Zhang, Regunathan &amp; Rose – JSAC, June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ent advances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(Harmanci &amp; Tekalp – Trans IP, to app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 here on scalably compress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pen loop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tection dynamically applied to elements of the pre-encoded scalable bit-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cket erasure model is somewhat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... each packet is correctly received or completely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red networks: congestion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packet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reless: bursty losses in deep fades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packet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2EDB-8283-4403-8AC4-CFE2D425FF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Priority Encoding Transmission (PET)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(Albanese, Blomer, Edmunds, Luby &amp; Sudan – Trans IT, Nov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ch “frame”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[n]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or GOP, or subband frame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s a sequence of embedded (quality)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         is protected with a code selected from a family of (N,k) MDS codes, all with the same length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long as                                  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never          is decodable, so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8" name=""/>
              <p:cNvSpPr txBox="1"/>
              <p:nvPr/>
            </p:nvSpPr>
            <p:spPr>
              <a:xfrm>
                <a:off x="6896160" y="2128680"/>
                <a:ext cx="18921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9" name=""/>
              <p:cNvSpPr txBox="1"/>
              <p:nvPr/>
            </p:nvSpPr>
            <p:spPr>
              <a:xfrm>
                <a:off x="1657440" y="2533680"/>
                <a:ext cx="6620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0" name=""/>
          <p:cNvSpPr/>
          <p:nvPr/>
        </p:nvSpPr>
        <p:spPr>
          <a:xfrm>
            <a:off x="1090440" y="3306600"/>
            <a:ext cx="119412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1090440" y="3517920"/>
            <a:ext cx="119412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1090440" y="3730680"/>
            <a:ext cx="1194120" cy="21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1090440" y="3941640"/>
            <a:ext cx="119412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1090440" y="4152960"/>
            <a:ext cx="119412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3262320" y="3306600"/>
            <a:ext cx="95724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262320" y="3517920"/>
            <a:ext cx="95724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262320" y="3730680"/>
            <a:ext cx="957240" cy="210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3262320" y="3941640"/>
            <a:ext cx="95724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3262320" y="4152960"/>
            <a:ext cx="95724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457200" y="3332160"/>
            <a:ext cx="60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457200" y="3544920"/>
            <a:ext cx="60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457200" y="3754440"/>
            <a:ext cx="60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457200" y="3976560"/>
            <a:ext cx="60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457200" y="4199040"/>
            <a:ext cx="60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5" name=""/>
              <p:cNvSpPr txBox="1"/>
              <p:nvPr/>
            </p:nvSpPr>
            <p:spPr>
              <a:xfrm>
                <a:off x="1255680" y="4308480"/>
                <a:ext cx="804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6" name=""/>
              <p:cNvSpPr txBox="1"/>
              <p:nvPr/>
            </p:nvSpPr>
            <p:spPr>
              <a:xfrm>
                <a:off x="2343240" y="4308480"/>
                <a:ext cx="85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,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7" name=""/>
          <p:cNvSpPr/>
          <p:nvPr/>
        </p:nvSpPr>
        <p:spPr>
          <a:xfrm>
            <a:off x="2309760" y="3306600"/>
            <a:ext cx="91908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2309760" y="3517920"/>
            <a:ext cx="91908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309760" y="3727440"/>
            <a:ext cx="919080" cy="212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0" name=""/>
              <p:cNvSpPr txBox="1"/>
              <p:nvPr/>
            </p:nvSpPr>
            <p:spPr>
              <a:xfrm>
                <a:off x="3333600" y="4297320"/>
                <a:ext cx="8305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1" name=""/>
          <p:cNvSpPr/>
          <p:nvPr/>
        </p:nvSpPr>
        <p:spPr>
          <a:xfrm>
            <a:off x="2309760" y="3936960"/>
            <a:ext cx="91908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2309760" y="4146480"/>
            <a:ext cx="91908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5410080" y="4916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"/>
          <p:cNvGrpSpPr/>
          <p:nvPr/>
        </p:nvGrpSpPr>
        <p:grpSpPr>
          <a:xfrm>
            <a:off x="5378400" y="3510000"/>
            <a:ext cx="1860120" cy="1442520"/>
            <a:chOff x="5378400" y="3510000"/>
            <a:chExt cx="1860120" cy="1442520"/>
          </a:xfrm>
        </p:grpSpPr>
        <p:sp>
          <p:nvSpPr>
            <p:cNvPr id="3415" name=""/>
            <p:cNvSpPr/>
            <p:nvPr/>
          </p:nvSpPr>
          <p:spPr>
            <a:xfrm>
              <a:off x="5378400" y="4863960"/>
              <a:ext cx="8856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555160" y="4826520"/>
              <a:ext cx="885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732640" y="4752720"/>
              <a:ext cx="8820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909760" y="4619520"/>
              <a:ext cx="8856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086880" y="4226760"/>
              <a:ext cx="8856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264360" y="3759840"/>
              <a:ext cx="8820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441480" y="3619080"/>
              <a:ext cx="885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618240" y="3571200"/>
              <a:ext cx="8856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795720" y="3541320"/>
              <a:ext cx="8820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72840" y="3521160"/>
              <a:ext cx="8856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149960" y="3510000"/>
              <a:ext cx="885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6" name=""/>
          <p:cNvSpPr/>
          <p:nvPr/>
        </p:nvSpPr>
        <p:spPr>
          <a:xfrm flipV="1">
            <a:off x="5410080" y="340524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5410080" y="3548160"/>
            <a:ext cx="1782720" cy="1358640"/>
          </a:xfrm>
          <a:custGeom>
            <a:avLst/>
            <a:gdLst/>
            <a:ahLst/>
            <a:rect l="l" t="t" r="r" b="b"/>
            <a:pathLst>
              <a:path w="1123" h="734">
                <a:moveTo>
                  <a:pt x="1123" y="0"/>
                </a:moveTo>
                <a:cubicBezTo>
                  <a:pt x="1086" y="2"/>
                  <a:pt x="1050" y="5"/>
                  <a:pt x="1013" y="9"/>
                </a:cubicBezTo>
                <a:cubicBezTo>
                  <a:pt x="976" y="13"/>
                  <a:pt x="940" y="19"/>
                  <a:pt x="902" y="24"/>
                </a:cubicBezTo>
                <a:cubicBezTo>
                  <a:pt x="864" y="29"/>
                  <a:pt x="824" y="32"/>
                  <a:pt x="787" y="38"/>
                </a:cubicBezTo>
                <a:cubicBezTo>
                  <a:pt x="750" y="44"/>
                  <a:pt x="719" y="44"/>
                  <a:pt x="682" y="62"/>
                </a:cubicBezTo>
                <a:cubicBezTo>
                  <a:pt x="645" y="80"/>
                  <a:pt x="604" y="90"/>
                  <a:pt x="566" y="144"/>
                </a:cubicBezTo>
                <a:cubicBezTo>
                  <a:pt x="528" y="198"/>
                  <a:pt x="488" y="313"/>
                  <a:pt x="451" y="389"/>
                </a:cubicBezTo>
                <a:cubicBezTo>
                  <a:pt x="414" y="465"/>
                  <a:pt x="378" y="553"/>
                  <a:pt x="341" y="600"/>
                </a:cubicBezTo>
                <a:cubicBezTo>
                  <a:pt x="304" y="647"/>
                  <a:pt x="263" y="653"/>
                  <a:pt x="226" y="672"/>
                </a:cubicBezTo>
                <a:cubicBezTo>
                  <a:pt x="189" y="691"/>
                  <a:pt x="158" y="705"/>
                  <a:pt x="120" y="715"/>
                </a:cubicBezTo>
                <a:cubicBezTo>
                  <a:pt x="82" y="725"/>
                  <a:pt x="41" y="729"/>
                  <a:pt x="0" y="734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5419800" y="3540240"/>
            <a:ext cx="1782720" cy="1358640"/>
          </a:xfrm>
          <a:custGeom>
            <a:avLst/>
            <a:gdLst/>
            <a:ahLst/>
            <a:rect l="l" t="t" r="r" b="b"/>
            <a:pathLst>
              <a:path w="1123" h="734">
                <a:moveTo>
                  <a:pt x="1123" y="0"/>
                </a:moveTo>
                <a:cubicBezTo>
                  <a:pt x="1086" y="2"/>
                  <a:pt x="1050" y="5"/>
                  <a:pt x="1013" y="9"/>
                </a:cubicBezTo>
                <a:cubicBezTo>
                  <a:pt x="976" y="13"/>
                  <a:pt x="940" y="19"/>
                  <a:pt x="902" y="24"/>
                </a:cubicBezTo>
                <a:cubicBezTo>
                  <a:pt x="864" y="29"/>
                  <a:pt x="824" y="32"/>
                  <a:pt x="787" y="38"/>
                </a:cubicBezTo>
                <a:cubicBezTo>
                  <a:pt x="750" y="44"/>
                  <a:pt x="719" y="44"/>
                  <a:pt x="682" y="62"/>
                </a:cubicBezTo>
                <a:cubicBezTo>
                  <a:pt x="645" y="80"/>
                  <a:pt x="680" y="32"/>
                  <a:pt x="566" y="144"/>
                </a:cubicBezTo>
                <a:cubicBezTo>
                  <a:pt x="452" y="256"/>
                  <a:pt x="94" y="636"/>
                  <a:pt x="0" y="734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6705720" y="4586400"/>
                <a:ext cx="108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5410080" y="3352680"/>
                <a:ext cx="463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1" name=""/>
          <p:cNvSpPr/>
          <p:nvPr/>
        </p:nvSpPr>
        <p:spPr>
          <a:xfrm>
            <a:off x="6781680" y="4375080"/>
            <a:ext cx="152640" cy="17784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2" name=""/>
              <p:cNvSpPr txBox="1"/>
              <p:nvPr/>
            </p:nvSpPr>
            <p:spPr>
              <a:xfrm>
                <a:off x="2438280" y="5200560"/>
                <a:ext cx="2730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3" name=""/>
              <p:cNvSpPr txBox="1"/>
              <p:nvPr/>
            </p:nvSpPr>
            <p:spPr>
              <a:xfrm>
                <a:off x="2286000" y="5673600"/>
                <a:ext cx="662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4" name=""/>
              <p:cNvSpPr txBox="1"/>
              <p:nvPr/>
            </p:nvSpPr>
            <p:spPr>
              <a:xfrm>
                <a:off x="5867280" y="5673600"/>
                <a:ext cx="25354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5" name=""/>
          <p:cNvGrpSpPr/>
          <p:nvPr/>
        </p:nvGrpSpPr>
        <p:grpSpPr>
          <a:xfrm>
            <a:off x="1307160" y="3800520"/>
            <a:ext cx="7268400" cy="1191600"/>
            <a:chOff x="1307160" y="3800520"/>
            <a:chExt cx="7268400" cy="1191600"/>
          </a:xfrm>
        </p:grpSpPr>
        <mc:AlternateContent>
          <mc:Choice xmlns:a14="http://schemas.microsoft.com/office/drawing/2010/main" Requires="a14">
            <p:sp>
              <p:nvSpPr>
                <p:cNvPr id="3436" name=""/>
                <p:cNvSpPr txBox="1"/>
                <p:nvPr/>
              </p:nvSpPr>
              <p:spPr>
                <a:xfrm>
                  <a:off x="6675480" y="4038480"/>
                  <a:ext cx="190008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or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7" name=""/>
            <p:cNvSpPr/>
            <p:nvPr/>
          </p:nvSpPr>
          <p:spPr>
            <a:xfrm>
              <a:off x="6554160" y="380052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600" spc="-1" strike="noStrike">
                  <a:solidFill>
                    <a:srgbClr val="000000"/>
                  </a:solidFill>
                  <a:latin typeface="Arial"/>
                </a:rPr>
                <a:t>redundancy ind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307160" y="458640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A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45120" y="458136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A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26480" y="457668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AU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4262400" y="3303720"/>
            <a:ext cx="957240" cy="1674000"/>
            <a:chOff x="4262400" y="3303720"/>
            <a:chExt cx="957240" cy="1674000"/>
          </a:xfrm>
        </p:grpSpPr>
        <p:sp>
          <p:nvSpPr>
            <p:cNvPr id="3442" name=""/>
            <p:cNvSpPr/>
            <p:nvPr/>
          </p:nvSpPr>
          <p:spPr>
            <a:xfrm>
              <a:off x="4262400" y="3303720"/>
              <a:ext cx="957240" cy="21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262400" y="3524400"/>
              <a:ext cx="957240" cy="21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262400" y="3736800"/>
              <a:ext cx="957240" cy="21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262400" y="3948120"/>
              <a:ext cx="957240" cy="21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262400" y="4159080"/>
              <a:ext cx="957240" cy="21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488480" y="457200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AU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8" name=""/>
                <p:cNvSpPr txBox="1"/>
                <p:nvPr/>
              </p:nvSpPr>
              <p:spPr>
                <a:xfrm>
                  <a:off x="4343400" y="4305240"/>
                  <a:ext cx="8049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,-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8E1B-B516-4E2C-B8B6-016F9C70A6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aa8"/>
                </a:solidFill>
                <a:latin typeface="Arial"/>
              </a:rPr>
              <a:t>Protection assignment in PET</a:t>
            </a:r>
            <a:endParaRPr b="0" lang="en-US" sz="40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grangian formulation: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x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jec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source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characteristic is convex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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channel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characteristic is convex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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can</a:t>
            </a:r>
            <a:br>
              <a:rPr sz="2400"/>
            </a:br>
            <a:r>
              <a:rPr b="1" lang="en-AU" sz="2400" spc="-1" strike="noStrike">
                <a:solidFill>
                  <a:srgbClr val="333399"/>
                </a:solidFill>
                <a:latin typeface="Arial"/>
              </a:rPr>
              <a:t>independently maximize each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the constraints                          will always ho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6478200" y="228600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[typically, U = -M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2754360" y="2262240"/>
                <a:ext cx="3112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4038480" y="5008680"/>
                <a:ext cx="1724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54" name=""/>
          <p:cNvSpPr/>
          <p:nvPr/>
        </p:nvSpPr>
        <p:spPr>
          <a:xfrm>
            <a:off x="1680840" y="149220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Puri &amp; Ramchandran – Asilomar 1999)</a:t>
            </a:r>
            <a:br>
              <a:rPr sz="1800"/>
            </a:b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Mohr, Riskin &amp; Ladner – JSAC, June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5" name=""/>
          <p:cNvGrpSpPr/>
          <p:nvPr/>
        </p:nvGrpSpPr>
        <p:grpSpPr>
          <a:xfrm>
            <a:off x="5651640" y="4573440"/>
            <a:ext cx="2786040" cy="455760"/>
            <a:chOff x="5651640" y="4573440"/>
            <a:chExt cx="2786040" cy="455760"/>
          </a:xfrm>
        </p:grpSpPr>
        <mc:AlternateContent>
          <mc:Choice xmlns:a14="http://schemas.microsoft.com/office/drawing/2010/main" Requires="a14">
            <p:sp>
              <p:nvSpPr>
                <p:cNvPr id="3456" name=""/>
                <p:cNvSpPr txBox="1"/>
                <p:nvPr/>
              </p:nvSpPr>
              <p:spPr>
                <a:xfrm>
                  <a:off x="5651640" y="4573440"/>
                  <a:ext cx="277668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λL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7" name=""/>
                <p:cNvSpPr txBox="1"/>
                <p:nvPr/>
              </p:nvSpPr>
              <p:spPr>
                <a:xfrm>
                  <a:off x="5661360" y="4573440"/>
                  <a:ext cx="2776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λL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2666880" y="2919240"/>
                <a:ext cx="1724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4920-2461-4585-A245-8F30DDFA74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Limited Retransmission PET (LR-PET)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“frame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[n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wo chances of trans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n]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[n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nsmission-sl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[n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ds source element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[n]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a previous (retransmitted)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[n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mitter knows number of packet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k’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receiv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[n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Partial retransmiss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of element           neede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uring retransmission, </a:t>
            </a: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effective length of          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3057480" y="3456000"/>
            <a:ext cx="2319480" cy="655200"/>
            <a:chOff x="3057480" y="3456000"/>
            <a:chExt cx="2319480" cy="655200"/>
          </a:xfrm>
        </p:grpSpPr>
        <p:cxnSp>
          <p:nvCxnSpPr>
            <p:cNvPr id="3462" name=""/>
            <p:cNvCxnSpPr>
              <a:stCxn id="3463" idx="1"/>
              <a:endCxn id="3464" idx="0"/>
            </p:cNvCxnSpPr>
            <p:nvPr/>
          </p:nvCxnSpPr>
          <p:spPr>
            <a:xfrm>
              <a:off x="3057480" y="3456000"/>
              <a:ext cx="2319840" cy="562320"/>
            </a:xfrm>
            <a:prstGeom prst="bentConnector4">
              <a:avLst>
                <a:gd name="adj1" fmla="val 450"/>
                <a:gd name="adj2" fmla="val 74951"/>
              </a:avLst>
            </a:prstGeom>
            <a:ln w="28440">
              <a:solidFill>
                <a:srgbClr val="003399"/>
              </a:solidFill>
              <a:miter/>
            </a:ln>
          </p:spPr>
        </p:cxnSp>
        <p:sp>
          <p:nvSpPr>
            <p:cNvPr id="3465" name=""/>
            <p:cNvSpPr/>
            <p:nvPr/>
          </p:nvSpPr>
          <p:spPr>
            <a:xfrm>
              <a:off x="5376600" y="4017600"/>
              <a:ext cx="0" cy="936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6" name=""/>
          <p:cNvSpPr/>
          <p:nvPr/>
        </p:nvSpPr>
        <p:spPr>
          <a:xfrm>
            <a:off x="4453560" y="3822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1067760" y="32464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067760" y="400356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2459160" y="3456000"/>
            <a:ext cx="104292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3502080" y="3456000"/>
            <a:ext cx="104292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5381640" y="3456000"/>
            <a:ext cx="104292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6424560" y="3456000"/>
            <a:ext cx="104292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"/>
          <p:cNvCxnSpPr>
            <a:stCxn id="3463" idx="3"/>
            <a:endCxn id="3470" idx="1"/>
          </p:cNvCxnSpPr>
          <p:nvPr/>
        </p:nvCxnSpPr>
        <p:spPr>
          <a:xfrm>
            <a:off x="4545000" y="3619080"/>
            <a:ext cx="837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473" name=""/>
          <p:cNvSpPr/>
          <p:nvPr/>
        </p:nvSpPr>
        <p:spPr>
          <a:xfrm>
            <a:off x="5381640" y="4111560"/>
            <a:ext cx="1042920" cy="411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6424560" y="4111560"/>
            <a:ext cx="1042920" cy="411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2459160" y="4111560"/>
            <a:ext cx="1042920" cy="411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502080" y="4111560"/>
            <a:ext cx="1042920" cy="411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7" name=""/>
          <p:cNvCxnSpPr>
            <a:stCxn id="3476" idx="3"/>
            <a:endCxn id="3473" idx="1"/>
          </p:cNvCxnSpPr>
          <p:nvPr/>
        </p:nvCxnSpPr>
        <p:spPr>
          <a:xfrm>
            <a:off x="4545000" y="4317480"/>
            <a:ext cx="837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478" name=""/>
          <p:cNvSpPr/>
          <p:nvPr/>
        </p:nvSpPr>
        <p:spPr>
          <a:xfrm>
            <a:off x="2459160" y="3024360"/>
            <a:ext cx="144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3502080" y="302436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4545000" y="3024360"/>
            <a:ext cx="144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814840" y="3002040"/>
            <a:ext cx="394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674880" y="3002040"/>
            <a:ext cx="695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5381640" y="3024360"/>
            <a:ext cx="144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6424560" y="3024360"/>
            <a:ext cx="180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5589720" y="3000240"/>
            <a:ext cx="648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7467480" y="302436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6491160" y="3000240"/>
            <a:ext cx="892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9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8" name=""/>
          <p:cNvCxnSpPr/>
          <p:nvPr/>
        </p:nvCxnSpPr>
        <p:spPr>
          <a:xfrm>
            <a:off x="4546440" y="3192120"/>
            <a:ext cx="83592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mc:AlternateContent>
        <mc:Choice xmlns:a14="http://schemas.microsoft.com/office/drawing/2010/main" Requires="a14">
          <p:sp>
            <p:nvSpPr>
              <p:cNvPr id="3489" name=""/>
              <p:cNvSpPr txBox="1"/>
              <p:nvPr/>
            </p:nvSpPr>
            <p:spPr>
              <a:xfrm>
                <a:off x="5272200" y="5219640"/>
                <a:ext cx="662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0" name=""/>
              <p:cNvSpPr txBox="1"/>
              <p:nvPr/>
            </p:nvSpPr>
            <p:spPr>
              <a:xfrm>
                <a:off x="7086600" y="5219640"/>
                <a:ext cx="1724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&lt;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91" name=""/>
          <p:cNvGrpSpPr/>
          <p:nvPr/>
        </p:nvGrpSpPr>
        <p:grpSpPr>
          <a:xfrm>
            <a:off x="6119640" y="5562720"/>
            <a:ext cx="671400" cy="459720"/>
            <a:chOff x="6119640" y="5562720"/>
            <a:chExt cx="671400" cy="459720"/>
          </a:xfrm>
        </p:grpSpPr>
        <mc:AlternateContent>
          <mc:Choice xmlns:a14="http://schemas.microsoft.com/office/drawing/2010/main" Requires="a14">
            <p:sp>
              <p:nvSpPr>
                <p:cNvPr id="3492" name=""/>
                <p:cNvSpPr txBox="1"/>
                <p:nvPr/>
              </p:nvSpPr>
              <p:spPr>
                <a:xfrm>
                  <a:off x="6119640" y="5572080"/>
                  <a:ext cx="66204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3" name=""/>
                <p:cNvSpPr txBox="1"/>
                <p:nvPr/>
              </p:nvSpPr>
              <p:spPr>
                <a:xfrm>
                  <a:off x="6129000" y="5562720"/>
                  <a:ext cx="66204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73F3-4B96-48FF-AE3C-42C59CF3BB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ptimization over stochastic policie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288396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current transmission slot, server must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to distribute bandwidth over primary &amp; secondary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strongly to protect each primary &amp; secondary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pends on the policy selected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bandwidth will be dedicated to retrans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pends on number of lost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sume stationary protection assignmen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riven by stochastic packet los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(Podolsky, Vetterli &amp; McCanne – MMSP 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(Chou &amp; Miao – submitted Trans. MM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(Chou, Mohr, Wang and Mehrotra – DCC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1447920" y="914400"/>
            <a:ext cx="6476760" cy="2018880"/>
            <a:chOff x="1447920" y="914400"/>
            <a:chExt cx="6476760" cy="2018880"/>
          </a:xfrm>
        </p:grpSpPr>
        <p:sp>
          <p:nvSpPr>
            <p:cNvPr id="3497" name=""/>
            <p:cNvSpPr/>
            <p:nvPr/>
          </p:nvSpPr>
          <p:spPr>
            <a:xfrm>
              <a:off x="1447920" y="1342080"/>
              <a:ext cx="457200" cy="1531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447920" y="2108160"/>
              <a:ext cx="457200" cy="7660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905120" y="1098360"/>
              <a:ext cx="2133360" cy="1412640"/>
            </a:xfrm>
            <a:custGeom>
              <a:avLst/>
              <a:gdLst/>
              <a:ahLst/>
              <a:rect l="l" t="t" r="r" b="b"/>
              <a:pathLst>
                <a:path w="1344" h="974">
                  <a:moveTo>
                    <a:pt x="0" y="408"/>
                  </a:moveTo>
                  <a:cubicBezTo>
                    <a:pt x="22" y="398"/>
                    <a:pt x="78" y="408"/>
                    <a:pt x="130" y="350"/>
                  </a:cubicBezTo>
                  <a:cubicBezTo>
                    <a:pt x="182" y="292"/>
                    <a:pt x="155" y="99"/>
                    <a:pt x="312" y="62"/>
                  </a:cubicBezTo>
                  <a:cubicBezTo>
                    <a:pt x="469" y="25"/>
                    <a:pt x="919" y="0"/>
                    <a:pt x="1070" y="130"/>
                  </a:cubicBezTo>
                  <a:cubicBezTo>
                    <a:pt x="1221" y="260"/>
                    <a:pt x="1173" y="706"/>
                    <a:pt x="1219" y="840"/>
                  </a:cubicBezTo>
                  <a:cubicBezTo>
                    <a:pt x="1265" y="974"/>
                    <a:pt x="1318" y="916"/>
                    <a:pt x="1344" y="936"/>
                  </a:cubicBezTo>
                </a:path>
              </a:pathLst>
            </a:custGeom>
            <a:noFill/>
            <a:ln w="1908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200400" y="1112760"/>
              <a:ext cx="2133720" cy="1412640"/>
            </a:xfrm>
            <a:custGeom>
              <a:avLst/>
              <a:gdLst/>
              <a:ahLst/>
              <a:rect l="l" t="t" r="r" b="b"/>
              <a:pathLst>
                <a:path w="1344" h="974">
                  <a:moveTo>
                    <a:pt x="0" y="408"/>
                  </a:moveTo>
                  <a:cubicBezTo>
                    <a:pt x="22" y="398"/>
                    <a:pt x="78" y="408"/>
                    <a:pt x="130" y="350"/>
                  </a:cubicBezTo>
                  <a:cubicBezTo>
                    <a:pt x="182" y="292"/>
                    <a:pt x="155" y="99"/>
                    <a:pt x="312" y="62"/>
                  </a:cubicBezTo>
                  <a:cubicBezTo>
                    <a:pt x="469" y="25"/>
                    <a:pt x="919" y="0"/>
                    <a:pt x="1070" y="130"/>
                  </a:cubicBezTo>
                  <a:cubicBezTo>
                    <a:pt x="1221" y="260"/>
                    <a:pt x="1173" y="706"/>
                    <a:pt x="1219" y="840"/>
                  </a:cubicBezTo>
                  <a:cubicBezTo>
                    <a:pt x="1265" y="974"/>
                    <a:pt x="1318" y="916"/>
                    <a:pt x="1344" y="936"/>
                  </a:cubicBez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495680" y="1127520"/>
              <a:ext cx="2133720" cy="1412640"/>
            </a:xfrm>
            <a:custGeom>
              <a:avLst/>
              <a:gdLst/>
              <a:ahLst/>
              <a:rect l="l" t="t" r="r" b="b"/>
              <a:pathLst>
                <a:path w="1344" h="974">
                  <a:moveTo>
                    <a:pt x="0" y="408"/>
                  </a:moveTo>
                  <a:cubicBezTo>
                    <a:pt x="22" y="398"/>
                    <a:pt x="78" y="408"/>
                    <a:pt x="130" y="350"/>
                  </a:cubicBezTo>
                  <a:cubicBezTo>
                    <a:pt x="182" y="292"/>
                    <a:pt x="155" y="99"/>
                    <a:pt x="312" y="62"/>
                  </a:cubicBezTo>
                  <a:cubicBezTo>
                    <a:pt x="469" y="25"/>
                    <a:pt x="919" y="0"/>
                    <a:pt x="1070" y="130"/>
                  </a:cubicBezTo>
                  <a:cubicBezTo>
                    <a:pt x="1221" y="260"/>
                    <a:pt x="1173" y="706"/>
                    <a:pt x="1219" y="840"/>
                  </a:cubicBezTo>
                  <a:cubicBezTo>
                    <a:pt x="1265" y="974"/>
                    <a:pt x="1318" y="916"/>
                    <a:pt x="1344" y="936"/>
                  </a:cubicBez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791320" y="1141920"/>
              <a:ext cx="2133360" cy="1412640"/>
            </a:xfrm>
            <a:custGeom>
              <a:avLst/>
              <a:gdLst/>
              <a:ahLst/>
              <a:rect l="l" t="t" r="r" b="b"/>
              <a:pathLst>
                <a:path w="1344" h="974">
                  <a:moveTo>
                    <a:pt x="0" y="408"/>
                  </a:moveTo>
                  <a:cubicBezTo>
                    <a:pt x="22" y="398"/>
                    <a:pt x="78" y="408"/>
                    <a:pt x="130" y="350"/>
                  </a:cubicBezTo>
                  <a:cubicBezTo>
                    <a:pt x="182" y="292"/>
                    <a:pt x="155" y="99"/>
                    <a:pt x="312" y="62"/>
                  </a:cubicBezTo>
                  <a:cubicBezTo>
                    <a:pt x="469" y="25"/>
                    <a:pt x="919" y="0"/>
                    <a:pt x="1070" y="130"/>
                  </a:cubicBezTo>
                  <a:cubicBezTo>
                    <a:pt x="1221" y="260"/>
                    <a:pt x="1173" y="706"/>
                    <a:pt x="1219" y="840"/>
                  </a:cubicBezTo>
                  <a:cubicBezTo>
                    <a:pt x="1265" y="974"/>
                    <a:pt x="1318" y="916"/>
                    <a:pt x="1344" y="936"/>
                  </a:cubicBezTo>
                </a:path>
              </a:pathLst>
            </a:custGeom>
            <a:noFill/>
            <a:ln w="19080">
              <a:solidFill>
                <a:srgbClr val="0066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743200" y="1342080"/>
              <a:ext cx="457200" cy="1531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038480" y="1342080"/>
              <a:ext cx="457200" cy="1531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038480" y="1968840"/>
              <a:ext cx="457200" cy="905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334120" y="1342080"/>
              <a:ext cx="457200" cy="1531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038480" y="2247480"/>
              <a:ext cx="457200" cy="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8" name=""/>
                <p:cNvSpPr txBox="1"/>
                <p:nvPr/>
              </p:nvSpPr>
              <p:spPr>
                <a:xfrm>
                  <a:off x="2666880" y="914400"/>
                  <a:ext cx="53352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κ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9" name=""/>
            <p:cNvSpPr/>
            <p:nvPr/>
          </p:nvSpPr>
          <p:spPr>
            <a:xfrm>
              <a:off x="2743200" y="1968840"/>
              <a:ext cx="457200" cy="905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743200" y="2247480"/>
              <a:ext cx="457200" cy="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334120" y="1968840"/>
              <a:ext cx="457200" cy="905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334120" y="2247480"/>
              <a:ext cx="457200" cy="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 rot="16200000">
              <a:off x="1333800" y="152280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rot="16200000">
              <a:off x="1242720" y="235188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 rot="16200000">
              <a:off x="2525760" y="22917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 rot="16200000">
              <a:off x="3827520" y="22917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rot="16200000">
              <a:off x="5121000" y="22917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 rot="16200000">
              <a:off x="2629440" y="151848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 rot="16200000">
              <a:off x="3924720" y="151128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rot="16200000">
              <a:off x="5220000" y="150588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9EB7-9E63-4C03-B394-839BF5490E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4038480" y="4191120"/>
            <a:ext cx="48135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12840" y="4191120"/>
            <a:ext cx="35049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ptimization in LR-PET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bjective in slot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[n]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s to maxim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5" name=""/>
              <p:cNvSpPr txBox="1"/>
              <p:nvPr/>
            </p:nvSpPr>
            <p:spPr>
              <a:xfrm>
                <a:off x="914400" y="1862280"/>
                <a:ext cx="6276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λL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κ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κ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6" name=""/>
              <p:cNvSpPr txBox="1"/>
              <p:nvPr/>
            </p:nvSpPr>
            <p:spPr>
              <a:xfrm>
                <a:off x="685800" y="3505320"/>
                <a:ext cx="6194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27" name=""/>
          <p:cNvSpPr/>
          <p:nvPr/>
        </p:nvSpPr>
        <p:spPr>
          <a:xfrm rot="16200000">
            <a:off x="2057400" y="12186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rot="16200000">
            <a:off x="5334120" y="609120"/>
            <a:ext cx="152280" cy="3505320"/>
          </a:xfrm>
          <a:custGeom>
            <a:avLst/>
            <a:gdLst>
              <a:gd name="textAreaLeft" fmla="*/ 97200 w 152280"/>
              <a:gd name="textAreaRight" fmla="*/ 152640 w 1522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V="1" rot="5400000">
            <a:off x="2933640" y="224676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0" name=""/>
          <p:cNvCxnSpPr>
            <a:stCxn id="3527" idx="1"/>
            <a:endCxn id="3529" idx="1"/>
          </p:cNvCxnSpPr>
          <p:nvPr/>
        </p:nvCxnSpPr>
        <p:spPr>
          <a:xfrm flipH="1" rot="16200000">
            <a:off x="2152440" y="2418840"/>
            <a:ext cx="83916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3531" name=""/>
          <p:cNvSpPr/>
          <p:nvPr/>
        </p:nvSpPr>
        <p:spPr>
          <a:xfrm flipV="1" rot="5400000">
            <a:off x="5943600" y="258984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2" name=""/>
          <p:cNvCxnSpPr>
            <a:stCxn id="3528" idx="1"/>
            <a:endCxn id="3531" idx="1"/>
          </p:cNvCxnSpPr>
          <p:nvPr/>
        </p:nvCxnSpPr>
        <p:spPr>
          <a:xfrm flipH="1" rot="16200000">
            <a:off x="5295600" y="2552040"/>
            <a:ext cx="83916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26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3533" name=""/>
          <p:cNvSpPr/>
          <p:nvPr/>
        </p:nvSpPr>
        <p:spPr>
          <a:xfrm>
            <a:off x="247320" y="2500200"/>
            <a:ext cx="2492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3399"/>
                </a:solidFill>
                <a:latin typeface="Arial"/>
              </a:rPr>
              <a:t>N+1 hypotheses</a:t>
            </a: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 on</a:t>
            </a:r>
            <a:br>
              <a:rPr sz="1600"/>
            </a:b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future retransmission,</a:t>
            </a:r>
            <a:br>
              <a:rPr sz="1600"/>
            </a:b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depending on the number</a:t>
            </a:r>
            <a:br>
              <a:rPr sz="1600"/>
            </a:b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of lost pack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5555880" y="2422440"/>
            <a:ext cx="2709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Regular PET optimization of</a:t>
            </a:r>
            <a:br>
              <a:rPr sz="1600"/>
            </a:b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redundancy indices for</a:t>
            </a:r>
            <a:br>
              <a:rPr sz="1600"/>
            </a:br>
            <a:r>
              <a:rPr b="0" lang="en-AU" sz="1600" spc="-1" strike="noStrike">
                <a:solidFill>
                  <a:srgbClr val="003399"/>
                </a:solidFill>
                <a:latin typeface="Arial"/>
              </a:rPr>
              <a:t>element retrans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7010280" y="3276720"/>
            <a:ext cx="125748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:</a:t>
            </a:r>
            <a:br>
              <a:rPr sz="1600"/>
            </a:br>
            <a:r>
              <a:rPr b="0" i="1" lang="en-US" sz="2400" spc="-1" strike="noStrike" baseline="-10000">
                <a:solidFill>
                  <a:srgbClr val="000000"/>
                </a:solidFill>
                <a:latin typeface="cmsy9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3130560" y="2590920"/>
            <a:ext cx="1257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:</a:t>
            </a:r>
            <a:br>
              <a:rPr sz="1600"/>
            </a:br>
            <a:r>
              <a:rPr b="0" i="1" lang="en-US" sz="2400" spc="-1" strike="noStrike" baseline="-10000">
                <a:solidFill>
                  <a:srgbClr val="000000"/>
                </a:solidFill>
                <a:latin typeface="cmsy9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7" name=""/>
          <p:cNvGrpSpPr/>
          <p:nvPr/>
        </p:nvGrpSpPr>
        <p:grpSpPr>
          <a:xfrm>
            <a:off x="5227560" y="4349880"/>
            <a:ext cx="3476520" cy="1760040"/>
            <a:chOff x="5227560" y="4349880"/>
            <a:chExt cx="3476520" cy="1760040"/>
          </a:xfrm>
        </p:grpSpPr>
        <p:sp>
          <p:nvSpPr>
            <p:cNvPr id="3538" name=""/>
            <p:cNvSpPr/>
            <p:nvPr/>
          </p:nvSpPr>
          <p:spPr>
            <a:xfrm>
              <a:off x="5245560" y="6016320"/>
              <a:ext cx="3443400" cy="59400"/>
            </a:xfrm>
            <a:custGeom>
              <a:avLst/>
              <a:gdLst/>
              <a:ahLst/>
              <a:rect l="l" t="t" r="r" b="b"/>
              <a:pathLst>
                <a:path w="2990" h="76">
                  <a:moveTo>
                    <a:pt x="0" y="76"/>
                  </a:moveTo>
                  <a:lnTo>
                    <a:pt x="1492" y="48"/>
                  </a:lnTo>
                  <a:lnTo>
                    <a:pt x="299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250240" y="4349880"/>
              <a:ext cx="3429360" cy="1759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 flipV="1">
              <a:off x="5250240" y="60235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5250240" y="60091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5592600" y="60091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5592600" y="59950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5592600" y="598068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5592600" y="59670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592600" y="59529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5592600" y="593856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5592600" y="59245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5592600" y="59104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5592600" y="58964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5592600" y="58824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592600" y="586800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5592600" y="58539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5592600" y="58399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5592600" y="582552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5592600" y="58118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5592600" y="57978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5592600" y="57834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5592600" y="57693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5592600" y="575496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5592600" y="57412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5592600" y="57272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5592600" y="571284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5592600" y="56988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5592600" y="56847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5592600" y="56707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5592600" y="56566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V="1">
              <a:off x="5592600" y="564228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5592600" y="56282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5592600" y="56142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5592600" y="559980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592600" y="55861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5592600" y="55720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5592600" y="55576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5592600" y="55436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5592600" y="552924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5592600" y="55155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5592600" y="55015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5592600" y="548712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V="1">
              <a:off x="5592600" y="54730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V="1">
              <a:off x="5592600" y="54590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V="1">
              <a:off x="5592600" y="54450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5592600" y="54309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592600" y="541656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5592600" y="54028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5592600" y="53888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5592600" y="537444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5592600" y="53604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5592600" y="53463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5592600" y="53323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5592600" y="53182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5592600" y="530388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5592600" y="52898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592600" y="527580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592600" y="526140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592600" y="52477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592600" y="52336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592600" y="52192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 flipV="1">
              <a:off x="5592600" y="52052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V="1">
              <a:off x="5592600" y="519084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 flipV="1">
              <a:off x="5592600" y="517716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V="1">
              <a:off x="5592600" y="516312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V="1">
              <a:off x="5592600" y="5148720"/>
              <a:ext cx="7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 flipV="1">
              <a:off x="5592600" y="513468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V="1">
              <a:off x="5592600" y="5120640"/>
              <a:ext cx="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6" name=""/>
            <p:cNvGrpSpPr/>
            <p:nvPr/>
          </p:nvGrpSpPr>
          <p:grpSpPr>
            <a:xfrm>
              <a:off x="5592600" y="4358880"/>
              <a:ext cx="686880" cy="1750680"/>
              <a:chOff x="5592600" y="4358880"/>
              <a:chExt cx="686880" cy="1750680"/>
            </a:xfrm>
          </p:grpSpPr>
          <p:sp>
            <p:nvSpPr>
              <p:cNvPr id="3607" name=""/>
              <p:cNvSpPr/>
              <p:nvPr/>
            </p:nvSpPr>
            <p:spPr>
              <a:xfrm flipV="1">
                <a:off x="559260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V="1">
                <a:off x="559260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V="1">
                <a:off x="559260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V="1">
                <a:off x="559260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V="1">
                <a:off x="559260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V="1">
                <a:off x="559260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559260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flipV="1">
                <a:off x="559260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 flipV="1">
                <a:off x="559260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V="1">
                <a:off x="559260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V="1">
                <a:off x="559260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flipV="1">
                <a:off x="559260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59260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V="1">
                <a:off x="559260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V="1">
                <a:off x="559260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V="1">
                <a:off x="559260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V="1">
                <a:off x="559260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559260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559260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559260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559260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559260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559260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559260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559260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559260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V="1">
                <a:off x="559260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559260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559260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V="1">
                <a:off x="559260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flipV="1">
                <a:off x="559260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V="1">
                <a:off x="559260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559260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559260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V="1">
                <a:off x="559260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559260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 flipV="1">
                <a:off x="559260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559260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559260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V="1">
                <a:off x="559260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V="1">
                <a:off x="559260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 flipV="1">
                <a:off x="559260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559260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559260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559260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559260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559260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559260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559260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559260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559260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559260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559260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559260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593568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593568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593568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593568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593568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593568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593568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593568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593568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593568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593568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593568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593568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593568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593568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593568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593568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593568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593568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593568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593568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593568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593568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593568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593568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593568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593568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593568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V="1">
                <a:off x="593568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V="1">
                <a:off x="593568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V="1">
                <a:off x="593568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V="1">
                <a:off x="593568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V="1">
                <a:off x="593568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V="1">
                <a:off x="593568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93568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593568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V="1">
                <a:off x="593568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593568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V="1">
                <a:off x="593568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93568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593568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593568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593568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593568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3568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593568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593568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593568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593568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593568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593568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593568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593568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593568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593568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593568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593568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593568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593568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593568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593568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593568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593568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593568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593568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3568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93568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93568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593568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V="1">
                <a:off x="593568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593568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593568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flipV="1">
                <a:off x="593568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V="1">
                <a:off x="593568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V="1">
                <a:off x="593568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593568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V="1">
                <a:off x="593568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V="1">
                <a:off x="593568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V="1">
                <a:off x="593568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593568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V="1">
                <a:off x="593568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V="1">
                <a:off x="593568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V="1">
                <a:off x="593568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V="1">
                <a:off x="593568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V="1">
                <a:off x="593568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593568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V="1">
                <a:off x="593568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V="1">
                <a:off x="593568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V="1">
                <a:off x="593568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V="1">
                <a:off x="593568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V="1">
                <a:off x="593568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V="1">
                <a:off x="593568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flipV="1">
                <a:off x="593568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V="1">
                <a:off x="593568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V="1">
                <a:off x="593568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 flipV="1">
                <a:off x="593568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 flipV="1">
                <a:off x="593568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V="1">
                <a:off x="593568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 flipV="1">
                <a:off x="593568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flipV="1">
                <a:off x="593568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V="1">
                <a:off x="593568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flipV="1">
                <a:off x="593568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flipV="1">
                <a:off x="593568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V="1">
                <a:off x="593568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V="1">
                <a:off x="593568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 flipV="1">
                <a:off x="593568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V="1">
                <a:off x="593568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flipV="1">
                <a:off x="593568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V="1">
                <a:off x="593568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V="1">
                <a:off x="593568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V="1">
                <a:off x="593568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V="1">
                <a:off x="593568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593568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V="1">
                <a:off x="593568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V="1">
                <a:off x="593568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V="1">
                <a:off x="593568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V="1">
                <a:off x="593568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593568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593568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593568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V="1">
                <a:off x="593568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593568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V="1">
                <a:off x="593568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V="1">
                <a:off x="593568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V="1">
                <a:off x="593568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V="1">
                <a:off x="627876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627876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 flipV="1">
                <a:off x="627876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627876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V="1">
                <a:off x="627876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627876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627876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627876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627876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V="1">
                <a:off x="627876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 flipV="1">
                <a:off x="627876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V="1">
                <a:off x="627876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 flipV="1">
                <a:off x="627876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 flipV="1">
                <a:off x="627876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V="1">
                <a:off x="627876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 flipV="1">
                <a:off x="627876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V="1">
                <a:off x="627876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V="1">
                <a:off x="627876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 flipV="1">
                <a:off x="627876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V="1">
                <a:off x="627876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 flipV="1">
                <a:off x="627876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7" name=""/>
            <p:cNvGrpSpPr/>
            <p:nvPr/>
          </p:nvGrpSpPr>
          <p:grpSpPr>
            <a:xfrm>
              <a:off x="6278760" y="4358880"/>
              <a:ext cx="343800" cy="1750680"/>
              <a:chOff x="6278760" y="4358880"/>
              <a:chExt cx="343800" cy="1750680"/>
            </a:xfrm>
          </p:grpSpPr>
          <p:sp>
            <p:nvSpPr>
              <p:cNvPr id="3808" name=""/>
              <p:cNvSpPr/>
              <p:nvPr/>
            </p:nvSpPr>
            <p:spPr>
              <a:xfrm flipV="1">
                <a:off x="627876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627876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 flipV="1">
                <a:off x="627876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 flipV="1">
                <a:off x="627876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 flipV="1">
                <a:off x="627876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 flipV="1">
                <a:off x="627876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V="1">
                <a:off x="627876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V="1">
                <a:off x="627876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27876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627876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flipV="1">
                <a:off x="627876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V="1">
                <a:off x="627876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V="1">
                <a:off x="627876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V="1">
                <a:off x="627876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V="1">
                <a:off x="627876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627876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V="1">
                <a:off x="627876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V="1">
                <a:off x="627876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V="1">
                <a:off x="627876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627876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V="1">
                <a:off x="627876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V="1">
                <a:off x="627876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V="1">
                <a:off x="627876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V="1">
                <a:off x="627876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 flipV="1">
                <a:off x="627876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627876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V="1">
                <a:off x="627876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V="1">
                <a:off x="627876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V="1">
                <a:off x="627876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V="1">
                <a:off x="627876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 flipV="1">
                <a:off x="627876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627876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V="1">
                <a:off x="627876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 flipV="1">
                <a:off x="627876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627876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V="1">
                <a:off x="627876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V="1">
                <a:off x="627876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V="1">
                <a:off x="627876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627876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V="1">
                <a:off x="627876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V="1">
                <a:off x="627876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V="1">
                <a:off x="627876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flipV="1">
                <a:off x="627876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V="1">
                <a:off x="627876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V="1">
                <a:off x="627876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627876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627876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627876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V="1">
                <a:off x="627876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V="1">
                <a:off x="627876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627876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flipV="1">
                <a:off x="627876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627876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627876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627876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627876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627876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627876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V="1">
                <a:off x="627876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627876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627876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V="1">
                <a:off x="627876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flipV="1">
                <a:off x="627876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V="1">
                <a:off x="627876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V="1">
                <a:off x="627876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flipV="1">
                <a:off x="627876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V="1">
                <a:off x="627876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627876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flipV="1">
                <a:off x="627876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flipV="1">
                <a:off x="627876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flipV="1">
                <a:off x="627876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flipV="1">
                <a:off x="627876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flipV="1">
                <a:off x="627876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 flipV="1">
                <a:off x="627876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flipV="1">
                <a:off x="627876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flipV="1">
                <a:off x="627876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flipV="1">
                <a:off x="627876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flipV="1">
                <a:off x="627876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627876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V="1">
                <a:off x="627876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V="1">
                <a:off x="627876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V="1">
                <a:off x="627876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V="1">
                <a:off x="627876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V="1">
                <a:off x="627876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V="1">
                <a:off x="627876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V="1">
                <a:off x="627876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V="1">
                <a:off x="627876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V="1">
                <a:off x="627876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V="1">
                <a:off x="627876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627876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V="1">
                <a:off x="627876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V="1">
                <a:off x="627876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V="1">
                <a:off x="627876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V="1">
                <a:off x="627876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V="1">
                <a:off x="627876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V="1">
                <a:off x="627876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627876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 flipV="1">
                <a:off x="627876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 flipV="1">
                <a:off x="627876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 flipV="1">
                <a:off x="627876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 flipV="1">
                <a:off x="627876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 flipV="1">
                <a:off x="627876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 flipV="1">
                <a:off x="627876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 flipV="1">
                <a:off x="627876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 flipV="1">
                <a:off x="662184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 flipV="1">
                <a:off x="662184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 flipV="1">
                <a:off x="662184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V="1">
                <a:off x="662184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 flipV="1">
                <a:off x="662184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V="1">
                <a:off x="662184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 flipV="1">
                <a:off x="662184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 flipV="1">
                <a:off x="662184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 flipV="1">
                <a:off x="662184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 flipV="1">
                <a:off x="662184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 flipV="1">
                <a:off x="662184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 flipV="1">
                <a:off x="662184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 flipV="1">
                <a:off x="662184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 flipV="1">
                <a:off x="662184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 flipV="1">
                <a:off x="662184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 flipV="1">
                <a:off x="662184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 flipV="1">
                <a:off x="662184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V="1">
                <a:off x="662184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 flipV="1">
                <a:off x="662184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 flipV="1">
                <a:off x="662184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662184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662184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 flipV="1">
                <a:off x="662184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 flipV="1">
                <a:off x="662184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 flipV="1">
                <a:off x="662184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 flipV="1">
                <a:off x="662184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 flipV="1">
                <a:off x="662184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 flipV="1">
                <a:off x="662184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V="1">
                <a:off x="662184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 flipV="1">
                <a:off x="662184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 flipV="1">
                <a:off x="662184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 flipV="1">
                <a:off x="662184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 flipV="1">
                <a:off x="662184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 flipV="1">
                <a:off x="662184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V="1">
                <a:off x="662184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V="1">
                <a:off x="662184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V="1">
                <a:off x="662184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 flipV="1">
                <a:off x="662184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 flipV="1">
                <a:off x="662184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V="1">
                <a:off x="662184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flipV="1">
                <a:off x="662184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662184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 flipV="1">
                <a:off x="662184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 flipV="1">
                <a:off x="662184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 flipV="1">
                <a:off x="662184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 flipV="1">
                <a:off x="662184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V="1">
                <a:off x="662184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 flipV="1">
                <a:off x="662184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 flipV="1">
                <a:off x="662184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flipV="1">
                <a:off x="662184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662184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V="1">
                <a:off x="662184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V="1">
                <a:off x="662184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V="1">
                <a:off x="662184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662184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662184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662184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662184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662184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662184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662184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62184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62184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62184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62184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2184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62184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62184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662184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662184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662184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662184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662184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662184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662184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662184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662184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662184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662184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662184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662184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662184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662184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662184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flipV="1">
                <a:off x="662184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 flipV="1">
                <a:off x="662184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662184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 flipV="1">
                <a:off x="662184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V="1">
                <a:off x="662184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V="1">
                <a:off x="662184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V="1">
                <a:off x="662184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 flipV="1">
                <a:off x="662184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flipV="1">
                <a:off x="662184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flipV="1">
                <a:off x="662184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 flipV="1">
                <a:off x="662184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 flipV="1">
                <a:off x="662184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8" name=""/>
            <p:cNvGrpSpPr/>
            <p:nvPr/>
          </p:nvGrpSpPr>
          <p:grpSpPr>
            <a:xfrm>
              <a:off x="6622200" y="4358880"/>
              <a:ext cx="686880" cy="1750680"/>
              <a:chOff x="6622200" y="4358880"/>
              <a:chExt cx="686880" cy="1750680"/>
            </a:xfrm>
          </p:grpSpPr>
          <p:sp>
            <p:nvSpPr>
              <p:cNvPr id="4009" name=""/>
              <p:cNvSpPr/>
              <p:nvPr/>
            </p:nvSpPr>
            <p:spPr>
              <a:xfrm flipV="1">
                <a:off x="662220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 flipV="1">
                <a:off x="662220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V="1">
                <a:off x="662220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V="1">
                <a:off x="662220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 flipV="1">
                <a:off x="662220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 flipV="1">
                <a:off x="662220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flipV="1">
                <a:off x="662220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flipV="1">
                <a:off x="662220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V="1">
                <a:off x="662220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V="1">
                <a:off x="662220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flipV="1">
                <a:off x="662220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flipV="1">
                <a:off x="662220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flipV="1">
                <a:off x="662220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flipV="1">
                <a:off x="662220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flipV="1">
                <a:off x="662220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flipV="1">
                <a:off x="662220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 flipV="1">
                <a:off x="662220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flipV="1">
                <a:off x="662220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V="1">
                <a:off x="662220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flipV="1">
                <a:off x="662220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flipV="1">
                <a:off x="662220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V="1">
                <a:off x="662220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V="1">
                <a:off x="662220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V="1">
                <a:off x="662220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V="1">
                <a:off x="662220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V="1">
                <a:off x="662220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flipV="1">
                <a:off x="662220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flipV="1">
                <a:off x="662220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V="1">
                <a:off x="662220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696528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V="1">
                <a:off x="696528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flipV="1">
                <a:off x="696528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 flipV="1">
                <a:off x="696528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flipV="1">
                <a:off x="696528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flipV="1">
                <a:off x="696528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flipV="1">
                <a:off x="696528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 flipV="1">
                <a:off x="696528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flipV="1">
                <a:off x="696528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flipV="1">
                <a:off x="696528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flipV="1">
                <a:off x="696528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flipV="1">
                <a:off x="696528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V="1">
                <a:off x="696528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flipV="1">
                <a:off x="696528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flipV="1">
                <a:off x="696528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V="1">
                <a:off x="696528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V="1">
                <a:off x="696528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flipV="1">
                <a:off x="696528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 flipV="1">
                <a:off x="696528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flipV="1">
                <a:off x="696528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 flipV="1">
                <a:off x="696528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 flipV="1">
                <a:off x="696528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flipV="1">
                <a:off x="696528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 flipV="1">
                <a:off x="696528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 flipV="1">
                <a:off x="696528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 flipV="1">
                <a:off x="696528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696528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 flipV="1">
                <a:off x="696528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 flipV="1">
                <a:off x="696528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 flipV="1">
                <a:off x="696528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 flipV="1">
                <a:off x="696528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V="1">
                <a:off x="696528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 flipV="1">
                <a:off x="696528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 flipV="1">
                <a:off x="696528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 flipV="1">
                <a:off x="696528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 flipV="1">
                <a:off x="696528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flipV="1">
                <a:off x="696528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 flipV="1">
                <a:off x="696528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V="1">
                <a:off x="696528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flipV="1">
                <a:off x="696528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flipV="1">
                <a:off x="696528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 flipV="1">
                <a:off x="696528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flipV="1">
                <a:off x="696528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V="1">
                <a:off x="696528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V="1">
                <a:off x="696528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V="1">
                <a:off x="696528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 flipV="1">
                <a:off x="696528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696528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696528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V="1">
                <a:off x="696528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 flipV="1">
                <a:off x="696528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 flipV="1">
                <a:off x="696528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 flipV="1">
                <a:off x="696528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V="1">
                <a:off x="696528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V="1">
                <a:off x="696528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 flipV="1">
                <a:off x="696528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 flipV="1">
                <a:off x="696528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 flipV="1">
                <a:off x="696528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V="1">
                <a:off x="696528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 flipV="1">
                <a:off x="696528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V="1">
                <a:off x="696528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 flipV="1">
                <a:off x="696528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696528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V="1">
                <a:off x="696528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V="1">
                <a:off x="696528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 flipV="1">
                <a:off x="696528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V="1">
                <a:off x="696528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696528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 flipV="1">
                <a:off x="696528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696528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 flipV="1">
                <a:off x="696528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flipV="1">
                <a:off x="696528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flipV="1">
                <a:off x="696528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flipV="1">
                <a:off x="696528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V="1">
                <a:off x="696528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 flipV="1">
                <a:off x="696528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696528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696528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696528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 flipV="1">
                <a:off x="696528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 flipV="1">
                <a:off x="696528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 flipV="1">
                <a:off x="696528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V="1">
                <a:off x="696528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V="1">
                <a:off x="696528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V="1">
                <a:off x="696528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V="1">
                <a:off x="696528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96528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 flipV="1">
                <a:off x="696528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 flipV="1">
                <a:off x="696528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V="1">
                <a:off x="696528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 flipV="1">
                <a:off x="696528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V="1">
                <a:off x="696528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V="1">
                <a:off x="696528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 flipV="1">
                <a:off x="696528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 flipV="1">
                <a:off x="696528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 flipV="1">
                <a:off x="696528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V="1">
                <a:off x="696528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V="1">
                <a:off x="696528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696528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 flipV="1">
                <a:off x="696528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 flipV="1">
                <a:off x="696528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V="1">
                <a:off x="696528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V="1">
                <a:off x="696528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 flipV="1">
                <a:off x="696528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 flipV="1">
                <a:off x="696528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V="1">
                <a:off x="696528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V="1">
                <a:off x="696528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 flipV="1">
                <a:off x="696528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V="1">
                <a:off x="696528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V="1">
                <a:off x="696528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V="1">
                <a:off x="696528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V="1">
                <a:off x="696528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696528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696528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696528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V="1">
                <a:off x="696528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V="1">
                <a:off x="696528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V="1">
                <a:off x="696528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696528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V="1">
                <a:off x="696528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696528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V="1">
                <a:off x="696528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V="1">
                <a:off x="696528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696528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 flipV="1">
                <a:off x="696528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V="1">
                <a:off x="730836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730836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730836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V="1">
                <a:off x="730836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 flipV="1">
                <a:off x="730836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V="1">
                <a:off x="730836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V="1">
                <a:off x="730836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V="1">
                <a:off x="730836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V="1">
                <a:off x="730836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730836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V="1">
                <a:off x="730836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 flipV="1">
                <a:off x="730836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V="1">
                <a:off x="730836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 flipV="1">
                <a:off x="730836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 flipV="1">
                <a:off x="730836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V="1">
                <a:off x="730836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730836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 flipV="1">
                <a:off x="730836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V="1">
                <a:off x="730836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V="1">
                <a:off x="730836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V="1">
                <a:off x="730836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V="1">
                <a:off x="730836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 flipV="1">
                <a:off x="730836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 flipV="1">
                <a:off x="730836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V="1">
                <a:off x="730836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 flipV="1">
                <a:off x="730836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V="1">
                <a:off x="730836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 flipV="1">
                <a:off x="730836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 flipV="1">
                <a:off x="730836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 flipV="1">
                <a:off x="730836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V="1">
                <a:off x="730836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730836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 flipV="1">
                <a:off x="730836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 flipV="1">
                <a:off x="730836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V="1">
                <a:off x="730836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730836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V="1">
                <a:off x="730836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 flipV="1">
                <a:off x="730836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V="1">
                <a:off x="730836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 flipV="1">
                <a:off x="730836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V="1">
                <a:off x="730836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V="1">
                <a:off x="730836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 flipV="1">
                <a:off x="730836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730836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V="1">
                <a:off x="730836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730836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9" name=""/>
            <p:cNvGrpSpPr/>
            <p:nvPr/>
          </p:nvGrpSpPr>
          <p:grpSpPr>
            <a:xfrm>
              <a:off x="7308360" y="4358880"/>
              <a:ext cx="342720" cy="1750680"/>
              <a:chOff x="7308360" y="4358880"/>
              <a:chExt cx="342720" cy="1750680"/>
            </a:xfrm>
          </p:grpSpPr>
          <p:sp>
            <p:nvSpPr>
              <p:cNvPr id="4210" name=""/>
              <p:cNvSpPr/>
              <p:nvPr/>
            </p:nvSpPr>
            <p:spPr>
              <a:xfrm flipV="1">
                <a:off x="730836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V="1">
                <a:off x="730836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V="1">
                <a:off x="730836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V="1">
                <a:off x="730836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730836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730836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V="1">
                <a:off x="730836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V="1">
                <a:off x="730836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V="1">
                <a:off x="730836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V="1">
                <a:off x="730836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V="1">
                <a:off x="730836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V="1">
                <a:off x="730836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V="1">
                <a:off x="730836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730836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V="1">
                <a:off x="730836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V="1">
                <a:off x="730836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 flipV="1">
                <a:off x="730836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730836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V="1">
                <a:off x="730836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V="1">
                <a:off x="730836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V="1">
                <a:off x="730836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 flipV="1">
                <a:off x="730836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 flipV="1">
                <a:off x="730836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V="1">
                <a:off x="730836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V="1">
                <a:off x="730836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V="1">
                <a:off x="730836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 flipV="1">
                <a:off x="730836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 flipV="1">
                <a:off x="730836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V="1">
                <a:off x="730836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V="1">
                <a:off x="730836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V="1">
                <a:off x="730836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V="1">
                <a:off x="730836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 flipV="1">
                <a:off x="730836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V="1">
                <a:off x="730836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V="1">
                <a:off x="730836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V="1">
                <a:off x="730836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V="1">
                <a:off x="730836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V="1">
                <a:off x="730836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V="1">
                <a:off x="730836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730836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V="1">
                <a:off x="730836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V="1">
                <a:off x="730836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V="1">
                <a:off x="730836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V="1">
                <a:off x="730836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V="1">
                <a:off x="730836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V="1">
                <a:off x="730836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V="1">
                <a:off x="730836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V="1">
                <a:off x="730836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V="1">
                <a:off x="730836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V="1">
                <a:off x="730836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V="1">
                <a:off x="730836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V="1">
                <a:off x="730836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V="1">
                <a:off x="730836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V="1">
                <a:off x="730836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V="1">
                <a:off x="730836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V="1">
                <a:off x="730836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V="1">
                <a:off x="730836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V="1">
                <a:off x="730836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V="1">
                <a:off x="730836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V="1">
                <a:off x="730836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V="1">
                <a:off x="730836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V="1">
                <a:off x="730836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V="1">
                <a:off x="730836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730836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V="1">
                <a:off x="730836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V="1">
                <a:off x="730836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V="1">
                <a:off x="730836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V="1">
                <a:off x="730836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V="1">
                <a:off x="730836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730836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 flipV="1">
                <a:off x="730836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flipV="1">
                <a:off x="730836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flipV="1">
                <a:off x="730836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V="1">
                <a:off x="730836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V="1">
                <a:off x="730836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V="1">
                <a:off x="730836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V="1">
                <a:off x="730836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V="1">
                <a:off x="730836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V="1">
                <a:off x="730836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V="1">
                <a:off x="765036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V="1">
                <a:off x="765036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V="1">
                <a:off x="765036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765036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flipV="1">
                <a:off x="765036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flipV="1">
                <a:off x="765036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765036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flipV="1">
                <a:off x="765036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765036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V="1">
                <a:off x="765036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765036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 flipV="1">
                <a:off x="765036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V="1">
                <a:off x="765036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flipV="1">
                <a:off x="765036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765036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V="1">
                <a:off x="765036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V="1">
                <a:off x="765036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V="1">
                <a:off x="765036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765036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V="1">
                <a:off x="765036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flipV="1">
                <a:off x="765036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flipV="1">
                <a:off x="765036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765036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V="1">
                <a:off x="765036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V="1">
                <a:off x="765036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flipV="1">
                <a:off x="765036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765036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V="1">
                <a:off x="765036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V="1">
                <a:off x="765036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 flipV="1">
                <a:off x="765036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765036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 flipV="1">
                <a:off x="765036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V="1">
                <a:off x="765036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765036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765036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765036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765036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765036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765036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V="1">
                <a:off x="765036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V="1">
                <a:off x="765036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V="1">
                <a:off x="765036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765036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765036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765036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765036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65036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765036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765036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V="1">
                <a:off x="765036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65036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V="1">
                <a:off x="765036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V="1">
                <a:off x="765036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765036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5036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765036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765036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765036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65036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V="1">
                <a:off x="765036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V="1">
                <a:off x="765036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V="1">
                <a:off x="765036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765036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765036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765036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765036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765036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765036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765036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V="1">
                <a:off x="765036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V="1">
                <a:off x="765036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V="1">
                <a:off x="765036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V="1">
                <a:off x="765036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765036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765036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765036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765036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765036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765036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V="1">
                <a:off x="765036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V="1">
                <a:off x="765036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V="1">
                <a:off x="765036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V="1">
                <a:off x="765036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765036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765036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765036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765036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765036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765036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V="1">
                <a:off x="765036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V="1">
                <a:off x="765036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V="1">
                <a:off x="765036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V="1">
                <a:off x="765036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765036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765036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765036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765036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765036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765036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V="1">
                <a:off x="765036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V="1">
                <a:off x="765036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V="1">
                <a:off x="765036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V="1">
                <a:off x="765036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765036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765036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765036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765036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765036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765036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V="1">
                <a:off x="765036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V="1">
                <a:off x="765036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V="1">
                <a:off x="765036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V="1">
                <a:off x="765036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765036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765036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765036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765036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765036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765036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V="1">
                <a:off x="765036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V="1">
                <a:off x="765036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7650360" y="4358880"/>
              <a:ext cx="686880" cy="1750680"/>
              <a:chOff x="7650360" y="4358880"/>
              <a:chExt cx="686880" cy="1750680"/>
            </a:xfrm>
          </p:grpSpPr>
          <p:sp>
            <p:nvSpPr>
              <p:cNvPr id="4411" name=""/>
              <p:cNvSpPr/>
              <p:nvPr/>
            </p:nvSpPr>
            <p:spPr>
              <a:xfrm flipV="1">
                <a:off x="765036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765036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765036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765036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799344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799344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799344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V="1">
                <a:off x="799344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V="1">
                <a:off x="799344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flipV="1">
                <a:off x="799344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flipV="1">
                <a:off x="799344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flipV="1">
                <a:off x="799344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flipV="1">
                <a:off x="799344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flipV="1">
                <a:off x="799344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V="1">
                <a:off x="799344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799344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799344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799344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799344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799344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799344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V="1">
                <a:off x="799344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V="1">
                <a:off x="799344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V="1">
                <a:off x="799344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V="1">
                <a:off x="799344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799344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799344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799344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799344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799344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799344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V="1">
                <a:off x="799344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V="1">
                <a:off x="799344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V="1">
                <a:off x="799344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V="1">
                <a:off x="799344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799344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799344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799344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799344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799344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799344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V="1">
                <a:off x="799344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V="1">
                <a:off x="799344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V="1">
                <a:off x="799344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V="1">
                <a:off x="799344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799344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799344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799344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799344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799344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799344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V="1">
                <a:off x="799344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V="1">
                <a:off x="799344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V="1">
                <a:off x="799344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799344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799344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799344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799344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799344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799344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799344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799344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799344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799344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799344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799344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799344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799344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799344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799344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799344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V="1">
                <a:off x="799344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V="1">
                <a:off x="799344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V="1">
                <a:off x="799344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V="1">
                <a:off x="799344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799344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799344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799344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799344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799344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799344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V="1">
                <a:off x="799344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V="1">
                <a:off x="799344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V="1">
                <a:off x="799344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V="1">
                <a:off x="799344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799344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799344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799344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799344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799344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799344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V="1">
                <a:off x="799344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V="1">
                <a:off x="799344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V="1">
                <a:off x="799344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V="1">
                <a:off x="799344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799344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799344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799344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799344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799344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799344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V="1">
                <a:off x="799344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799344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799344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V="1">
                <a:off x="799344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799344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799344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799344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799344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799344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799344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799344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V="1">
                <a:off x="799344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flipV="1">
                <a:off x="799344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799344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799344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 flipV="1">
                <a:off x="799344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 flipV="1">
                <a:off x="799344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799344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799344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799344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799344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799344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799344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799344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V="1">
                <a:off x="799344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799344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799344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799344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833652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833652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833652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833652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833652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833652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833652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V="1">
                <a:off x="833652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V="1">
                <a:off x="833652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833652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833652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833652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833652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833652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833652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833652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V="1">
                <a:off x="833652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833652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833652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V="1">
                <a:off x="833652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833652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833652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833652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833652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833652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833652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833652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V="1">
                <a:off x="833652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V="1">
                <a:off x="833652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833652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833652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833652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833652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833652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833652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833652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V="1">
                <a:off x="833652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833652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833652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V="1">
                <a:off x="833652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833652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833652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833652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833652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833652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833652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833652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V="1">
                <a:off x="833652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V="1">
                <a:off x="833652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V="1">
                <a:off x="833652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833652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833652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833652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833652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833652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833652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8336520" y="5317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8336520" y="5303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V="1">
                <a:off x="833652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V="1">
                <a:off x="833652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833652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833652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833652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833652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833652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833652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833652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833652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V="1">
                <a:off x="833652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V="1">
                <a:off x="833652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833652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1" name=""/>
            <p:cNvGrpSpPr/>
            <p:nvPr/>
          </p:nvGrpSpPr>
          <p:grpSpPr>
            <a:xfrm>
              <a:off x="5250240" y="4358880"/>
              <a:ext cx="3430080" cy="1751040"/>
              <a:chOff x="5250240" y="4358880"/>
              <a:chExt cx="3430080" cy="1751040"/>
            </a:xfrm>
          </p:grpSpPr>
          <p:sp>
            <p:nvSpPr>
              <p:cNvPr id="4612" name=""/>
              <p:cNvSpPr/>
              <p:nvPr/>
            </p:nvSpPr>
            <p:spPr>
              <a:xfrm flipV="1">
                <a:off x="833652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833652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833652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833652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833652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833652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V="1">
                <a:off x="833652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V="1">
                <a:off x="833652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833652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833652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833652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833652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833652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833652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833652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833652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 flipV="1">
                <a:off x="833652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 flipV="1">
                <a:off x="833652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 flipV="1">
                <a:off x="833652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833652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833652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833652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V="1">
                <a:off x="833652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V="1">
                <a:off x="833652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833652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833652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V="1">
                <a:off x="833652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V="1">
                <a:off x="833652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833652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833652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833652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833652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V="1">
                <a:off x="833652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V="1">
                <a:off x="833652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833652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V="1">
                <a:off x="833652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V="1">
                <a:off x="833652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V="1">
                <a:off x="833652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833652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833652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833652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833652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V="1">
                <a:off x="833652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V="1">
                <a:off x="833652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V="1">
                <a:off x="833652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833652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833652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V="1">
                <a:off x="833652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833652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833652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833652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833652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V="1">
                <a:off x="833652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V="1">
                <a:off x="833652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V="1">
                <a:off x="8679600" y="6108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8679600" y="6093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8679600" y="6079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V="1">
                <a:off x="8679600" y="6065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8679600" y="6051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8679600" y="6037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8679600" y="6023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8679600" y="6009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V="1">
                <a:off x="8679600" y="5995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V="1">
                <a:off x="8679600" y="5980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V="1">
                <a:off x="8679600" y="5967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8679600" y="5952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8679600" y="5938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V="1">
                <a:off x="8679600" y="5924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8679600" y="5910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8679600" y="5896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8679600" y="5882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8679600" y="5868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V="1">
                <a:off x="8679600" y="5853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8679600" y="5839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8679600" y="58255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8679600" y="5811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8679600" y="5797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8679600" y="5783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8679600" y="5769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8679600" y="5754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8679600" y="5741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8679600" y="5727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8679600" y="5712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8679600" y="5698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8679600" y="56847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8679600" y="5670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8679600" y="5656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8679600" y="5642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8679600" y="5628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8679600" y="5614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8679600" y="55998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8679600" y="5586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8679600" y="5572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8679600" y="5557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8679600" y="5543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8679600" y="5529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8679600" y="5515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8679600" y="5501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8679600" y="5487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8679600" y="5473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8679600" y="54590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8679600" y="5445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8679600" y="5430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8679600" y="5416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8679600" y="5402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8679600" y="5388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8679600" y="53740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8679600" y="5360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8679600" y="5346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8679600" y="5331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8679600" y="5318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8679600" y="5303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8679600" y="5289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8679600" y="5275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8679600" y="5261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V="1">
                <a:off x="8679600" y="5247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V="1">
                <a:off x="8679600" y="5233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V="1">
                <a:off x="8679600" y="5219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8679600" y="5205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8679600" y="51908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 flipV="1">
                <a:off x="8679600" y="5177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 flipV="1">
                <a:off x="8679600" y="5163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 flipV="1">
                <a:off x="8679600" y="5148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 flipV="1">
                <a:off x="8679600" y="5134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flipV="1">
                <a:off x="8679600" y="5120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V="1">
                <a:off x="8679600" y="51066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8679600" y="5092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8679600" y="50781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8679600" y="5064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8679600" y="5050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8679600" y="5035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8679600" y="5022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V="1">
                <a:off x="8679600" y="5007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V="1">
                <a:off x="8679600" y="4993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V="1">
                <a:off x="8679600" y="4979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V="1">
                <a:off x="8679600" y="49651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8679600" y="4951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8679600" y="4937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8679600" y="4923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8679600" y="4908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8679600" y="4894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8679600" y="48808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V="1">
                <a:off x="8679600" y="4866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V="1">
                <a:off x="8679600" y="48524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V="1">
                <a:off x="8679600" y="4838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V="1">
                <a:off x="8679600" y="48243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8679600" y="48099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8679600" y="47962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8679600" y="4782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8679600" y="47678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8679600" y="47538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8679600" y="47394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V="1">
                <a:off x="8679600" y="47257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V="1">
                <a:off x="8679600" y="4711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V="1">
                <a:off x="8679600" y="46972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V="1">
                <a:off x="8679600" y="46832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8679600" y="46692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8679600" y="46551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8679600" y="4641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8679600" y="462672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8679600" y="46126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8679600" y="45986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V="1">
                <a:off x="8679600" y="458424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V="1">
                <a:off x="8679600" y="45705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V="1">
                <a:off x="8679600" y="4556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V="1">
                <a:off x="8679600" y="45421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8679600" y="45280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8679600" y="45136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8679600" y="45000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8679600" y="4485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8679600" y="447156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8679600" y="44575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V="1">
                <a:off x="8679600" y="444348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V="1">
                <a:off x="8679600" y="442944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V="1">
                <a:off x="8679600" y="441540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V="1">
                <a:off x="8679600" y="440100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8679600" y="438696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8679600" y="4372920"/>
                <a:ext cx="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8679600" y="4358880"/>
                <a:ext cx="7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525024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527076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5291640" y="61095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531216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33268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35356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537444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5395320" y="61095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541584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543636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457240" y="61095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47812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49864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51952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54004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560920" y="61095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58180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60232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623200" y="61095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564372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5664600" y="61095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2" name=""/>
            <p:cNvGrpSpPr/>
            <p:nvPr/>
          </p:nvGrpSpPr>
          <p:grpSpPr>
            <a:xfrm>
              <a:off x="5250240" y="5933160"/>
              <a:ext cx="3422520" cy="176400"/>
              <a:chOff x="5250240" y="5933160"/>
              <a:chExt cx="3422520" cy="176400"/>
            </a:xfrm>
          </p:grpSpPr>
          <p:sp>
            <p:nvSpPr>
              <p:cNvPr id="4813" name=""/>
              <p:cNvSpPr/>
              <p:nvPr/>
            </p:nvSpPr>
            <p:spPr>
              <a:xfrm>
                <a:off x="56854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5706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57268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57477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57682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57891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58096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58305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58514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8719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8928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9133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342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551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9756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9961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0170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0379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0588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0793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0998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61207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1416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61621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6183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62035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62244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2452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2658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2866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3072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63280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63489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63694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63903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64108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64317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64526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4731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4936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65145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65354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65563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65768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65973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66182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66391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66596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66805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67010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7219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7428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7633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67842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68047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8256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68464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6867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8878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69084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69292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69501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9706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69912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0120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0329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0538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0743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0948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1157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1366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1571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1780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1985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2194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2403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2608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2817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3022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3231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344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3645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3854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4059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4268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4476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4682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4887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5096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5304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5513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5718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5924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6132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6341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6546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6755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6960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7169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7378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7583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7792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7997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8206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8415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8620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8829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034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243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2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657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862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80074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8028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80488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80694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80899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81111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81316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81522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81730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81939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82148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82353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825588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827676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82976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83181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83390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835956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838044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84013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84218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844272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846324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84841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85050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85255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854640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85669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85878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8608680" y="61092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86292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864972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8670600" y="61092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2502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2707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2916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312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332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3539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3744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3953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15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367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576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781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98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519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5404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5612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5818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602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6232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6440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6646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6854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06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268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477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82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891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809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8305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8514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8719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8928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9133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9342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9551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975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996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60170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60379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60588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6079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6099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61207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61416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61621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6183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6203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2244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62452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2658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2866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3072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3280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63489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3694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"/>
            <p:cNvGrpSpPr/>
            <p:nvPr/>
          </p:nvGrpSpPr>
          <p:grpSpPr>
            <a:xfrm>
              <a:off x="5250240" y="5757840"/>
              <a:ext cx="3422520" cy="175680"/>
              <a:chOff x="5250240" y="5757840"/>
              <a:chExt cx="3422520" cy="175680"/>
            </a:xfrm>
          </p:grpSpPr>
          <p:sp>
            <p:nvSpPr>
              <p:cNvPr id="5014" name=""/>
              <p:cNvSpPr/>
              <p:nvPr/>
            </p:nvSpPr>
            <p:spPr>
              <a:xfrm>
                <a:off x="63903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64108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64317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64526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6473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6493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65145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65354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65563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6576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65973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66182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66391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6659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6680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67010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67219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67428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6763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67842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68047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68256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68464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6867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68878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69084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69292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9501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6970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9912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0120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0329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0538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0743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0948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1157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136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157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1780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1985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2194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240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260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2817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3022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3231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344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364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3854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4059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4268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4476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4682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4887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5096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5304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5513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5718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5924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6132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634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654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6755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6960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7169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737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7583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7792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7997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820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841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8620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8829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034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24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52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657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862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80074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8028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80488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80694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80899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81111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81316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81522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81730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81939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82148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82353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825588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827676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82976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83181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83390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835956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838044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84013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84218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844272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846324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84841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85050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85255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854640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85669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85878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8608680" y="59331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86292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864972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8670600" y="59331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2502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2707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29164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3121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3326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53539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3744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39532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54158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54367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545760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54781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54986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55195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5404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56128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818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6023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62320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56440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6646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6854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57060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572688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57477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57682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578916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58096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58305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58514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58719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589284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59133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59342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95512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9756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9961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170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379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5880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93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998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12072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1416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1621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1830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2035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22440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2452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2658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28668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3072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3280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3489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3694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39036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4108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4317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45264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4731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4936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5145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5354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55632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5768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5973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61824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6391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6596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6805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70104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72192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7428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7633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78420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80472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8256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8464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8670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88788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9084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9292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95016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9706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99120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01208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0329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053840" y="57578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074360" y="57578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4" name=""/>
            <p:cNvGrpSpPr/>
            <p:nvPr/>
          </p:nvGrpSpPr>
          <p:grpSpPr>
            <a:xfrm>
              <a:off x="5250240" y="5581440"/>
              <a:ext cx="3422520" cy="176400"/>
              <a:chOff x="5250240" y="5581440"/>
              <a:chExt cx="3422520" cy="176400"/>
            </a:xfrm>
          </p:grpSpPr>
          <p:sp>
            <p:nvSpPr>
              <p:cNvPr id="5215" name=""/>
              <p:cNvSpPr/>
              <p:nvPr/>
            </p:nvSpPr>
            <p:spPr>
              <a:xfrm>
                <a:off x="70948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11576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1366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1571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1780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1985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21944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2403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2608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8172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022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231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3440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3645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38540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059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268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44768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4682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4887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5096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5304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55136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5718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5924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61328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6341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6546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6755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6960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71696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7378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7583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77924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7997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8206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8415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8620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88292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034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243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520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657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862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0074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0280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04888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0694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0899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11116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1316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1522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1730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1939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21484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2353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825588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827676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82976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83181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83390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835956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838044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84013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84218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844272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846324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84841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85050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85255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854640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85669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5878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8608680" y="57574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86292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864972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8670600" y="57574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52502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52707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52916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53121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53326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53539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53744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53953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54158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54367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54576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54781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54986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55195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55404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55612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55818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56023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56232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56440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56646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6854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7060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57268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57477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7682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7891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58096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8305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8514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8719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8928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133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342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551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9756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9961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60170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379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588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60793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60998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1207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1416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61621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61830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2035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2244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2452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2658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62866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63072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63280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63489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63694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63903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64108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64317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64526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64731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64936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65145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5354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65563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65768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5973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6182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66391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6596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66805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7010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67219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67428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67633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67842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68047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68256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68464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68670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68878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69084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69292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69501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69706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69912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0120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0329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0538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0743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0948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1157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1366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1571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1780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1985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2194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2403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2608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28172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3022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3231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3440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3645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38540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4059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4268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4476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4682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48872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096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304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513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718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9240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61328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6341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6546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6755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69608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71696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73784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758360" y="55814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779240" y="55814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5" name=""/>
            <p:cNvGrpSpPr/>
            <p:nvPr/>
          </p:nvGrpSpPr>
          <p:grpSpPr>
            <a:xfrm>
              <a:off x="5250240" y="5405760"/>
              <a:ext cx="3422520" cy="175680"/>
              <a:chOff x="5250240" y="5405760"/>
              <a:chExt cx="3422520" cy="175680"/>
            </a:xfrm>
          </p:grpSpPr>
          <p:sp>
            <p:nvSpPr>
              <p:cNvPr id="5416" name=""/>
              <p:cNvSpPr/>
              <p:nvPr/>
            </p:nvSpPr>
            <p:spPr>
              <a:xfrm>
                <a:off x="779976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8206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8415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8620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88292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9034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9243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94520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9657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9862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800748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80280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804888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80694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80899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811116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813168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81522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817308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819396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821484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823536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825588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827676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82976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831816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83390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835956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838044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84013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84218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844272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846324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84841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85050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85255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854640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85669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85878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8608680" y="55810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86292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864972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8670600" y="55810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52502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52707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52916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5312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5332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53539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53744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3953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415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4367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4576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4781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498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519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5404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5612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5818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602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6232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6440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56646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56854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706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57268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57477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7682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7891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809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58305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8514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8719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8928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9133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9342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9551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975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5996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60170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60379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0588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6079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6099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61207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61416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61621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6183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6203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62244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62452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62658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62866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63072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63280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63489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63694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63903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64108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64317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64526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6473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6493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65145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5354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65563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6576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65973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66182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66391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6659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6680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67010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67219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67428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6763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67842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68047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8256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8464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6867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68878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69084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9292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9501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970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69912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0120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0329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0538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0743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0948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1157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136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157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1780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1985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2194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240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260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2817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3022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3231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344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364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3854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4059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4268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476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682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4887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5096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5304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5513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5718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5924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6132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634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654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76755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6960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7169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7737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77583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77792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77997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820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841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8620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8829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9034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924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9452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9657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9862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80074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8028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80488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80694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80899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81111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81316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81522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81730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81939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82148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82353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825588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827676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82976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83181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83390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835956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838044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84013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84218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844272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846324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84841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"/>
            <p:cNvGrpSpPr/>
            <p:nvPr/>
          </p:nvGrpSpPr>
          <p:grpSpPr>
            <a:xfrm>
              <a:off x="5250240" y="5053320"/>
              <a:ext cx="3422520" cy="352800"/>
              <a:chOff x="5250240" y="5053320"/>
              <a:chExt cx="3422520" cy="352800"/>
            </a:xfrm>
          </p:grpSpPr>
          <p:sp>
            <p:nvSpPr>
              <p:cNvPr id="5617" name=""/>
              <p:cNvSpPr/>
              <p:nvPr/>
            </p:nvSpPr>
            <p:spPr>
              <a:xfrm>
                <a:off x="85050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85255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854640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85669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85878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8608680" y="54057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86292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864972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8670600" y="54057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52502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2707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2916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312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332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3539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3744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3953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5415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54367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54576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54781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498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519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5404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5612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5818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602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6232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6440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56646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6854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706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7268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7477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7682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7891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809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8305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8514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8719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8928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9133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9342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59551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5975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5996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60170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60379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60588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079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099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1207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1416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61621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183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203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2244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2452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2658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62866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63072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3280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3489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3694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63903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4108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4317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4526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73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493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5145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5354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5563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576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5973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6182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6391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59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6680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67010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67219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67428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6763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67842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68047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68256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8464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6867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68878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69084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69292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69501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6970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69912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120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0329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0538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0743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0948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1157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7136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7157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71780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71985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72194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7240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7260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72817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73022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73231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7344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7364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73854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74059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74268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74476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74682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74887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75096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75304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75513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75718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5924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76132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634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654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76755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76960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77169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7737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77583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77792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77997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7820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7841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78620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78829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79034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7924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9452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9657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9862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80074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8028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80488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80694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80899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81111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81316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81522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81730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81939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82148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82353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825588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827676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82976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83181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83390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835956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838044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84013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84218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844272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846324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84841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85050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85255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854640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85669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85878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8608680" y="52293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86292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864972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8670600" y="52293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25024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27076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29164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31216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33268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35392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37444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39532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41584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43672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45760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47812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49864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51952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54040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56128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58180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60232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62320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564408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66460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568548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570600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726880" y="50533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5747760" y="50533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7" name=""/>
            <p:cNvGrpSpPr/>
            <p:nvPr/>
          </p:nvGrpSpPr>
          <p:grpSpPr>
            <a:xfrm>
              <a:off x="5250240" y="4877640"/>
              <a:ext cx="3422520" cy="175680"/>
              <a:chOff x="5250240" y="4877640"/>
              <a:chExt cx="3422520" cy="175680"/>
            </a:xfrm>
          </p:grpSpPr>
          <p:sp>
            <p:nvSpPr>
              <p:cNvPr id="5818" name=""/>
              <p:cNvSpPr/>
              <p:nvPr/>
            </p:nvSpPr>
            <p:spPr>
              <a:xfrm>
                <a:off x="57682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57891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58096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58305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58514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58719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58928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59133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59342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59551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59756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59961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0170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0379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0588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0793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0998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1207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1416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1621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1830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2035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2244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2452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2658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2866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3072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3280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3489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3694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3903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4108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4317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4526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4731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4936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5145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5354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5563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5768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5973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6182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6391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6596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6805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67010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67219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7428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7633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7842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8047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256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464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8670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8878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9084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9292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9501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9706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9912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70120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70329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70538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70743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70948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71157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71366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71571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71780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1985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2194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2403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2608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2817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3022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3231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3440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73645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73854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74059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74268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4476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4682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4887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5096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304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5513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18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5924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76132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76341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76546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76755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76960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7169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77378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77583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77792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77997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78206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78415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78620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78829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79034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79243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79452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79657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79862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80074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80280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80488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80694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80899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81111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81316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81522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81730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81939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82148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82353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825588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827676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82976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83181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83390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835956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838044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84013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84218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844272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846324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84841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85050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85255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854640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85669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85878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8608680" y="505296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86292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864972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8670600" y="505296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2502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52707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52916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312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5332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3539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3744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3953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5415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4367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4576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4781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5498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5519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55404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55612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55818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602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6232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6440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6646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6854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706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57268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57477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57682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57891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5809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58305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58514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58719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58928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59133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59342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59551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5975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5996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60170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60379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60588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079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6099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1207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61416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1621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183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203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62244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2452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2658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2866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63072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63280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3489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63694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63903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64108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64317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64526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8" name=""/>
            <p:cNvGrpSpPr/>
            <p:nvPr/>
          </p:nvGrpSpPr>
          <p:grpSpPr>
            <a:xfrm>
              <a:off x="5250240" y="4701600"/>
              <a:ext cx="3422520" cy="176400"/>
              <a:chOff x="5250240" y="4701600"/>
              <a:chExt cx="3422520" cy="176400"/>
            </a:xfrm>
          </p:grpSpPr>
          <p:sp>
            <p:nvSpPr>
              <p:cNvPr id="6019" name=""/>
              <p:cNvSpPr/>
              <p:nvPr/>
            </p:nvSpPr>
            <p:spPr>
              <a:xfrm>
                <a:off x="6473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6493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65145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65354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65563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576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5973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6182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6391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6659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680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7010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7219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7428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6763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7842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8047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8256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8464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867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8878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9084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69292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69501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6970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9912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70120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70329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70538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70743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70948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71157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7136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7157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71780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71985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72194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7240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7260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72817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73022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73231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7344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7364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73854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74059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74268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74476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74682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74887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75096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75304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75513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75718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75924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76132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7634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7654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76755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76960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77169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7737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77583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77792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77997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7820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7841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78620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8829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79034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7924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79452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79657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79862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80074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8028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80488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80694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80899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81111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81316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81522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81730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81939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82148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82353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825588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827676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82976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83181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83390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835956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838044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84013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84218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844272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846324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84841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85050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85255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854640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85669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85878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8608680" y="48776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86292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864972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8670600" y="48776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52502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52707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529164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53121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53326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3539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3744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39532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4158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4367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45760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4781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4986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5195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5404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56128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5818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56023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562320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6440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6646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854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7060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72688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7477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57682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578916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58096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58305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8514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8719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89284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59133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59342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595512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59756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59961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0170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60379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605880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0793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0998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12072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1416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1621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1830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62035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22440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62452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2658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28668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3072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3280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3489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3694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39036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4108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4317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645264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64731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64936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5145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65354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655632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65768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65973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661824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66391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66596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66805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67010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672192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67428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7633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678420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80472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8256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68464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68670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688788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69084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9292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695016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69706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699120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70120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70329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705384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70743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709488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7115760" y="470160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713664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7157160" y="470160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9" name=""/>
            <p:cNvGrpSpPr/>
            <p:nvPr/>
          </p:nvGrpSpPr>
          <p:grpSpPr>
            <a:xfrm>
              <a:off x="5250240" y="4525920"/>
              <a:ext cx="3422520" cy="175680"/>
              <a:chOff x="5250240" y="4525920"/>
              <a:chExt cx="3422520" cy="175680"/>
            </a:xfrm>
          </p:grpSpPr>
          <p:sp>
            <p:nvSpPr>
              <p:cNvPr id="6220" name=""/>
              <p:cNvSpPr/>
              <p:nvPr/>
            </p:nvSpPr>
            <p:spPr>
              <a:xfrm>
                <a:off x="71780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71985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721944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72403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72608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728172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73022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73231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73440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73645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738540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74059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74268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744768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74682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74887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75096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75304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755136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75718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75924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61328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76341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76546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76755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76960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771696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77378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77583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777924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77997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78206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78415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78620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788292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79034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79243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794520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79657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79862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80074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80280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804888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80694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80899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811116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81316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81522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81730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81939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821484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82353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825588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827676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82976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83181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83390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835956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838044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84013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84218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844272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846324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84841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85050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85255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854640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85669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85878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8608680" y="470124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86292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864972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8670600" y="470124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52502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52707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52916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5312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5332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53539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3744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53953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5415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54367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54576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54781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498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519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5404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5612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55818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5602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6232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56440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56646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56854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5706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57268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57477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57682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57891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5809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58305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58514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8719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8928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9133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9342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9551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975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996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60170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60379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60588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6079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6099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61207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61416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61621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183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6203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62244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62452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2658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62866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3072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63280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3489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63694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63903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64108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4317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64526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6473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6493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5145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65354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5563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6576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65973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66182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66391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6659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6680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67010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67219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67428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6763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7842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68047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68256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68464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6867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8878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9084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69292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9501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970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9912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70120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70329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70538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70743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70948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71157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7136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7157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71780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71985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72194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7240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7260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72817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73022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73231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7344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7364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73854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74059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74268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74476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74682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74887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75096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75304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75513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75718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75924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76132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7634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7654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76755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76960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77169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7737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77583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77792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77997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7820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7841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78620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0" name=""/>
            <p:cNvGrpSpPr/>
            <p:nvPr/>
          </p:nvGrpSpPr>
          <p:grpSpPr>
            <a:xfrm>
              <a:off x="5250240" y="4349880"/>
              <a:ext cx="3422520" cy="176400"/>
              <a:chOff x="5250240" y="4349880"/>
              <a:chExt cx="3422520" cy="176400"/>
            </a:xfrm>
          </p:grpSpPr>
          <p:sp>
            <p:nvSpPr>
              <p:cNvPr id="6421" name=""/>
              <p:cNvSpPr/>
              <p:nvPr/>
            </p:nvSpPr>
            <p:spPr>
              <a:xfrm>
                <a:off x="78829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79034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7924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79452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79657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79862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80074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8028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80488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80694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80899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81111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81316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81522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81730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81939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82148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82353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825588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827676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82976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83181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83390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835956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838044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84013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84218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844272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846324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84841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85050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85255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854640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85669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85878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8608680" y="452592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86292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864972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8670600" y="452592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2502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2707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2916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312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332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3539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3744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3953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415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4367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4576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4781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498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519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5404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5612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5818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602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6232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6440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6646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6854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06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268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477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82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891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809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8305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8514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8719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8928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9133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9342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9551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975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996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60170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60379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0588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079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099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1207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61416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61621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6183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6203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62244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62452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62658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62866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63072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63280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3489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63694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63903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64108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64317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64526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6473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6493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65145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65354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65563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6576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65973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66182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66391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659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680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7010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7219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7428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763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7842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8047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8256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8464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867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8878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9084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9292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9501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970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9912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0120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0329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0538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0743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0948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1157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136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157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1780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1985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2194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240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260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2817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3022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3231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344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7364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73854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74059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74268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74476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74682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74887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75096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75304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75513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5718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5924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132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34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54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6755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6960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77169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7737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77583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77792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77997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7820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7841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78620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78829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79034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7924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79452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79657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79862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80074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8028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804888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80694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80899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81111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81316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81522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81730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81939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82148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82353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825588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827676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82976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83181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83390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835956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838044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84013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84218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844272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846324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84841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850500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85255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8546400" y="4349880"/>
                <a:ext cx="180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8566920" y="4349880"/>
                <a:ext cx="216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1" name=""/>
            <p:cNvSpPr/>
            <p:nvPr/>
          </p:nvSpPr>
          <p:spPr>
            <a:xfrm>
              <a:off x="8587800" y="4349880"/>
              <a:ext cx="21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608680" y="4349880"/>
              <a:ext cx="18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629560" y="4349880"/>
              <a:ext cx="21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650080" y="4349880"/>
              <a:ext cx="21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670960" y="4349880"/>
              <a:ext cx="216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5250240" y="4349880"/>
              <a:ext cx="342936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 flipV="1">
              <a:off x="8679960" y="4349880"/>
              <a:ext cx="720" cy="175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V="1">
              <a:off x="5250240" y="4349880"/>
              <a:ext cx="720" cy="175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 flipV="1">
              <a:off x="5250240" y="4349880"/>
              <a:ext cx="720" cy="175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559260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593568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627876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662220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696528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730836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765036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799380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33688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679960" y="4349880"/>
              <a:ext cx="720" cy="2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5250240" y="593316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 flipH="1">
              <a:off x="8645400" y="593316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5250240" y="575784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 flipH="1">
              <a:off x="8645400" y="575784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5250240" y="558144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 flipH="1">
              <a:off x="8645400" y="558144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5250240" y="540576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 flipH="1">
              <a:off x="8645400" y="540576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5250240" y="522972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 flipH="1">
              <a:off x="8645400" y="522972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5250240" y="505332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 flipH="1">
              <a:off x="8645400" y="505332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5250240" y="487764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 flipH="1">
              <a:off x="8645400" y="487764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5250240" y="470160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 flipH="1">
              <a:off x="8645400" y="470160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250240" y="452592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 flipH="1">
              <a:off x="8645400" y="452592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250240" y="4349880"/>
              <a:ext cx="331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 flipH="1">
              <a:off x="8645400" y="4349880"/>
              <a:ext cx="34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250240" y="4349880"/>
              <a:ext cx="342936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 flipV="1">
              <a:off x="8679960" y="4349880"/>
              <a:ext cx="720" cy="175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250240" y="4373280"/>
              <a:ext cx="3429360" cy="1555200"/>
            </a:xfrm>
            <a:custGeom>
              <a:avLst/>
              <a:gdLst/>
              <a:ahLst/>
              <a:rect l="l" t="t" r="r" b="b"/>
              <a:pathLst>
                <a:path w="2978" h="1985">
                  <a:moveTo>
                    <a:pt x="0" y="1985"/>
                  </a:moveTo>
                  <a:lnTo>
                    <a:pt x="1489" y="1321"/>
                  </a:lnTo>
                  <a:lnTo>
                    <a:pt x="2978" y="0"/>
                  </a:ln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227560" y="5913000"/>
              <a:ext cx="45720" cy="309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10" y="38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6942240" y="5392440"/>
              <a:ext cx="45720" cy="309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7"/>
                  </a:lnTo>
                  <a:lnTo>
                    <a:pt x="20" y="40"/>
                  </a:lnTo>
                  <a:lnTo>
                    <a:pt x="10" y="37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656920" y="4357440"/>
              <a:ext cx="45720" cy="309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7"/>
                  </a:lnTo>
                  <a:lnTo>
                    <a:pt x="20" y="40"/>
                  </a:lnTo>
                  <a:lnTo>
                    <a:pt x="10" y="37"/>
                  </a:lnTo>
                  <a:lnTo>
                    <a:pt x="3" y="30"/>
                  </a:lnTo>
                  <a:lnTo>
                    <a:pt x="0" y="20"/>
                  </a:lnTo>
                  <a:lnTo>
                    <a:pt x="3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250240" y="6109560"/>
              <a:ext cx="342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229720" y="6058440"/>
              <a:ext cx="45720" cy="313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10" y="38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6952320" y="6038280"/>
              <a:ext cx="46080" cy="309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10" y="38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658000" y="5998320"/>
              <a:ext cx="46080" cy="309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8"/>
                  </a:lnTo>
                  <a:lnTo>
                    <a:pt x="20" y="40"/>
                  </a:lnTo>
                  <a:lnTo>
                    <a:pt x="10" y="38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0" name=""/>
          <p:cNvSpPr/>
          <p:nvPr/>
        </p:nvSpPr>
        <p:spPr>
          <a:xfrm>
            <a:off x="3961800" y="4832280"/>
            <a:ext cx="136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ecution ti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msec per slot)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n an old 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1" name=""/>
          <p:cNvSpPr/>
          <p:nvPr/>
        </p:nvSpPr>
        <p:spPr>
          <a:xfrm>
            <a:off x="4915440" y="42102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2" name=""/>
          <p:cNvSpPr/>
          <p:nvPr/>
        </p:nvSpPr>
        <p:spPr>
          <a:xfrm>
            <a:off x="5020920" y="5973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3" name=""/>
          <p:cNvSpPr/>
          <p:nvPr/>
        </p:nvSpPr>
        <p:spPr>
          <a:xfrm>
            <a:off x="8466120" y="61261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4" name=""/>
          <p:cNvSpPr/>
          <p:nvPr/>
        </p:nvSpPr>
        <p:spPr>
          <a:xfrm>
            <a:off x="5085000" y="6110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5" name=""/>
          <p:cNvSpPr/>
          <p:nvPr/>
        </p:nvSpPr>
        <p:spPr>
          <a:xfrm>
            <a:off x="6215760" y="611028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 (packets per sl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6" name=""/>
          <p:cNvSpPr/>
          <p:nvPr/>
        </p:nvSpPr>
        <p:spPr>
          <a:xfrm>
            <a:off x="5508000" y="4433760"/>
            <a:ext cx="18252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Q = 180 elements/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7" name=""/>
          <p:cNvSpPr/>
          <p:nvPr/>
        </p:nvSpPr>
        <p:spPr>
          <a:xfrm>
            <a:off x="7607160" y="5638680"/>
            <a:ext cx="86040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lain 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8" name=""/>
          <p:cNvSpPr/>
          <p:nvPr/>
        </p:nvSpPr>
        <p:spPr>
          <a:xfrm>
            <a:off x="5550840" y="5288040"/>
            <a:ext cx="7232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R-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9" name=""/>
          <p:cNvSpPr/>
          <p:nvPr/>
        </p:nvSpPr>
        <p:spPr>
          <a:xfrm>
            <a:off x="581040" y="4270320"/>
            <a:ext cx="277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0" name=""/>
          <p:cNvSpPr/>
          <p:nvPr/>
        </p:nvSpPr>
        <p:spPr>
          <a:xfrm>
            <a:off x="581040" y="5937120"/>
            <a:ext cx="277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1" name=""/>
          <p:cNvSpPr/>
          <p:nvPr/>
        </p:nvSpPr>
        <p:spPr>
          <a:xfrm>
            <a:off x="581040" y="5680080"/>
            <a:ext cx="277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2" name=""/>
          <p:cNvSpPr/>
          <p:nvPr/>
        </p:nvSpPr>
        <p:spPr>
          <a:xfrm>
            <a:off x="581040" y="5423040"/>
            <a:ext cx="277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3" name=""/>
          <p:cNvSpPr/>
          <p:nvPr/>
        </p:nvSpPr>
        <p:spPr>
          <a:xfrm>
            <a:off x="581040" y="5167440"/>
            <a:ext cx="277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4" name=""/>
          <p:cNvSpPr/>
          <p:nvPr/>
        </p:nvSpPr>
        <p:spPr>
          <a:xfrm>
            <a:off x="581040" y="4911840"/>
            <a:ext cx="277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5" name=""/>
          <p:cNvSpPr/>
          <p:nvPr/>
        </p:nvSpPr>
        <p:spPr>
          <a:xfrm>
            <a:off x="581040" y="4656240"/>
            <a:ext cx="277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6" name=""/>
          <p:cNvSpPr/>
          <p:nvPr/>
        </p:nvSpPr>
        <p:spPr>
          <a:xfrm>
            <a:off x="581040" y="4398840"/>
            <a:ext cx="277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7" name=""/>
          <p:cNvSpPr/>
          <p:nvPr/>
        </p:nvSpPr>
        <p:spPr>
          <a:xfrm>
            <a:off x="1090440" y="4270320"/>
            <a:ext cx="180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8" name=""/>
          <p:cNvSpPr/>
          <p:nvPr/>
        </p:nvSpPr>
        <p:spPr>
          <a:xfrm>
            <a:off x="1552680" y="4270320"/>
            <a:ext cx="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9" name=""/>
          <p:cNvSpPr/>
          <p:nvPr/>
        </p:nvSpPr>
        <p:spPr>
          <a:xfrm>
            <a:off x="2019240" y="4270320"/>
            <a:ext cx="180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0" name=""/>
          <p:cNvSpPr/>
          <p:nvPr/>
        </p:nvSpPr>
        <p:spPr>
          <a:xfrm>
            <a:off x="2482920" y="4270320"/>
            <a:ext cx="144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1" name=""/>
          <p:cNvSpPr/>
          <p:nvPr/>
        </p:nvSpPr>
        <p:spPr>
          <a:xfrm>
            <a:off x="2941560" y="4270320"/>
            <a:ext cx="180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2" name=""/>
          <p:cNvSpPr/>
          <p:nvPr/>
        </p:nvSpPr>
        <p:spPr>
          <a:xfrm>
            <a:off x="3359160" y="4270320"/>
            <a:ext cx="144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3" name=""/>
          <p:cNvSpPr/>
          <p:nvPr/>
        </p:nvSpPr>
        <p:spPr>
          <a:xfrm>
            <a:off x="581040" y="4270320"/>
            <a:ext cx="2778120" cy="19224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4" name=""/>
          <p:cNvSpPr/>
          <p:nvPr/>
        </p:nvSpPr>
        <p:spPr>
          <a:xfrm>
            <a:off x="581040" y="4270320"/>
            <a:ext cx="1440" cy="19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5" name=""/>
          <p:cNvSpPr/>
          <p:nvPr/>
        </p:nvSpPr>
        <p:spPr>
          <a:xfrm>
            <a:off x="566640" y="59371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6" name=""/>
          <p:cNvSpPr/>
          <p:nvPr/>
        </p:nvSpPr>
        <p:spPr>
          <a:xfrm>
            <a:off x="566640" y="56800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7" name=""/>
          <p:cNvSpPr/>
          <p:nvPr/>
        </p:nvSpPr>
        <p:spPr>
          <a:xfrm>
            <a:off x="566640" y="54230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8" name=""/>
          <p:cNvSpPr/>
          <p:nvPr/>
        </p:nvSpPr>
        <p:spPr>
          <a:xfrm>
            <a:off x="566640" y="5167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9" name=""/>
          <p:cNvSpPr/>
          <p:nvPr/>
        </p:nvSpPr>
        <p:spPr>
          <a:xfrm>
            <a:off x="566640" y="49118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0" name=""/>
          <p:cNvSpPr/>
          <p:nvPr/>
        </p:nvSpPr>
        <p:spPr>
          <a:xfrm>
            <a:off x="566640" y="46562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1" name=""/>
          <p:cNvSpPr/>
          <p:nvPr/>
        </p:nvSpPr>
        <p:spPr>
          <a:xfrm>
            <a:off x="566640" y="43988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2" name=""/>
          <p:cNvSpPr/>
          <p:nvPr/>
        </p:nvSpPr>
        <p:spPr>
          <a:xfrm>
            <a:off x="627120" y="4802040"/>
            <a:ext cx="2685960" cy="154080"/>
          </a:xfrm>
          <a:custGeom>
            <a:avLst/>
            <a:gdLst/>
            <a:ahLst/>
            <a:rect l="l" t="t" r="r" b="b"/>
            <a:pathLst>
              <a:path w="810" h="34">
                <a:moveTo>
                  <a:pt x="0" y="16"/>
                </a:moveTo>
                <a:lnTo>
                  <a:pt x="28" y="26"/>
                </a:lnTo>
                <a:lnTo>
                  <a:pt x="56" y="21"/>
                </a:lnTo>
                <a:lnTo>
                  <a:pt x="84" y="16"/>
                </a:lnTo>
                <a:lnTo>
                  <a:pt x="112" y="20"/>
                </a:lnTo>
                <a:lnTo>
                  <a:pt x="140" y="21"/>
                </a:lnTo>
                <a:lnTo>
                  <a:pt x="168" y="26"/>
                </a:lnTo>
                <a:lnTo>
                  <a:pt x="196" y="13"/>
                </a:lnTo>
                <a:lnTo>
                  <a:pt x="223" y="16"/>
                </a:lnTo>
                <a:lnTo>
                  <a:pt x="251" y="30"/>
                </a:lnTo>
                <a:lnTo>
                  <a:pt x="279" y="14"/>
                </a:lnTo>
                <a:lnTo>
                  <a:pt x="307" y="21"/>
                </a:lnTo>
                <a:lnTo>
                  <a:pt x="335" y="16"/>
                </a:lnTo>
                <a:lnTo>
                  <a:pt x="363" y="19"/>
                </a:lnTo>
                <a:lnTo>
                  <a:pt x="391" y="10"/>
                </a:lnTo>
                <a:lnTo>
                  <a:pt x="419" y="24"/>
                </a:lnTo>
                <a:lnTo>
                  <a:pt x="447" y="11"/>
                </a:lnTo>
                <a:lnTo>
                  <a:pt x="475" y="5"/>
                </a:lnTo>
                <a:lnTo>
                  <a:pt x="503" y="16"/>
                </a:lnTo>
                <a:lnTo>
                  <a:pt x="531" y="15"/>
                </a:lnTo>
                <a:lnTo>
                  <a:pt x="559" y="4"/>
                </a:lnTo>
                <a:lnTo>
                  <a:pt x="587" y="0"/>
                </a:lnTo>
                <a:lnTo>
                  <a:pt x="615" y="13"/>
                </a:lnTo>
                <a:lnTo>
                  <a:pt x="642" y="20"/>
                </a:lnTo>
                <a:lnTo>
                  <a:pt x="670" y="7"/>
                </a:lnTo>
                <a:lnTo>
                  <a:pt x="698" y="34"/>
                </a:lnTo>
                <a:lnTo>
                  <a:pt x="726" y="14"/>
                </a:lnTo>
                <a:lnTo>
                  <a:pt x="754" y="24"/>
                </a:lnTo>
                <a:lnTo>
                  <a:pt x="782" y="8"/>
                </a:lnTo>
                <a:lnTo>
                  <a:pt x="810" y="23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3" name=""/>
          <p:cNvSpPr/>
          <p:nvPr/>
        </p:nvSpPr>
        <p:spPr>
          <a:xfrm>
            <a:off x="627120" y="5227560"/>
            <a:ext cx="2685960" cy="58680"/>
          </a:xfrm>
          <a:custGeom>
            <a:avLst/>
            <a:gdLst/>
            <a:ahLst/>
            <a:rect l="l" t="t" r="r" b="b"/>
            <a:pathLst>
              <a:path w="810" h="13">
                <a:moveTo>
                  <a:pt x="0" y="13"/>
                </a:moveTo>
                <a:lnTo>
                  <a:pt x="28" y="9"/>
                </a:lnTo>
                <a:lnTo>
                  <a:pt x="56" y="8"/>
                </a:lnTo>
                <a:lnTo>
                  <a:pt x="84" y="6"/>
                </a:lnTo>
                <a:lnTo>
                  <a:pt x="112" y="8"/>
                </a:lnTo>
                <a:lnTo>
                  <a:pt x="140" y="7"/>
                </a:lnTo>
                <a:lnTo>
                  <a:pt x="168" y="6"/>
                </a:lnTo>
                <a:lnTo>
                  <a:pt x="196" y="6"/>
                </a:lnTo>
                <a:lnTo>
                  <a:pt x="223" y="6"/>
                </a:lnTo>
                <a:lnTo>
                  <a:pt x="251" y="8"/>
                </a:lnTo>
                <a:lnTo>
                  <a:pt x="279" y="6"/>
                </a:lnTo>
                <a:lnTo>
                  <a:pt x="307" y="5"/>
                </a:lnTo>
                <a:lnTo>
                  <a:pt x="335" y="7"/>
                </a:lnTo>
                <a:lnTo>
                  <a:pt x="363" y="6"/>
                </a:lnTo>
                <a:lnTo>
                  <a:pt x="391" y="6"/>
                </a:lnTo>
                <a:lnTo>
                  <a:pt x="419" y="7"/>
                </a:lnTo>
                <a:lnTo>
                  <a:pt x="447" y="0"/>
                </a:lnTo>
                <a:lnTo>
                  <a:pt x="475" y="5"/>
                </a:lnTo>
                <a:lnTo>
                  <a:pt x="503" y="2"/>
                </a:lnTo>
                <a:lnTo>
                  <a:pt x="531" y="2"/>
                </a:lnTo>
                <a:lnTo>
                  <a:pt x="559" y="5"/>
                </a:lnTo>
                <a:lnTo>
                  <a:pt x="587" y="2"/>
                </a:lnTo>
                <a:lnTo>
                  <a:pt x="615" y="0"/>
                </a:lnTo>
                <a:lnTo>
                  <a:pt x="642" y="9"/>
                </a:lnTo>
                <a:lnTo>
                  <a:pt x="670" y="4"/>
                </a:lnTo>
                <a:lnTo>
                  <a:pt x="698" y="5"/>
                </a:lnTo>
                <a:lnTo>
                  <a:pt x="726" y="0"/>
                </a:lnTo>
                <a:lnTo>
                  <a:pt x="754" y="11"/>
                </a:lnTo>
                <a:lnTo>
                  <a:pt x="782" y="0"/>
                </a:lnTo>
                <a:lnTo>
                  <a:pt x="810" y="1"/>
                </a:lnTo>
              </a:path>
            </a:pathLst>
          </a:custGeom>
          <a:noFill/>
          <a:ln w="6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4" name=""/>
          <p:cNvSpPr/>
          <p:nvPr/>
        </p:nvSpPr>
        <p:spPr>
          <a:xfrm>
            <a:off x="627120" y="5235480"/>
            <a:ext cx="2685960" cy="211320"/>
          </a:xfrm>
          <a:custGeom>
            <a:avLst/>
            <a:gdLst/>
            <a:ahLst/>
            <a:rect l="l" t="t" r="r" b="b"/>
            <a:pathLst>
              <a:path w="810" h="46">
                <a:moveTo>
                  <a:pt x="0" y="46"/>
                </a:moveTo>
                <a:lnTo>
                  <a:pt x="28" y="33"/>
                </a:lnTo>
                <a:lnTo>
                  <a:pt x="56" y="13"/>
                </a:lnTo>
                <a:lnTo>
                  <a:pt x="84" y="12"/>
                </a:lnTo>
                <a:lnTo>
                  <a:pt x="112" y="12"/>
                </a:lnTo>
                <a:lnTo>
                  <a:pt x="140" y="10"/>
                </a:lnTo>
                <a:lnTo>
                  <a:pt x="168" y="9"/>
                </a:lnTo>
                <a:lnTo>
                  <a:pt x="196" y="17"/>
                </a:lnTo>
                <a:lnTo>
                  <a:pt x="223" y="7"/>
                </a:lnTo>
                <a:lnTo>
                  <a:pt x="251" y="13"/>
                </a:lnTo>
                <a:lnTo>
                  <a:pt x="279" y="8"/>
                </a:lnTo>
                <a:lnTo>
                  <a:pt x="307" y="8"/>
                </a:lnTo>
                <a:lnTo>
                  <a:pt x="335" y="12"/>
                </a:lnTo>
                <a:lnTo>
                  <a:pt x="363" y="5"/>
                </a:lnTo>
                <a:lnTo>
                  <a:pt x="391" y="11"/>
                </a:lnTo>
                <a:lnTo>
                  <a:pt x="419" y="8"/>
                </a:lnTo>
                <a:lnTo>
                  <a:pt x="447" y="37"/>
                </a:lnTo>
                <a:lnTo>
                  <a:pt x="475" y="28"/>
                </a:lnTo>
                <a:lnTo>
                  <a:pt x="503" y="7"/>
                </a:lnTo>
                <a:lnTo>
                  <a:pt x="531" y="0"/>
                </a:lnTo>
                <a:lnTo>
                  <a:pt x="559" y="1"/>
                </a:lnTo>
                <a:lnTo>
                  <a:pt x="587" y="0"/>
                </a:lnTo>
                <a:lnTo>
                  <a:pt x="615" y="29"/>
                </a:lnTo>
                <a:lnTo>
                  <a:pt x="642" y="9"/>
                </a:lnTo>
                <a:lnTo>
                  <a:pt x="670" y="8"/>
                </a:lnTo>
                <a:lnTo>
                  <a:pt x="698" y="6"/>
                </a:lnTo>
                <a:lnTo>
                  <a:pt x="726" y="6"/>
                </a:lnTo>
                <a:lnTo>
                  <a:pt x="754" y="14"/>
                </a:lnTo>
                <a:lnTo>
                  <a:pt x="782" y="15"/>
                </a:lnTo>
                <a:lnTo>
                  <a:pt x="810" y="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5" name=""/>
          <p:cNvSpPr/>
          <p:nvPr/>
        </p:nvSpPr>
        <p:spPr>
          <a:xfrm>
            <a:off x="608040" y="4846680"/>
            <a:ext cx="38160" cy="5544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6" name=""/>
          <p:cNvSpPr/>
          <p:nvPr/>
        </p:nvSpPr>
        <p:spPr>
          <a:xfrm>
            <a:off x="700200" y="489420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7" name=""/>
          <p:cNvSpPr/>
          <p:nvPr/>
        </p:nvSpPr>
        <p:spPr>
          <a:xfrm>
            <a:off x="793800" y="4870440"/>
            <a:ext cx="38160" cy="540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8" name=""/>
          <p:cNvSpPr/>
          <p:nvPr/>
        </p:nvSpPr>
        <p:spPr>
          <a:xfrm>
            <a:off x="885960" y="4846680"/>
            <a:ext cx="3960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"/>
          <p:cNvSpPr/>
          <p:nvPr/>
        </p:nvSpPr>
        <p:spPr>
          <a:xfrm>
            <a:off x="979560" y="4865760"/>
            <a:ext cx="38160" cy="540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2" y="0"/>
                </a:moveTo>
                <a:lnTo>
                  <a:pt x="25" y="23"/>
                </a:lnTo>
                <a:lnTo>
                  <a:pt x="12" y="45"/>
                </a:lnTo>
                <a:lnTo>
                  <a:pt x="0" y="23"/>
                </a:lnTo>
                <a:lnTo>
                  <a:pt x="1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"/>
          <p:cNvSpPr/>
          <p:nvPr/>
        </p:nvSpPr>
        <p:spPr>
          <a:xfrm>
            <a:off x="1071720" y="487044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1" name=""/>
          <p:cNvSpPr/>
          <p:nvPr/>
        </p:nvSpPr>
        <p:spPr>
          <a:xfrm>
            <a:off x="1165320" y="4894200"/>
            <a:ext cx="38160" cy="540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2" y="0"/>
                </a:moveTo>
                <a:lnTo>
                  <a:pt x="25" y="22"/>
                </a:lnTo>
                <a:lnTo>
                  <a:pt x="12" y="45"/>
                </a:lnTo>
                <a:lnTo>
                  <a:pt x="0" y="22"/>
                </a:lnTo>
                <a:lnTo>
                  <a:pt x="1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2" name=""/>
          <p:cNvSpPr/>
          <p:nvPr/>
        </p:nvSpPr>
        <p:spPr>
          <a:xfrm>
            <a:off x="1257480" y="483408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3" name=""/>
          <p:cNvSpPr/>
          <p:nvPr/>
        </p:nvSpPr>
        <p:spPr>
          <a:xfrm>
            <a:off x="1346040" y="4846680"/>
            <a:ext cx="3996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4" name=""/>
          <p:cNvSpPr/>
          <p:nvPr/>
        </p:nvSpPr>
        <p:spPr>
          <a:xfrm>
            <a:off x="1440000" y="4911840"/>
            <a:ext cx="37800" cy="5544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5" name=""/>
          <p:cNvSpPr/>
          <p:nvPr/>
        </p:nvSpPr>
        <p:spPr>
          <a:xfrm>
            <a:off x="1531800" y="4838760"/>
            <a:ext cx="3996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6" name=""/>
          <p:cNvSpPr/>
          <p:nvPr/>
        </p:nvSpPr>
        <p:spPr>
          <a:xfrm>
            <a:off x="1625760" y="4870440"/>
            <a:ext cx="37800" cy="540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7" name=""/>
          <p:cNvSpPr/>
          <p:nvPr/>
        </p:nvSpPr>
        <p:spPr>
          <a:xfrm>
            <a:off x="1717560" y="4846680"/>
            <a:ext cx="3996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8" name=""/>
          <p:cNvSpPr/>
          <p:nvPr/>
        </p:nvSpPr>
        <p:spPr>
          <a:xfrm>
            <a:off x="1811160" y="4861080"/>
            <a:ext cx="38160" cy="55440"/>
          </a:xfrm>
          <a:custGeom>
            <a:avLst/>
            <a:gdLst/>
            <a:ahLst/>
            <a:rect l="l" t="t" r="r" b="b"/>
            <a:pathLst>
              <a:path w="25" h="46">
                <a:moveTo>
                  <a:pt x="13" y="0"/>
                </a:moveTo>
                <a:lnTo>
                  <a:pt x="25" y="23"/>
                </a:lnTo>
                <a:lnTo>
                  <a:pt x="13" y="46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1903320" y="4819680"/>
            <a:ext cx="3996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0" name=""/>
          <p:cNvSpPr/>
          <p:nvPr/>
        </p:nvSpPr>
        <p:spPr>
          <a:xfrm>
            <a:off x="1996920" y="4883040"/>
            <a:ext cx="38160" cy="558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1" name=""/>
          <p:cNvSpPr/>
          <p:nvPr/>
        </p:nvSpPr>
        <p:spPr>
          <a:xfrm>
            <a:off x="2089080" y="4824360"/>
            <a:ext cx="39600" cy="55440"/>
          </a:xfrm>
          <a:custGeom>
            <a:avLst/>
            <a:gdLst/>
            <a:ahLst/>
            <a:rect l="l" t="t" r="r" b="b"/>
            <a:pathLst>
              <a:path w="26" h="46">
                <a:moveTo>
                  <a:pt x="13" y="0"/>
                </a:moveTo>
                <a:lnTo>
                  <a:pt x="26" y="23"/>
                </a:lnTo>
                <a:lnTo>
                  <a:pt x="13" y="46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2" name=""/>
          <p:cNvSpPr/>
          <p:nvPr/>
        </p:nvSpPr>
        <p:spPr>
          <a:xfrm>
            <a:off x="2182680" y="4797360"/>
            <a:ext cx="38160" cy="540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2" y="0"/>
                </a:moveTo>
                <a:lnTo>
                  <a:pt x="25" y="22"/>
                </a:lnTo>
                <a:lnTo>
                  <a:pt x="12" y="45"/>
                </a:lnTo>
                <a:lnTo>
                  <a:pt x="0" y="22"/>
                </a:lnTo>
                <a:lnTo>
                  <a:pt x="1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3" name=""/>
          <p:cNvSpPr/>
          <p:nvPr/>
        </p:nvSpPr>
        <p:spPr>
          <a:xfrm>
            <a:off x="2274840" y="4846680"/>
            <a:ext cx="39600" cy="554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4" name=""/>
          <p:cNvSpPr/>
          <p:nvPr/>
        </p:nvSpPr>
        <p:spPr>
          <a:xfrm>
            <a:off x="2368440" y="4842000"/>
            <a:ext cx="38160" cy="56880"/>
          </a:xfrm>
          <a:custGeom>
            <a:avLst/>
            <a:gdLst/>
            <a:ahLst/>
            <a:rect l="l" t="t" r="r" b="b"/>
            <a:pathLst>
              <a:path w="25" h="46">
                <a:moveTo>
                  <a:pt x="12" y="0"/>
                </a:moveTo>
                <a:lnTo>
                  <a:pt x="25" y="23"/>
                </a:lnTo>
                <a:lnTo>
                  <a:pt x="12" y="46"/>
                </a:lnTo>
                <a:lnTo>
                  <a:pt x="0" y="23"/>
                </a:lnTo>
                <a:lnTo>
                  <a:pt x="1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5" name=""/>
          <p:cNvSpPr/>
          <p:nvPr/>
        </p:nvSpPr>
        <p:spPr>
          <a:xfrm>
            <a:off x="2460600" y="479268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"/>
          <p:cNvSpPr/>
          <p:nvPr/>
        </p:nvSpPr>
        <p:spPr>
          <a:xfrm>
            <a:off x="2554200" y="4773600"/>
            <a:ext cx="38160" cy="55440"/>
          </a:xfrm>
          <a:custGeom>
            <a:avLst/>
            <a:gdLst/>
            <a:ahLst/>
            <a:rect l="l" t="t" r="r" b="b"/>
            <a:pathLst>
              <a:path w="25" h="45">
                <a:moveTo>
                  <a:pt x="12" y="0"/>
                </a:moveTo>
                <a:lnTo>
                  <a:pt x="25" y="23"/>
                </a:lnTo>
                <a:lnTo>
                  <a:pt x="12" y="45"/>
                </a:lnTo>
                <a:lnTo>
                  <a:pt x="0" y="23"/>
                </a:lnTo>
                <a:lnTo>
                  <a:pt x="1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"/>
          <p:cNvSpPr/>
          <p:nvPr/>
        </p:nvSpPr>
        <p:spPr>
          <a:xfrm>
            <a:off x="2646360" y="483408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"/>
          <p:cNvSpPr/>
          <p:nvPr/>
        </p:nvSpPr>
        <p:spPr>
          <a:xfrm>
            <a:off x="2735280" y="486576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9" name=""/>
          <p:cNvSpPr/>
          <p:nvPr/>
        </p:nvSpPr>
        <p:spPr>
          <a:xfrm>
            <a:off x="2828880" y="4805280"/>
            <a:ext cx="38160" cy="558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0" name=""/>
          <p:cNvSpPr/>
          <p:nvPr/>
        </p:nvSpPr>
        <p:spPr>
          <a:xfrm>
            <a:off x="2921040" y="4930920"/>
            <a:ext cx="39600" cy="540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1" name=""/>
          <p:cNvSpPr/>
          <p:nvPr/>
        </p:nvSpPr>
        <p:spPr>
          <a:xfrm>
            <a:off x="3014640" y="4838760"/>
            <a:ext cx="38160" cy="5544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2" name=""/>
          <p:cNvSpPr/>
          <p:nvPr/>
        </p:nvSpPr>
        <p:spPr>
          <a:xfrm>
            <a:off x="3106800" y="4883040"/>
            <a:ext cx="39600" cy="558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3" name=""/>
          <p:cNvSpPr/>
          <p:nvPr/>
        </p:nvSpPr>
        <p:spPr>
          <a:xfrm>
            <a:off x="3200400" y="4809960"/>
            <a:ext cx="39600" cy="55800"/>
          </a:xfrm>
          <a:custGeom>
            <a:avLst/>
            <a:gdLst/>
            <a:ahLst/>
            <a:rect l="l" t="t" r="r" b="b"/>
            <a:pathLst>
              <a:path w="25" h="45">
                <a:moveTo>
                  <a:pt x="13" y="0"/>
                </a:moveTo>
                <a:lnTo>
                  <a:pt x="25" y="23"/>
                </a:lnTo>
                <a:lnTo>
                  <a:pt x="13" y="45"/>
                </a:lnTo>
                <a:lnTo>
                  <a:pt x="0" y="23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4" name=""/>
          <p:cNvSpPr/>
          <p:nvPr/>
        </p:nvSpPr>
        <p:spPr>
          <a:xfrm>
            <a:off x="3292560" y="4879800"/>
            <a:ext cx="41040" cy="5580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26" y="22"/>
                </a:lnTo>
                <a:lnTo>
                  <a:pt x="13" y="45"/>
                </a:lnTo>
                <a:lnTo>
                  <a:pt x="0" y="22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611280" y="5264280"/>
            <a:ext cx="2844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703440" y="5245200"/>
            <a:ext cx="2988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797040" y="5240160"/>
            <a:ext cx="284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88840" y="5232240"/>
            <a:ext cx="2880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982800" y="5240160"/>
            <a:ext cx="284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1074600" y="5235480"/>
            <a:ext cx="2880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1168560" y="5232240"/>
            <a:ext cx="2844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1260360" y="5232240"/>
            <a:ext cx="2880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1351080" y="5232240"/>
            <a:ext cx="2844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1442880" y="5240160"/>
            <a:ext cx="2880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1536840" y="5232240"/>
            <a:ext cx="2844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1628640" y="5227560"/>
            <a:ext cx="2880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1720800" y="523548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1814400" y="5232240"/>
            <a:ext cx="2880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1906560" y="5232240"/>
            <a:ext cx="30240" cy="3996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2000160" y="5235480"/>
            <a:ext cx="2880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2092320" y="520380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2185920" y="5227560"/>
            <a:ext cx="2880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2278080" y="5213520"/>
            <a:ext cx="2844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2371680" y="5213520"/>
            <a:ext cx="2880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2463840" y="5227560"/>
            <a:ext cx="284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2557440" y="5213520"/>
            <a:ext cx="2844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2649600" y="5203800"/>
            <a:ext cx="284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2739960" y="5245200"/>
            <a:ext cx="30240" cy="4104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2832120" y="522288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2925720" y="522756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3017880" y="520380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3110040" y="5254560"/>
            <a:ext cx="3168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3203640" y="5203800"/>
            <a:ext cx="3024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3295800" y="5208480"/>
            <a:ext cx="31680" cy="41400"/>
          </a:xfrm>
          <a:prstGeom prst="rect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3176280" y="6224760"/>
            <a:ext cx="4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6" name=""/>
          <p:cNvGrpSpPr/>
          <p:nvPr/>
        </p:nvGrpSpPr>
        <p:grpSpPr>
          <a:xfrm>
            <a:off x="379440" y="4334040"/>
            <a:ext cx="171360" cy="1944360"/>
            <a:chOff x="379440" y="4334040"/>
            <a:chExt cx="171360" cy="1944360"/>
          </a:xfrm>
        </p:grpSpPr>
        <p:sp>
          <p:nvSpPr>
            <p:cNvPr id="6767" name=""/>
            <p:cNvSpPr/>
            <p:nvPr/>
          </p:nvSpPr>
          <p:spPr>
            <a:xfrm>
              <a:off x="379440" y="609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79440" y="5845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79440" y="5592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79440" y="5338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79440" y="5091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79440" y="4838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79440" y="4586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79440" y="4334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5" name=""/>
          <p:cNvSpPr/>
          <p:nvPr/>
        </p:nvSpPr>
        <p:spPr>
          <a:xfrm>
            <a:off x="677880" y="4327560"/>
            <a:ext cx="770400" cy="18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SNR (d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6" name=""/>
          <p:cNvGrpSpPr/>
          <p:nvPr/>
        </p:nvGrpSpPr>
        <p:grpSpPr>
          <a:xfrm>
            <a:off x="632520" y="6222960"/>
            <a:ext cx="2443680" cy="182880"/>
            <a:chOff x="632520" y="6222960"/>
            <a:chExt cx="2443680" cy="182880"/>
          </a:xfrm>
        </p:grpSpPr>
        <p:sp>
          <p:nvSpPr>
            <p:cNvPr id="6777" name=""/>
            <p:cNvSpPr/>
            <p:nvPr/>
          </p:nvSpPr>
          <p:spPr>
            <a:xfrm>
              <a:off x="632520" y="622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1088280" y="622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1528920" y="622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1986840" y="622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447640" y="622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904840" y="622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3" name=""/>
          <p:cNvSpPr/>
          <p:nvPr/>
        </p:nvSpPr>
        <p:spPr>
          <a:xfrm>
            <a:off x="627120" y="4267080"/>
            <a:ext cx="1440" cy="192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2210760" y="4456080"/>
            <a:ext cx="723240" cy="276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R-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691920" y="5715000"/>
            <a:ext cx="860400" cy="276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lain 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1749600" y="5638680"/>
            <a:ext cx="1591920" cy="459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reedy LR-PET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(without hypothe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7" name=""/>
          <p:cNvCxnSpPr>
            <a:stCxn id="6785" idx="0"/>
            <a:endCxn id="6704" idx="0"/>
          </p:cNvCxnSpPr>
          <p:nvPr/>
        </p:nvCxnSpPr>
        <p:spPr>
          <a:xfrm flipV="1" rot="16200000">
            <a:off x="749160" y="5340960"/>
            <a:ext cx="329040" cy="418320"/>
          </a:xfrm>
          <a:prstGeom prst="curvedConnector5">
            <a:avLst>
              <a:gd name="adj1" fmla="val 41073"/>
              <a:gd name="adj2" fmla="val 26356"/>
              <a:gd name="adj3" fmla="val 41073"/>
            </a:avLst>
          </a:prstGeom>
          <a:ln w="12600">
            <a:solidFill>
              <a:srgbClr val="3366ff"/>
            </a:solidFill>
            <a:miter/>
            <a:tailEnd len="lg" type="stealth" w="med"/>
          </a:ln>
        </p:spPr>
      </p:cxnSp>
      <p:cxnSp>
        <p:nvCxnSpPr>
          <p:cNvPr id="6788" name=""/>
          <p:cNvCxnSpPr>
            <a:stCxn id="6786" idx="0"/>
            <a:endCxn id="6752" idx="2"/>
          </p:cNvCxnSpPr>
          <p:nvPr/>
        </p:nvCxnSpPr>
        <p:spPr>
          <a:xfrm flipV="1" rot="16200000">
            <a:off x="2187720" y="5280120"/>
            <a:ext cx="370440" cy="346680"/>
          </a:xfrm>
          <a:prstGeom prst="curvedConnector5">
            <a:avLst>
              <a:gd name="adj1" fmla="val 49708"/>
              <a:gd name="adj2" fmla="val 50000"/>
              <a:gd name="adj3" fmla="val 49708"/>
            </a:avLst>
          </a:prstGeom>
          <a:ln w="12600">
            <a:solidFill>
              <a:srgbClr val="3366ff"/>
            </a:solidFill>
            <a:miter/>
            <a:tailEnd len="lg" type="stealth" w="med"/>
          </a:ln>
        </p:spPr>
      </p:cxnSp>
      <p:cxnSp>
        <p:nvCxnSpPr>
          <p:cNvPr id="6789" name=""/>
          <p:cNvCxnSpPr>
            <a:stCxn id="6784" idx="1"/>
            <a:endCxn id="6719" idx="0"/>
          </p:cNvCxnSpPr>
          <p:nvPr/>
        </p:nvCxnSpPr>
        <p:spPr>
          <a:xfrm flipV="1" rot="10800000">
            <a:off x="1903320" y="4600080"/>
            <a:ext cx="300600" cy="246960"/>
          </a:xfrm>
          <a:prstGeom prst="curvedConnector5">
            <a:avLst>
              <a:gd name="adj1" fmla="val 112230"/>
              <a:gd name="adj2" fmla="val 49927"/>
              <a:gd name="adj3" fmla="val 112230"/>
            </a:avLst>
          </a:prstGeom>
          <a:ln w="12600">
            <a:solidFill>
              <a:srgbClr val="3366ff"/>
            </a:solidFill>
            <a:miter/>
            <a:tailEnd len="lg" type="stealth" w="med"/>
          </a:ln>
        </p:spPr>
      </p:cxnSp>
      <p:sp>
        <p:nvSpPr>
          <p:cNvPr id="6790" name=""/>
          <p:cNvSpPr/>
          <p:nvPr/>
        </p:nvSpPr>
        <p:spPr>
          <a:xfrm>
            <a:off x="4657680" y="86184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Taubman &amp; Thie – Trans IP Aug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4E54-3921-4136-8D61-3D178DC3E2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631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– disjoint subset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gion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region (or individual frames)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reak or localize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3600" y="1812960"/>
            <a:ext cx="1440000" cy="1036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67320" y="2019240"/>
            <a:ext cx="14414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2480" y="2227320"/>
            <a:ext cx="1440000" cy="103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56200" y="243360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654440" y="2768760"/>
            <a:ext cx="370080" cy="2761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654440" y="1812960"/>
            <a:ext cx="4140360" cy="1654200"/>
            <a:chOff x="4654440" y="1812960"/>
            <a:chExt cx="4140360" cy="1654200"/>
          </a:xfrm>
        </p:grpSpPr>
        <p:sp>
          <p:nvSpPr>
            <p:cNvPr id="67" name=""/>
            <p:cNvSpPr/>
            <p:nvPr/>
          </p:nvSpPr>
          <p:spPr>
            <a:xfrm>
              <a:off x="7354800" y="1812960"/>
              <a:ext cx="1440000" cy="103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8520" y="2019240"/>
              <a:ext cx="1441440" cy="1038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3680" y="2227320"/>
              <a:ext cx="1440000" cy="1035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54440" y="3044880"/>
              <a:ext cx="2092320" cy="4222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654440" y="2413080"/>
              <a:ext cx="2092320" cy="3556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4520" y="3044880"/>
              <a:ext cx="3160440" cy="4222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024520" y="2413080"/>
              <a:ext cx="3160440" cy="3556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rcRect l="34884" t="26440" r="37209" b="39925"/>
            <a:stretch/>
          </p:blipFill>
          <p:spPr>
            <a:xfrm>
              <a:off x="6746760" y="2413080"/>
              <a:ext cx="1438200" cy="1054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5" name=""/>
            <p:cNvSpPr/>
            <p:nvPr/>
          </p:nvSpPr>
          <p:spPr>
            <a:xfrm flipV="1">
              <a:off x="6750000" y="2412720"/>
              <a:ext cx="1438200" cy="16524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43520" y="3270240"/>
              <a:ext cx="1441440" cy="19692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57600" y="4038480"/>
            <a:ext cx="144144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2760" y="4246560"/>
            <a:ext cx="1440000" cy="1035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146480" y="445284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925800" y="4646520"/>
            <a:ext cx="1440000" cy="1036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715080" y="4300560"/>
            <a:ext cx="143820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cxnSp>
        <p:nvCxnSpPr>
          <p:cNvPr id="82" name=""/>
          <p:cNvCxnSpPr>
            <a:stCxn id="79" idx="3"/>
            <a:endCxn id="81" idx="1"/>
          </p:cNvCxnSpPr>
          <p:nvPr/>
        </p:nvCxnSpPr>
        <p:spPr>
          <a:xfrm flipV="1">
            <a:off x="5584680" y="4817520"/>
            <a:ext cx="1131120" cy="15300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103B-7C0A-4BF9-A585-6908EA3487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LR-PET: extension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67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ent extensions: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e.g., Durigon &amp; Taubman – ICIP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reliable acknowle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ochastic delay (primary transmission might arrive after acknowledgement message sent to transmi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me low complexity performance achieved also with these extensions, after some non-trivial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3" name=""/>
          <p:cNvGrpSpPr/>
          <p:nvPr/>
        </p:nvGrpSpPr>
        <p:grpSpPr>
          <a:xfrm>
            <a:off x="343800" y="3484440"/>
            <a:ext cx="4306680" cy="2918520"/>
            <a:chOff x="343800" y="3484440"/>
            <a:chExt cx="4306680" cy="2918520"/>
          </a:xfrm>
        </p:grpSpPr>
        <p:sp>
          <p:nvSpPr>
            <p:cNvPr id="6794" name=""/>
            <p:cNvSpPr/>
            <p:nvPr/>
          </p:nvSpPr>
          <p:spPr>
            <a:xfrm>
              <a:off x="384840" y="3484440"/>
              <a:ext cx="4232880" cy="2890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5" name=""/>
            <p:cNvGrpSpPr/>
            <p:nvPr/>
          </p:nvGrpSpPr>
          <p:grpSpPr>
            <a:xfrm>
              <a:off x="1783800" y="3597120"/>
              <a:ext cx="1585080" cy="2440080"/>
              <a:chOff x="1783800" y="3597120"/>
              <a:chExt cx="1585080" cy="2440080"/>
            </a:xfrm>
          </p:grpSpPr>
          <p:sp>
            <p:nvSpPr>
              <p:cNvPr id="6796" name=""/>
              <p:cNvSpPr/>
              <p:nvPr/>
            </p:nvSpPr>
            <p:spPr>
              <a:xfrm flipV="1">
                <a:off x="1783800" y="463860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V="1">
                <a:off x="1783800" y="4619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V="1">
                <a:off x="1783800" y="4599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V="1">
                <a:off x="1783800" y="4579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V="1">
                <a:off x="1783800" y="4560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V="1">
                <a:off x="1783800" y="4540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V="1">
                <a:off x="1783800" y="4520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V="1">
                <a:off x="1783800" y="4501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V="1">
                <a:off x="1783800" y="44812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V="1">
                <a:off x="1783800" y="4461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V="1">
                <a:off x="1783800" y="4442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V="1">
                <a:off x="1783800" y="4422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V="1">
                <a:off x="1783800" y="4403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V="1">
                <a:off x="1783800" y="4383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V="1">
                <a:off x="1783800" y="4363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V="1">
                <a:off x="1783800" y="4344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V="1">
                <a:off x="1783800" y="43239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V="1">
                <a:off x="1783800" y="4304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V="1">
                <a:off x="1783800" y="4285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V="1">
                <a:off x="1783800" y="4265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V="1">
                <a:off x="1783800" y="4245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V="1">
                <a:off x="1783800" y="4226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V="1">
                <a:off x="1783800" y="4206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V="1">
                <a:off x="1783800" y="4186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V="1">
                <a:off x="1783800" y="41666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V="1">
                <a:off x="1783800" y="4147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V="1">
                <a:off x="1783800" y="4127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1783800" y="4107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V="1">
                <a:off x="1783800" y="4088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V="1">
                <a:off x="1783800" y="4068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V="1">
                <a:off x="1783800" y="4048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V="1">
                <a:off x="1783800" y="4029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V="1">
                <a:off x="1783800" y="40096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V="1">
                <a:off x="1783800" y="3989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V="1">
                <a:off x="1783800" y="3970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V="1">
                <a:off x="1783800" y="3950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V="1">
                <a:off x="1783800" y="3931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V="1">
                <a:off x="1783800" y="3911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V="1">
                <a:off x="1783800" y="3891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V="1">
                <a:off x="1783800" y="3872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V="1">
                <a:off x="1783800" y="38523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V="1">
                <a:off x="1783800" y="3832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V="1">
                <a:off x="1783800" y="3813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V="1">
                <a:off x="1783800" y="3793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V="1">
                <a:off x="1783800" y="3773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V="1">
                <a:off x="1783800" y="3754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V="1">
                <a:off x="1783800" y="3734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V="1">
                <a:off x="1783800" y="3714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V="1">
                <a:off x="1783800" y="36950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V="1">
                <a:off x="1783800" y="3675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V="1">
                <a:off x="1783800" y="3655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V="1">
                <a:off x="1783800" y="3636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1783800" y="3616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V="1">
                <a:off x="1783800" y="3597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V="1">
                <a:off x="2576160" y="60350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V="1">
                <a:off x="2576160" y="60152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V="1">
                <a:off x="2576160" y="5995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2576160" y="59760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V="1">
                <a:off x="2576160" y="59562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V="1">
                <a:off x="2576160" y="59364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V="1">
                <a:off x="2576160" y="59169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V="1">
                <a:off x="2576160" y="589716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V="1">
                <a:off x="2576160" y="58777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V="1">
                <a:off x="2576160" y="58579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V="1">
                <a:off x="2576160" y="5838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V="1">
                <a:off x="2576160" y="58186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V="1">
                <a:off x="2576160" y="57992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V="1">
                <a:off x="2576160" y="5779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V="1">
                <a:off x="2576160" y="57596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V="1">
                <a:off x="2576160" y="573984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V="1">
                <a:off x="2576160" y="57204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V="1">
                <a:off x="2576160" y="57006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V="1">
                <a:off x="2576160" y="56808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V="1">
                <a:off x="2576160" y="56613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V="1">
                <a:off x="2576160" y="56419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V="1">
                <a:off x="2576160" y="5622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V="1">
                <a:off x="2576160" y="56023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V="1">
                <a:off x="2576160" y="558252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V="1">
                <a:off x="2576160" y="55630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V="1">
                <a:off x="2576160" y="55432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V="1">
                <a:off x="2576160" y="55234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V="1">
                <a:off x="2576160" y="55040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V="1">
                <a:off x="2576160" y="54846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V="1">
                <a:off x="2576160" y="54648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V="1">
                <a:off x="2576160" y="54450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V="1">
                <a:off x="2576160" y="542520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V="1">
                <a:off x="2576160" y="54057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V="1">
                <a:off x="2576160" y="53863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V="1">
                <a:off x="2576160" y="53661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V="1">
                <a:off x="2576160" y="53467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V="1">
                <a:off x="2576160" y="53272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V="1">
                <a:off x="2576160" y="53074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V="1">
                <a:off x="2576160" y="52876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V="1">
                <a:off x="2576160" y="526788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V="1">
                <a:off x="2576160" y="5248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V="1">
                <a:off x="2576160" y="52290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V="1">
                <a:off x="2576160" y="52092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V="1">
                <a:off x="2576160" y="51894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V="1">
                <a:off x="2576160" y="51699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V="1">
                <a:off x="2576160" y="51501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V="1">
                <a:off x="2576160" y="51303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V="1">
                <a:off x="2576160" y="511056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V="1">
                <a:off x="2576160" y="5091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V="1">
                <a:off x="2576160" y="50716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V="1">
                <a:off x="2576160" y="50518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V="1">
                <a:off x="2576160" y="50320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V="1">
                <a:off x="2576160" y="50126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V="1">
                <a:off x="2576160" y="49928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V="1">
                <a:off x="2576160" y="49730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V="1">
                <a:off x="2576160" y="495324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V="1">
                <a:off x="2576160" y="49338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V="1">
                <a:off x="2576160" y="49143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V="1">
                <a:off x="2576160" y="48945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V="1">
                <a:off x="2576160" y="48747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V="1">
                <a:off x="2576160" y="48553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V="1">
                <a:off x="2576160" y="48355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V="1">
                <a:off x="2576160" y="48160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V="1">
                <a:off x="2576160" y="479592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V="1">
                <a:off x="2576160" y="47764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V="1">
                <a:off x="2576160" y="47570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V="1">
                <a:off x="2576160" y="47372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V="1">
                <a:off x="2576160" y="4717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V="1">
                <a:off x="2576160" y="46980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V="1">
                <a:off x="2576160" y="46782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V="1">
                <a:off x="2576160" y="46587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V="1">
                <a:off x="2576160" y="463860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V="1">
                <a:off x="2576160" y="46191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V="1">
                <a:off x="2576160" y="45997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V="1">
                <a:off x="2576160" y="45799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V="1">
                <a:off x="2576160" y="4560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V="1">
                <a:off x="2576160" y="45406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V="1">
                <a:off x="2576160" y="45208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V="1">
                <a:off x="2576160" y="4501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 flipV="1">
                <a:off x="2576160" y="448128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flipV="1">
                <a:off x="2576160" y="44618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flipV="1">
                <a:off x="2576160" y="44424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V="1">
                <a:off x="2576160" y="44226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V="1">
                <a:off x="2576160" y="44031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V="1">
                <a:off x="2576160" y="43833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V="1">
                <a:off x="2576160" y="43635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V="1">
                <a:off x="2576160" y="4344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V="1">
                <a:off x="2576160" y="432396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V="1">
                <a:off x="2576160" y="43045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V="1">
                <a:off x="2576160" y="42850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V="1">
                <a:off x="2576160" y="42652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V="1">
                <a:off x="2576160" y="42458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V="1">
                <a:off x="2576160" y="42260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V="1">
                <a:off x="2576160" y="42062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V="1">
                <a:off x="2576160" y="41868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V="1">
                <a:off x="2576160" y="416664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2576160" y="41472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V="1">
                <a:off x="2576160" y="41277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V="1">
                <a:off x="2576160" y="41079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V="1">
                <a:off x="2576160" y="40885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V="1">
                <a:off x="2576160" y="40687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V="1">
                <a:off x="2576160" y="40489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V="1">
                <a:off x="2576160" y="40294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V="1">
                <a:off x="2576160" y="400968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V="1">
                <a:off x="2576160" y="39898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V="1">
                <a:off x="2576160" y="39704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2576160" y="39506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V="1">
                <a:off x="2576160" y="39312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V="1">
                <a:off x="2576160" y="39114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V="1">
                <a:off x="2576160" y="38916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V="1">
                <a:off x="2576160" y="38721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V="1">
                <a:off x="2576160" y="385236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V="1">
                <a:off x="2576160" y="38329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V="1">
                <a:off x="2576160" y="3813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V="1">
                <a:off x="2576160" y="37933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V="1">
                <a:off x="2576160" y="37738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V="1">
                <a:off x="2576160" y="37540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V="1">
                <a:off x="2576160" y="373428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V="1">
                <a:off x="2576160" y="371484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V="1">
                <a:off x="2576160" y="369504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 flipV="1">
                <a:off x="2576160" y="36756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 flipV="1">
                <a:off x="2576160" y="36558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V="1">
                <a:off x="2576160" y="363600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V="1">
                <a:off x="2576160" y="361656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V="1">
                <a:off x="2576160" y="3597120"/>
                <a:ext cx="144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V="1">
                <a:off x="3367800" y="6035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V="1">
                <a:off x="3367800" y="6015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V="1">
                <a:off x="3367800" y="5995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V="1">
                <a:off x="3367800" y="5976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V="1">
                <a:off x="3367800" y="5956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V="1">
                <a:off x="3367800" y="5936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V="1">
                <a:off x="3367800" y="5916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V="1">
                <a:off x="3367800" y="58971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V="1">
                <a:off x="3367800" y="5877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V="1">
                <a:off x="3367800" y="5857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V="1">
                <a:off x="3367800" y="5838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V="1">
                <a:off x="3367800" y="5818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V="1">
                <a:off x="3367800" y="5799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V="1">
                <a:off x="3367800" y="5779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V="1">
                <a:off x="3367800" y="5759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V="1">
                <a:off x="3367800" y="57398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V="1">
                <a:off x="3367800" y="5720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V="1">
                <a:off x="3367800" y="5700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V="1">
                <a:off x="3367800" y="5680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V="1">
                <a:off x="3367800" y="5661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V="1">
                <a:off x="3367800" y="5641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6" name=""/>
            <p:cNvGrpSpPr/>
            <p:nvPr/>
          </p:nvGrpSpPr>
          <p:grpSpPr>
            <a:xfrm>
              <a:off x="3368160" y="3597120"/>
              <a:ext cx="793440" cy="2440080"/>
              <a:chOff x="3368160" y="3597120"/>
              <a:chExt cx="793440" cy="2440080"/>
            </a:xfrm>
          </p:grpSpPr>
          <p:sp>
            <p:nvSpPr>
              <p:cNvPr id="6997" name=""/>
              <p:cNvSpPr/>
              <p:nvPr/>
            </p:nvSpPr>
            <p:spPr>
              <a:xfrm flipV="1">
                <a:off x="3368160" y="5622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V="1">
                <a:off x="3368160" y="5602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V="1">
                <a:off x="3368160" y="558252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V="1">
                <a:off x="3368160" y="5563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V="1">
                <a:off x="3368160" y="5543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V="1">
                <a:off x="3368160" y="5523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V="1">
                <a:off x="3368160" y="5504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V="1">
                <a:off x="3368160" y="5484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V="1">
                <a:off x="3368160" y="5464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V="1">
                <a:off x="3368160" y="5445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V="1">
                <a:off x="3368160" y="542520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V="1">
                <a:off x="3368160" y="5405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V="1">
                <a:off x="3368160" y="5386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V="1">
                <a:off x="3368160" y="5366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V="1">
                <a:off x="3368160" y="5346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V="1">
                <a:off x="3368160" y="5327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V="1">
                <a:off x="3368160" y="5307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3368160" y="5287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V="1">
                <a:off x="3368160" y="52678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V="1">
                <a:off x="3368160" y="5248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V="1">
                <a:off x="3368160" y="5229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V="1">
                <a:off x="3368160" y="5209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V="1">
                <a:off x="3368160" y="5189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V="1">
                <a:off x="3368160" y="5169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V="1">
                <a:off x="3368160" y="5150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V="1">
                <a:off x="3368160" y="5130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V="1">
                <a:off x="3368160" y="51105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V="1">
                <a:off x="3368160" y="5091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V="1">
                <a:off x="3368160" y="5071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V="1">
                <a:off x="3368160" y="5051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V="1">
                <a:off x="3368160" y="5032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V="1">
                <a:off x="3368160" y="5012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V="1">
                <a:off x="3368160" y="4992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V="1">
                <a:off x="3368160" y="4973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V="1">
                <a:off x="3368160" y="49532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V="1">
                <a:off x="3368160" y="4933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V="1">
                <a:off x="3368160" y="4914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V="1">
                <a:off x="3368160" y="4894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V="1">
                <a:off x="3368160" y="4874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V="1">
                <a:off x="3368160" y="4855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V="1">
                <a:off x="3368160" y="4835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V="1">
                <a:off x="3368160" y="4816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V="1">
                <a:off x="3368160" y="479592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V="1">
                <a:off x="3368160" y="4776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V="1">
                <a:off x="3368160" y="4757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V="1">
                <a:off x="3368160" y="4737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V="1">
                <a:off x="3368160" y="4717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V="1">
                <a:off x="3368160" y="4698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V="1">
                <a:off x="3368160" y="4678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V="1">
                <a:off x="3368160" y="4658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V="1">
                <a:off x="3368160" y="463860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V="1">
                <a:off x="3368160" y="4619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V="1">
                <a:off x="3368160" y="4599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V="1">
                <a:off x="3368160" y="4579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V="1">
                <a:off x="3368160" y="4560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V="1">
                <a:off x="3368160" y="4540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3368160" y="4520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V="1">
                <a:off x="3368160" y="4501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V="1">
                <a:off x="3368160" y="44812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3368160" y="4461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V="1">
                <a:off x="3368160" y="4442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V="1">
                <a:off x="3368160" y="4422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V="1">
                <a:off x="3368160" y="4403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V="1">
                <a:off x="3368160" y="4383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V="1">
                <a:off x="3368160" y="4363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V="1">
                <a:off x="3368160" y="4344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V="1">
                <a:off x="3368160" y="43239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V="1">
                <a:off x="3368160" y="4304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V="1">
                <a:off x="3368160" y="4285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V="1">
                <a:off x="3368160" y="4265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V="1">
                <a:off x="3368160" y="4245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V="1">
                <a:off x="3368160" y="4226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V="1">
                <a:off x="3368160" y="4206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V="1">
                <a:off x="3368160" y="4186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V="1">
                <a:off x="3368160" y="41666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V="1">
                <a:off x="3368160" y="4147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V="1">
                <a:off x="3368160" y="4127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V="1">
                <a:off x="3368160" y="4107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V="1">
                <a:off x="3368160" y="4088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V="1">
                <a:off x="3368160" y="4068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V="1">
                <a:off x="3368160" y="4048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V="1">
                <a:off x="3368160" y="4029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V="1">
                <a:off x="3368160" y="40096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V="1">
                <a:off x="3368160" y="3989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V="1">
                <a:off x="3368160" y="3970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V="1">
                <a:off x="3368160" y="3950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V="1">
                <a:off x="3368160" y="3931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 flipV="1">
                <a:off x="3368160" y="3911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 flipV="1">
                <a:off x="3368160" y="3891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 flipV="1">
                <a:off x="3368160" y="3872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V="1">
                <a:off x="3368160" y="38523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V="1">
                <a:off x="3368160" y="3832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V="1">
                <a:off x="3368160" y="3813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V="1">
                <a:off x="3368160" y="3793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V="1">
                <a:off x="3368160" y="3773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V="1">
                <a:off x="3368160" y="3754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V="1">
                <a:off x="3368160" y="3734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V="1">
                <a:off x="3368160" y="3714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V="1">
                <a:off x="3368160" y="36950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V="1">
                <a:off x="3368160" y="3675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V="1">
                <a:off x="3368160" y="3655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V="1">
                <a:off x="3368160" y="3636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V="1">
                <a:off x="3368160" y="3616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V="1">
                <a:off x="3368160" y="3597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V="1">
                <a:off x="4160520" y="6035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V="1">
                <a:off x="4160520" y="6015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V="1">
                <a:off x="4160520" y="5995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V="1">
                <a:off x="4160520" y="5976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V="1">
                <a:off x="4160520" y="5956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V="1">
                <a:off x="4160520" y="5936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V="1">
                <a:off x="4160520" y="5916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V="1">
                <a:off x="4160520" y="58971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V="1">
                <a:off x="4160520" y="5877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V="1">
                <a:off x="4160520" y="5857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V="1">
                <a:off x="4160520" y="5838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V="1">
                <a:off x="4160520" y="5818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V="1">
                <a:off x="4160520" y="5799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V="1">
                <a:off x="4160520" y="5779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V="1">
                <a:off x="4160520" y="5759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V="1">
                <a:off x="4160520" y="57398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V="1">
                <a:off x="4160520" y="5720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V="1">
                <a:off x="4160520" y="5700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V="1">
                <a:off x="4160520" y="5680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V="1">
                <a:off x="4160520" y="5661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4160520" y="5641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V="1">
                <a:off x="4160520" y="5622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V="1">
                <a:off x="4160520" y="5602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V="1">
                <a:off x="4160520" y="558252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V="1">
                <a:off x="4160520" y="5563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V="1">
                <a:off x="4160520" y="5543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V="1">
                <a:off x="4160520" y="5523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V="1">
                <a:off x="4160520" y="5504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V="1">
                <a:off x="4160520" y="5484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V="1">
                <a:off x="4160520" y="5464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4160520" y="5445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V="1">
                <a:off x="4160520" y="542520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V="1">
                <a:off x="4160520" y="5405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V="1">
                <a:off x="4160520" y="5386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V="1">
                <a:off x="4160520" y="5366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V="1">
                <a:off x="4160520" y="5346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V="1">
                <a:off x="4160520" y="5327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V="1">
                <a:off x="4160520" y="5307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V="1">
                <a:off x="4160520" y="5287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V="1">
                <a:off x="4160520" y="52678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V="1">
                <a:off x="4160520" y="5248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V="1">
                <a:off x="4160520" y="5229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V="1">
                <a:off x="4160520" y="5209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V="1">
                <a:off x="4160520" y="5189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V="1">
                <a:off x="4160520" y="5169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V="1">
                <a:off x="4160520" y="5150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V="1">
                <a:off x="4160520" y="5130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V="1">
                <a:off x="4160520" y="51105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V="1">
                <a:off x="4160520" y="5091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V="1">
                <a:off x="4160520" y="5071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V="1">
                <a:off x="4160520" y="5051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V="1">
                <a:off x="4160520" y="5032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V="1">
                <a:off x="4160520" y="5012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V="1">
                <a:off x="4160520" y="4992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V="1">
                <a:off x="4160520" y="4973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V="1">
                <a:off x="4160520" y="49532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V="1">
                <a:off x="4160520" y="4933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V="1">
                <a:off x="4160520" y="4914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V="1">
                <a:off x="4160520" y="4894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V="1">
                <a:off x="4160520" y="4874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V="1">
                <a:off x="4160520" y="4855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V="1">
                <a:off x="4160520" y="4835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V="1">
                <a:off x="4160520" y="4816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V="1">
                <a:off x="4160520" y="479592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V="1">
                <a:off x="4160520" y="4776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V="1">
                <a:off x="4160520" y="4757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V="1">
                <a:off x="4160520" y="4737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V="1">
                <a:off x="4160520" y="4717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V="1">
                <a:off x="4160520" y="4698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V="1">
                <a:off x="4160520" y="4678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 flipV="1">
                <a:off x="4160520" y="4658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 flipV="1">
                <a:off x="4160520" y="463860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V="1">
                <a:off x="4160520" y="4619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V="1">
                <a:off x="4160520" y="45997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V="1">
                <a:off x="4160520" y="4579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V="1">
                <a:off x="4160520" y="4560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V="1">
                <a:off x="4160520" y="45406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V="1">
                <a:off x="4160520" y="4520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V="1">
                <a:off x="4160520" y="4501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V="1">
                <a:off x="4160520" y="44812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V="1">
                <a:off x="4160520" y="4461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V="1">
                <a:off x="4160520" y="44424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V="1">
                <a:off x="4160520" y="4422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V="1">
                <a:off x="4160520" y="4403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V="1">
                <a:off x="4160520" y="43833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V="1">
                <a:off x="4160520" y="4363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V="1">
                <a:off x="4160520" y="4344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V="1">
                <a:off x="4160520" y="43239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V="1">
                <a:off x="4160520" y="4304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V="1">
                <a:off x="4160520" y="4285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V="1">
                <a:off x="4160520" y="4265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V="1">
                <a:off x="4160520" y="4245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V="1">
                <a:off x="4160520" y="42260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V="1">
                <a:off x="4160520" y="4206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V="1">
                <a:off x="4160520" y="4186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V="1">
                <a:off x="4160520" y="41666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674640" y="3597120"/>
              <a:ext cx="3793320" cy="2441520"/>
              <a:chOff x="674640" y="3597120"/>
              <a:chExt cx="3793320" cy="2441520"/>
            </a:xfrm>
          </p:grpSpPr>
          <p:sp>
            <p:nvSpPr>
              <p:cNvPr id="7198" name=""/>
              <p:cNvSpPr/>
              <p:nvPr/>
            </p:nvSpPr>
            <p:spPr>
              <a:xfrm flipV="1">
                <a:off x="4160520" y="4147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V="1">
                <a:off x="4160520" y="4128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V="1">
                <a:off x="4160520" y="4107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V="1">
                <a:off x="4160520" y="40885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V="1">
                <a:off x="4160520" y="40690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V="1">
                <a:off x="4160520" y="40492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V="1">
                <a:off x="4160520" y="40294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V="1">
                <a:off x="4160520" y="400968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V="1">
                <a:off x="4160520" y="39902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V="1">
                <a:off x="4160520" y="3970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V="1">
                <a:off x="4160520" y="3950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V="1">
                <a:off x="4160520" y="39312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V="1">
                <a:off x="4160520" y="39117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V="1">
                <a:off x="4160520" y="38919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V="1">
                <a:off x="4160520" y="38721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V="1">
                <a:off x="4160520" y="385236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V="1">
                <a:off x="4160520" y="38329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V="1">
                <a:off x="4160520" y="3813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V="1">
                <a:off x="4160520" y="37933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V="1">
                <a:off x="4160520" y="377388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V="1">
                <a:off x="4160520" y="37544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V="1">
                <a:off x="4160520" y="37346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V="1">
                <a:off x="4160520" y="371484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V="1">
                <a:off x="4160520" y="3695040"/>
                <a:ext cx="10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V="1">
                <a:off x="4160520" y="36756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V="1">
                <a:off x="4160520" y="36558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V="1">
                <a:off x="4160520" y="363600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V="1">
                <a:off x="4160520" y="361656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V="1">
                <a:off x="4160520" y="3597120"/>
                <a:ext cx="10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74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6973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7203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7434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7664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7894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8121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8355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8582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8812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9043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927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9504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973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9961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0191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0422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0648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0882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1109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1340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1570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1797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2031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2258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2488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2718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2949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3179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340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3636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3867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097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324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4558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4785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5019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5246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547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5706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5933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6164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6394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6624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16855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17085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17312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546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7773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03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18234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846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694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921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9152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9382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9612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9839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2007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300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0530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0761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0988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21222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21448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21679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1909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2214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2370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2597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2827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23058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23288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23515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23749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3976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4206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4436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4667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897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5124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354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5585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25815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6046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2627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26503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6733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6964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2719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7424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7651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7885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8112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28342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28573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28803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29030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2926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29491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29721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29952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30178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30412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30639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3087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31100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3133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31561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31788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32018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32248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32479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32706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3294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3166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3397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3627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3854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4088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4315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4545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4776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500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52368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5467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5694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924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6154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6381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6615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6842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7076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7303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7533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7764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799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8221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8451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38682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389124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9142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39369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39603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39830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4006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40291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40518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0752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0978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1209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41439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41670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41896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42130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423576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425880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42818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43045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432792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35060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3736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39668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441972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4442760" y="60379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4465440" y="60379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674640" y="57308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697320" y="57308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720360" y="57308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743400" y="57308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766440" y="57308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8" name=""/>
            <p:cNvGrpSpPr/>
            <p:nvPr/>
          </p:nvGrpSpPr>
          <p:grpSpPr>
            <a:xfrm>
              <a:off x="674640" y="5423040"/>
              <a:ext cx="3793320" cy="307440"/>
              <a:chOff x="674640" y="5423040"/>
              <a:chExt cx="3793320" cy="307440"/>
            </a:xfrm>
          </p:grpSpPr>
          <p:sp>
            <p:nvSpPr>
              <p:cNvPr id="7399" name=""/>
              <p:cNvSpPr/>
              <p:nvPr/>
            </p:nvSpPr>
            <p:spPr>
              <a:xfrm>
                <a:off x="7894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8121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8355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8582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8812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9043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927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9504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973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9961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10191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10422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10648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10882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11109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11340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11570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11797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12031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12258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2488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12718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12949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13179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13406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13636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13867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14097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14324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14558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14785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15019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15246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15476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15706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15933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16164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16394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16624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16855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17085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17312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17546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17773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18003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18234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1846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18694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18921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19152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19382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19612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19839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2007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20300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20530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20761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20988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21222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21448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1679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21909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2214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22370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2597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22827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23058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23288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23515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23749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23976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24206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24436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24667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24897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25124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25354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25585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25815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26046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26276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26503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26733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26964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2719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27424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7651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27885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8112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8342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28573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28803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29030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2926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29491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29721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9952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30178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30412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30639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3087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31100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3133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31561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31788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32018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32248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32479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32706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3294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33166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33397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33627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33854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34088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34315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34545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34776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35006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352368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35467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35694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35924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36154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36381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36615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36842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37076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37303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37533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37764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3799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38221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38451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38682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389124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39142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39369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39603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9830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4006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40291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40518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40752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40978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41209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41439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41670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41896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2130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576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25880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42818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43045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432792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435060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43736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439668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441972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4442760" y="57297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4465440" y="57297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6746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6973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72036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74340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76644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7894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81216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83556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8582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8812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9043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92700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95040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9730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9961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101916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104220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10648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10882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111096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113400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11570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11797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120312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122580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12488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12718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12949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131796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13406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136368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138672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140976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14324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14558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147852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1501920" y="5423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152460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1547640" y="5423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9" name=""/>
            <p:cNvGrpSpPr/>
            <p:nvPr/>
          </p:nvGrpSpPr>
          <p:grpSpPr>
            <a:xfrm>
              <a:off x="674640" y="5118120"/>
              <a:ext cx="3793320" cy="306000"/>
              <a:chOff x="674640" y="5118120"/>
              <a:chExt cx="3793320" cy="306000"/>
            </a:xfrm>
          </p:grpSpPr>
          <p:sp>
            <p:nvSpPr>
              <p:cNvPr id="7600" name=""/>
              <p:cNvSpPr/>
              <p:nvPr/>
            </p:nvSpPr>
            <p:spPr>
              <a:xfrm>
                <a:off x="15706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15933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16164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16394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16624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168552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17085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17312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17546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17773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18003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18234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1846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18694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18921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19152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19382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19612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19839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20070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20300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20530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20761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20988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21222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21448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21679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21909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22140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22370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22597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22827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23058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23288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23515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23749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23976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24206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24436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24667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24897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25124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25354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25585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25815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26046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26276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26503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26733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6964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2719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27424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27651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27885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28112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28342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285732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28803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29030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2926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29491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29721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29952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30178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30412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30639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30870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31100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3133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315612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31788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32018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32248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32479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32706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32940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33166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333972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33627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33854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34088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34315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34545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34776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35006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352368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35467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35694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35924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36154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36381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36615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36842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37076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37303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37533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37764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3799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38221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38451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38682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389124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39142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39369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39603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39830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4006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40291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40518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40752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40978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41209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41439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41670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41896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42130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423576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425880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42818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43045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432792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435060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43736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439668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441972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4442760" y="54234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4465440" y="54234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6746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6973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203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434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6644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894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8121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83556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8582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8812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9043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9270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95040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9730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9961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101916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10422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10648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10882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11109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113400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11570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11797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120312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12258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12488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12718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12949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131796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13406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13636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138672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14097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14324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14558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14785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150192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15246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15476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157068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15933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6164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16394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16624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168552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17085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17312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175464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17773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18003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18234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18460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186948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18921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19152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193824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19612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19839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20070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20300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205308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20761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20988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212220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214488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21679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21909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221400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223704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225972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228276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2305800" y="51181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2328840" y="51181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0" name=""/>
            <p:cNvGrpSpPr/>
            <p:nvPr/>
          </p:nvGrpSpPr>
          <p:grpSpPr>
            <a:xfrm>
              <a:off x="674640" y="4809960"/>
              <a:ext cx="3793320" cy="307800"/>
              <a:chOff x="674640" y="4809960"/>
              <a:chExt cx="3793320" cy="307800"/>
            </a:xfrm>
          </p:grpSpPr>
          <p:sp>
            <p:nvSpPr>
              <p:cNvPr id="7801" name=""/>
              <p:cNvSpPr/>
              <p:nvPr/>
            </p:nvSpPr>
            <p:spPr>
              <a:xfrm>
                <a:off x="23515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23749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23976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242064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24436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24667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24897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25124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25354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25585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25815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260460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26276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26503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26733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26964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2719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27424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27651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27885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28112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28342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285732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28803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29030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2926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29491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29721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29952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30178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304128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30639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30870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31100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3133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315612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31788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32018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322488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32479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32706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32940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33166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333972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33627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33854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340884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34315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34545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34776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35006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352368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35467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35694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359244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36154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36381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36615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36842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370764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37303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37533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377640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3799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38221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38451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38682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89124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39142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39369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39603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39830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006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0291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0518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07520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0978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1209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1439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1670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1896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2130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23576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25880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2818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3045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32792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35060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3736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39668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41972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442760" y="51170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465440" y="51170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6746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6973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203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7434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76644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7894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8121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8355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8582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8812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9043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9270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95040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9730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9961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10191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10422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10648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10882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11109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13400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11570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11797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20312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12258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12488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12718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12949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13179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13406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13636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138672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14097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14324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14558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14785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150192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15246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15476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157068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15933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16164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16394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16624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168552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17085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17312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175464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17773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18003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18234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18460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186948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18921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19152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193824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19612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19839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20070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20300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205308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20761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20988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212220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21448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21679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21909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22140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223704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22597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22827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230580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23288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23515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23749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23976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242064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24436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24667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24897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25124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25354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25585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25815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260460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26276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26503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26733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26964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27190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27424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27651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27885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28112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28342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285732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28803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29030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29260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294912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297216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29952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301788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3041280" y="480996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306396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308700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3110040" y="480996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1" name=""/>
            <p:cNvGrpSpPr/>
            <p:nvPr/>
          </p:nvGrpSpPr>
          <p:grpSpPr>
            <a:xfrm>
              <a:off x="674640" y="4503600"/>
              <a:ext cx="3793320" cy="307800"/>
              <a:chOff x="674640" y="4503600"/>
              <a:chExt cx="3793320" cy="307800"/>
            </a:xfrm>
          </p:grpSpPr>
          <p:sp>
            <p:nvSpPr>
              <p:cNvPr id="8002" name=""/>
              <p:cNvSpPr/>
              <p:nvPr/>
            </p:nvSpPr>
            <p:spPr>
              <a:xfrm>
                <a:off x="31330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315612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31788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32018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322488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32479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32706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32940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33166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333972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33627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33854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340884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34315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34545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34776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35006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352368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35467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35694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359244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36154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36381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36615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36842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370764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37303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37533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377640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37990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38221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38451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38682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389124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39142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39369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396036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39830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40060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40291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40518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407520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40978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41209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414396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41670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41896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42130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423576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425880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42818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43045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432792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435060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43736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439668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41972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4442760" y="48106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4465440" y="48106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6746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973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7203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7434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7664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7894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8121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8355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8582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8812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9043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9270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9504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973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961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10191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10422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10648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10882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11109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11340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11570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11797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12031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12258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12488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12718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12949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13179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13406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13636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13867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14097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14324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14558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14785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15019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15246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15476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15706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15933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16164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16394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16624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16855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17085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17312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17546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17773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18003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18234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1846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18694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18921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19152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19382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19612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19839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20070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20300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20530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20761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20988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21222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21448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21679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21909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22140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22370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22597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22827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23058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23288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23515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23749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23976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24206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24436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24667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24897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25124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25354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25585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25815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26046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26276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26503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26733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26964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2719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27424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27651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27885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28112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28342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28573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28803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29030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2926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29491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297216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29952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0178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0412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0639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0870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1100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133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1561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1788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2018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2248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2479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2706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2940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3166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33972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3627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3854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88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4315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4545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4776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5006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52368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5467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5694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5924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6154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6381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6615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68424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7076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37303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37533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377640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379908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382212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384516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3868200" y="45036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3891240" y="45036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2" name=""/>
            <p:cNvGrpSpPr/>
            <p:nvPr/>
          </p:nvGrpSpPr>
          <p:grpSpPr>
            <a:xfrm>
              <a:off x="674640" y="3890880"/>
              <a:ext cx="3793320" cy="612360"/>
              <a:chOff x="674640" y="3890880"/>
              <a:chExt cx="3793320" cy="612360"/>
            </a:xfrm>
          </p:grpSpPr>
          <p:sp>
            <p:nvSpPr>
              <p:cNvPr id="8203" name=""/>
              <p:cNvSpPr/>
              <p:nvPr/>
            </p:nvSpPr>
            <p:spPr>
              <a:xfrm>
                <a:off x="39142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393696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396036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398304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40060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402912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405180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407520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40978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412092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414396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416700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41896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42130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423576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425880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428184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430452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432792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435060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437364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439668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441972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4442760" y="450252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4465440" y="450252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74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973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203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434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664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894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8121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8355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8582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8812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9043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927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9504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973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9961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10191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10422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10648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10882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11109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11340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11570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11797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12031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12258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12488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12718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12949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13179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1340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13636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13867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14097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14324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14558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14785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15019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15246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1547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15706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15933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16164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16394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16624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16855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17085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17312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17546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17773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18003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18234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1846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18694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18921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19152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19382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19612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19839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2007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20300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20530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20761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20988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21222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21448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21679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21909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2214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22370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22597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22827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23058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23288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23515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23749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23976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24206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24436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24667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24897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25124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25354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25585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25815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26046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2627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26503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26733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26964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2719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27424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27651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27885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28112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28342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28573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28803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29030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2926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29491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29721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29952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30178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30412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30639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3087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31100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3133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31561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31788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32018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32248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32479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32706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3294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33166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33397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33627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33854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34088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4315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34545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34776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3500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352368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35467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35694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35924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36154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36381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36615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36842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37076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37303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37533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37764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3799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38221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38451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38682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389124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39142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39369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39603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39830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4006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40291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40518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40752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40978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41209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41439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41670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41896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42130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423576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425880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42818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43045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432792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435060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43736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439668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441972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4442760" y="419724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4465440" y="419724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7464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9732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72036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74340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766440" y="38908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78948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81216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835560" y="38908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858240" y="38908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3" name=""/>
            <p:cNvGrpSpPr/>
            <p:nvPr/>
          </p:nvGrpSpPr>
          <p:grpSpPr>
            <a:xfrm>
              <a:off x="674640" y="3583080"/>
              <a:ext cx="3793320" cy="307440"/>
              <a:chOff x="674640" y="3583080"/>
              <a:chExt cx="3793320" cy="307440"/>
            </a:xfrm>
          </p:grpSpPr>
          <p:sp>
            <p:nvSpPr>
              <p:cNvPr id="8404" name=""/>
              <p:cNvSpPr/>
              <p:nvPr/>
            </p:nvSpPr>
            <p:spPr>
              <a:xfrm>
                <a:off x="8812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9043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927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9504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973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9961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10191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10422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10648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10882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11109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11340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11570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11797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12031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12258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12488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12718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12949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13179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13406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13636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13867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14097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14324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14558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14785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5019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15246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15476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15706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15933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16164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16394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16624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16855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17085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17312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17546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17773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18003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18234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1846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18694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18921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19152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19382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19612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19839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2007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20300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20530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20761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20988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21222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21448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21679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21909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2214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22370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22597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22827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23058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23288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23515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23749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23976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24206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24436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24667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24897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25124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25354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25585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25815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26046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26276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26503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26733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26964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2719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27424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27651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27885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28112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28342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28573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28803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29030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2926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29491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29721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29952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30178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30412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30639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3087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31100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3133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31561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31788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32018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32248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32479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32706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3294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33166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33397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33627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33854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34088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34315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34545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34776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35006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352368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35467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35694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35924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36154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36381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36615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36842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37076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37303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37533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37764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99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38221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38451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38682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389124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39142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39369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39603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39830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4006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40291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40518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40752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40978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41209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41439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41670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41896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42130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423576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425880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42818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43045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432792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435060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43736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439668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441972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4442760" y="388980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4465440" y="388980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6746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6973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2036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434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644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894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81216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83556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8582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8812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9043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9270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95040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9730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9961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101916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10422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10648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10882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111096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113400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11570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11797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120312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12258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12488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12718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12949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131796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13406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136368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138672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140976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14324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14558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147852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150192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15246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15476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1570680" y="3583080"/>
                <a:ext cx="216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159336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161640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1639440" y="3583080"/>
                <a:ext cx="252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4" name=""/>
            <p:cNvSpPr/>
            <p:nvPr/>
          </p:nvSpPr>
          <p:spPr>
            <a:xfrm>
              <a:off x="16628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16858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17085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173196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17546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7776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8007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18237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18468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18694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18925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191556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19386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19612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19846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20073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20304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20534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20761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20995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1222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1452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1682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1913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221436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22374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22600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22831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23061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23288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23522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23749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23983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24210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24440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24670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24901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25128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25358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25588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25819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26049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26276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26510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26737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26967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27198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27428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27658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27885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28116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28346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28576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28803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29037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29264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29494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29725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29955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0186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0412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0643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0873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1104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1334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1564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1791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2022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2252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2482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2713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2940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3174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3400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3631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38616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4092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4318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4549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4779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50100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5240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5467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5701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35928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36158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36388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36619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368496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37076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37306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37537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37767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37994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38228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38455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38689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38916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39146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39376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39603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39834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0064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0294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05252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0755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0982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216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443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673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904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130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2364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2591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2822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30524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32828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35096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3740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39704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420080" y="3583080"/>
              <a:ext cx="2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44312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6" name=""/>
            <p:cNvSpPr/>
            <p:nvPr/>
          </p:nvSpPr>
          <p:spPr>
            <a:xfrm>
              <a:off x="4465800" y="3583080"/>
              <a:ext cx="2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674640" y="3583080"/>
              <a:ext cx="380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V="1">
              <a:off x="4477680" y="3582720"/>
              <a:ext cx="1080" cy="2454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9" name=""/>
            <p:cNvSpPr/>
            <p:nvPr/>
          </p:nvSpPr>
          <p:spPr>
            <a:xfrm flipV="1">
              <a:off x="674640" y="3582720"/>
              <a:ext cx="1440" cy="2454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0" name=""/>
            <p:cNvSpPr/>
            <p:nvPr/>
          </p:nvSpPr>
          <p:spPr>
            <a:xfrm flipV="1">
              <a:off x="992520" y="6004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992520" y="3583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2" name=""/>
            <p:cNvSpPr/>
            <p:nvPr/>
          </p:nvSpPr>
          <p:spPr>
            <a:xfrm flipV="1">
              <a:off x="1783800" y="6004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1783800" y="3583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4" name=""/>
            <p:cNvSpPr/>
            <p:nvPr/>
          </p:nvSpPr>
          <p:spPr>
            <a:xfrm flipV="1">
              <a:off x="2576880" y="6004080"/>
              <a:ext cx="10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2576880" y="3583080"/>
              <a:ext cx="10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3368160" y="6004080"/>
              <a:ext cx="10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3368160" y="3583080"/>
              <a:ext cx="10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8" name=""/>
            <p:cNvSpPr/>
            <p:nvPr/>
          </p:nvSpPr>
          <p:spPr>
            <a:xfrm flipV="1">
              <a:off x="4160880" y="6004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160880" y="3583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674640" y="6037200"/>
              <a:ext cx="38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674640" y="573084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2" name=""/>
            <p:cNvSpPr/>
            <p:nvPr/>
          </p:nvSpPr>
          <p:spPr>
            <a:xfrm flipH="1">
              <a:off x="4439160" y="573084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674640" y="5423040"/>
              <a:ext cx="38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4" name=""/>
            <p:cNvSpPr/>
            <p:nvPr/>
          </p:nvSpPr>
          <p:spPr>
            <a:xfrm flipH="1">
              <a:off x="4439160" y="5423040"/>
              <a:ext cx="38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674640" y="511812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6" name=""/>
            <p:cNvSpPr/>
            <p:nvPr/>
          </p:nvSpPr>
          <p:spPr>
            <a:xfrm flipH="1">
              <a:off x="4439160" y="511812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674640" y="4809960"/>
              <a:ext cx="38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8" name=""/>
            <p:cNvSpPr/>
            <p:nvPr/>
          </p:nvSpPr>
          <p:spPr>
            <a:xfrm flipH="1">
              <a:off x="4439160" y="4809960"/>
              <a:ext cx="38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674640" y="450360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0" name=""/>
            <p:cNvSpPr/>
            <p:nvPr/>
          </p:nvSpPr>
          <p:spPr>
            <a:xfrm flipH="1">
              <a:off x="4439160" y="450360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674640" y="4197240"/>
              <a:ext cx="38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2" name=""/>
            <p:cNvSpPr/>
            <p:nvPr/>
          </p:nvSpPr>
          <p:spPr>
            <a:xfrm flipH="1">
              <a:off x="4439160" y="4197240"/>
              <a:ext cx="38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674640" y="389088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4" name=""/>
            <p:cNvSpPr/>
            <p:nvPr/>
          </p:nvSpPr>
          <p:spPr>
            <a:xfrm flipH="1">
              <a:off x="4439160" y="3890880"/>
              <a:ext cx="38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674640" y="3583080"/>
              <a:ext cx="38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6" name=""/>
            <p:cNvSpPr/>
            <p:nvPr/>
          </p:nvSpPr>
          <p:spPr>
            <a:xfrm flipH="1">
              <a:off x="4439160" y="3583080"/>
              <a:ext cx="38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992520" y="4662360"/>
              <a:ext cx="3168000" cy="1281240"/>
            </a:xfrm>
            <a:custGeom>
              <a:avLst/>
              <a:gdLst/>
              <a:ahLst/>
              <a:rect l="l" t="t" r="r" b="b"/>
              <a:pathLst>
                <a:path w="2482" h="1173">
                  <a:moveTo>
                    <a:pt x="0" y="0"/>
                  </a:moveTo>
                  <a:lnTo>
                    <a:pt x="1241" y="678"/>
                  </a:lnTo>
                  <a:lnTo>
                    <a:pt x="2482" y="11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966960" y="4633920"/>
              <a:ext cx="51120" cy="5724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0" y="53"/>
                  </a:moveTo>
                  <a:lnTo>
                    <a:pt x="40" y="27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20" y="53"/>
                  </a:lnTo>
                  <a:lnTo>
                    <a:pt x="20" y="5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2551320" y="5373720"/>
              <a:ext cx="50760" cy="586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0" y="53"/>
                  </a:moveTo>
                  <a:lnTo>
                    <a:pt x="40" y="27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20" y="5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135320" y="5915160"/>
              <a:ext cx="51120" cy="586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0" y="53"/>
                  </a:moveTo>
                  <a:lnTo>
                    <a:pt x="40" y="26"/>
                  </a:lnTo>
                  <a:lnTo>
                    <a:pt x="20" y="0"/>
                  </a:lnTo>
                  <a:lnTo>
                    <a:pt x="0" y="26"/>
                  </a:lnTo>
                  <a:lnTo>
                    <a:pt x="20" y="53"/>
                  </a:lnTo>
                  <a:lnTo>
                    <a:pt x="20" y="5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1" name=""/>
            <p:cNvGrpSpPr/>
            <p:nvPr/>
          </p:nvGrpSpPr>
          <p:grpSpPr>
            <a:xfrm>
              <a:off x="963360" y="4398840"/>
              <a:ext cx="3226680" cy="1515960"/>
              <a:chOff x="963360" y="4398840"/>
              <a:chExt cx="3226680" cy="1515960"/>
            </a:xfrm>
          </p:grpSpPr>
          <p:sp>
            <p:nvSpPr>
              <p:cNvPr id="8762" name=""/>
              <p:cNvSpPr/>
              <p:nvPr/>
            </p:nvSpPr>
            <p:spPr>
              <a:xfrm>
                <a:off x="992520" y="466164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1045800" y="46872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1099440" y="47120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1154520" y="473616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1208160" y="47610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1261800" y="47862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1315440" y="481140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1370160" y="483516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1424160" y="486072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1477800" y="488556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1532520" y="490968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1586160" y="493488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1639800" y="495972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1693440" y="4983840"/>
                <a:ext cx="280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1748160" y="500868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1801800" y="503424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1855440" y="5058000"/>
                <a:ext cx="280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1910520" y="508320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1964160" y="510840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2017440" y="51332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2072520" y="515736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2126160" y="518256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2179800" y="520776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2233080" y="5231520"/>
                <a:ext cx="280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2288160" y="525672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2341800" y="528192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2395440" y="530604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2450520" y="533088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2503800" y="535608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2557440" y="5381280"/>
                <a:ext cx="28080" cy="108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0"/>
                    </a:moveTo>
                    <a:lnTo>
                      <a:pt x="15" y="7"/>
                    </a:lnTo>
                    <a:lnTo>
                      <a:pt x="22" y="1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2613600" y="5401080"/>
                <a:ext cx="295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2671200" y="541944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2728440" y="54378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2786040" y="545652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2843640" y="5473800"/>
                <a:ext cx="295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2901240" y="549252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2958480" y="551124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3015720" y="5528520"/>
                <a:ext cx="295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3073320" y="5546880"/>
                <a:ext cx="291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3130560" y="55656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3188160" y="558396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3245760" y="5601600"/>
                <a:ext cx="295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3303360" y="562032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3360600" y="563868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3418200" y="5656320"/>
                <a:ext cx="291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3475440" y="5674680"/>
                <a:ext cx="291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3532680" y="56934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3590280" y="571176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3647880" y="5729400"/>
                <a:ext cx="295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3705480" y="574812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3762720" y="576648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3820320" y="578520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3877560" y="5802480"/>
                <a:ext cx="291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3934800" y="58212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3992400" y="583956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050000" y="5857200"/>
                <a:ext cx="295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07600" y="5875560"/>
                <a:ext cx="2916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966960" y="4661640"/>
                <a:ext cx="507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992520" y="4640040"/>
                <a:ext cx="1080" cy="4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2550960" y="5388840"/>
                <a:ext cx="511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2576520" y="5366880"/>
                <a:ext cx="1440" cy="4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4135680" y="5893200"/>
                <a:ext cx="507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4160880" y="5871240"/>
                <a:ext cx="1080" cy="4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974520" y="4646520"/>
                <a:ext cx="35640" cy="30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 flipH="1">
                <a:off x="974160" y="4646520"/>
                <a:ext cx="35640" cy="30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2558880" y="5373360"/>
                <a:ext cx="35280" cy="30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 flipH="1">
                <a:off x="2558880" y="5373360"/>
                <a:ext cx="35280" cy="30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4143240" y="5878080"/>
                <a:ext cx="35640" cy="30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 flipH="1">
                <a:off x="4142880" y="5878080"/>
                <a:ext cx="35640" cy="30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992520" y="457992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1011600" y="45896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1056240" y="461052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1076760" y="46206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1121400" y="464112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1141920" y="46508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1186560" y="46717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1207080" y="468144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1251360" y="470232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1272240" y="471204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1316520" y="4732920"/>
                <a:ext cx="14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1335600" y="474264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1381680" y="47631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1400760" y="4772160"/>
                <a:ext cx="266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1445400" y="47941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1465920" y="480276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1510560" y="482436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1531080" y="48330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1575720" y="485496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1596240" y="486396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1640880" y="488556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1661400" y="489420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1706040" y="4916160"/>
                <a:ext cx="108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1725120" y="49248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1770120" y="4946760"/>
                <a:ext cx="2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1790280" y="49554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1834920" y="497736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1855440" y="49860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1900080" y="500796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1920600" y="50166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1965240" y="503748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1985760" y="504720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030400" y="5068080"/>
                <a:ext cx="14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049480" y="50778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094120" y="509832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2114640" y="51084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2159280" y="512928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2179800" y="513864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2224440" y="51595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2244960" y="5169600"/>
                <a:ext cx="266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2289240" y="519012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2310120" y="519984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2354400" y="5220720"/>
                <a:ext cx="14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2374920" y="5230800"/>
                <a:ext cx="262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2419560" y="525132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2438640" y="52610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2483640" y="528192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2503800" y="52916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2548440" y="531216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2568960" y="5322240"/>
                <a:ext cx="28080" cy="97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0"/>
                    </a:moveTo>
                    <a:lnTo>
                      <a:pt x="6" y="3"/>
                    </a:lnTo>
                    <a:lnTo>
                      <a:pt x="22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2616120" y="53377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2638080" y="534384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2686680" y="535824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2708280" y="5364720"/>
                <a:ext cx="2916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2756520" y="537876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2778480" y="538452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2827080" y="539856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2848680" y="540504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2896920" y="541944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2918880" y="542592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2967480" y="54399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2989080" y="544680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3036240" y="546084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3058200" y="546768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3106800" y="548172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3128040" y="5488200"/>
                <a:ext cx="2952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3176640" y="550260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3198600" y="550800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3247200" y="552204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3268800" y="552852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3317040" y="55429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3339000" y="55494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3387600" y="5563440"/>
                <a:ext cx="21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3409200" y="556992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3457440" y="558396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3479400" y="559080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3526560" y="560484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3548160" y="5611680"/>
                <a:ext cx="2952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3596760" y="56257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3618360" y="5632200"/>
                <a:ext cx="2916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3666960" y="564660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3688560" y="56520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3737160" y="566604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3758760" y="5672880"/>
                <a:ext cx="29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3807360" y="56869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3828960" y="569340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3877560" y="570780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3899160" y="571392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3948120" y="572832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3969720" y="573480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4016880" y="5748840"/>
                <a:ext cx="2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4038480" y="5755680"/>
                <a:ext cx="2916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4087080" y="5769720"/>
                <a:ext cx="25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4108680" y="5775120"/>
                <a:ext cx="2952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4157280" y="5789520"/>
                <a:ext cx="2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963360" y="4565880"/>
                <a:ext cx="58320" cy="4248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23" y="39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23" y="39"/>
                    </a:lnTo>
                    <a:lnTo>
                      <a:pt x="23" y="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2547360" y="5311440"/>
                <a:ext cx="58680" cy="4248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23" y="39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23" y="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4131720" y="5776200"/>
                <a:ext cx="58320" cy="435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3" y="40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23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992520" y="43988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1045800" y="442260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1100880" y="444672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1155600" y="44708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1209600" y="449460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1264320" y="451872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1319400" y="45428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1374120" y="456696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1427760" y="459108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1482480" y="46148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1537560" y="4638960"/>
                <a:ext cx="2664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1591200" y="466164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1646280" y="468576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1701000" y="470988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1755720" y="47340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1809360" y="475776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1864440" y="478188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1919160" y="48060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1972800" y="482976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2027520" y="485388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2082600" y="487800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2136240" y="490176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2191320" y="492588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2246040" y="494892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2301120" y="49730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2354400" y="499680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2409480" y="5020920"/>
                <a:ext cx="262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2464200" y="5045040"/>
                <a:ext cx="26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2518200" y="5069160"/>
                <a:ext cx="28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2572920" y="5092920"/>
                <a:ext cx="28080" cy="97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0"/>
                    </a:moveTo>
                    <a:lnTo>
                      <a:pt x="3" y="1"/>
                    </a:lnTo>
                    <a:lnTo>
                      <a:pt x="22" y="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2630520" y="511164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2687760" y="5130000"/>
                <a:ext cx="2808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2745360" y="5147640"/>
                <a:ext cx="28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2" name=""/>
            <p:cNvSpPr/>
            <p:nvPr/>
          </p:nvSpPr>
          <p:spPr>
            <a:xfrm>
              <a:off x="2802600" y="516564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2860200" y="518472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2917440" y="520380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2975040" y="522144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032280" y="5240160"/>
              <a:ext cx="27720" cy="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089880" y="525780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147480" y="527544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204720" y="529416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262320" y="531324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319560" y="533088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377160" y="53481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4400" y="536724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492000" y="538632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549600" y="540396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07200" y="542124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64440" y="544032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721680" y="545796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779280" y="547704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836520" y="5495760"/>
              <a:ext cx="27720" cy="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894120" y="551340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951360" y="553068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4009320" y="554976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4066560" y="5568840"/>
              <a:ext cx="27720" cy="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4123800" y="558648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983880" y="4392720"/>
              <a:ext cx="1620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3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2567880" y="5087880"/>
              <a:ext cx="16200" cy="144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3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4151880" y="5589720"/>
              <a:ext cx="16560" cy="15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7"/>
                  </a:moveTo>
                  <a:lnTo>
                    <a:pt x="13" y="10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992520" y="403560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1013040" y="40449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1057680" y="406548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1078200" y="407340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1124280" y="4094280"/>
              <a:ext cx="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1144440" y="410364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1189440" y="412272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1209600" y="413244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255680" y="415296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1275840" y="416088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320840" y="418140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1341000" y="418932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1387080" y="42102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1407600" y="421956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1452240" y="423864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1472400" y="424800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1518480" y="426888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1539000" y="427680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1583640" y="429732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1604160" y="430704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1649880" y="432576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1670400" y="433692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1715040" y="435600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1735560" y="436392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1781640" y="438480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1801800" y="439416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1847880" y="4413240"/>
              <a:ext cx="1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1866960" y="44226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1913040" y="444348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1933200" y="445140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1979280" y="447192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1999800" y="448164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2044440" y="450072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2064960" y="451008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2110680" y="453060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2131200" y="454032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2175840" y="45594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2196360" y="456876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2242440" y="4587840"/>
              <a:ext cx="1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2262600" y="459756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2307240" y="461808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2327760" y="46274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2373840" y="4646520"/>
              <a:ext cx="1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2394000" y="4654440"/>
              <a:ext cx="2664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2439000" y="4676760"/>
              <a:ext cx="2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2459160" y="468468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2505240" y="470376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2525400" y="471492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2570400" y="47340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2590560" y="474192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2638080" y="4761000"/>
              <a:ext cx="1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2658600" y="4770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2704320" y="47880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2724840" y="479592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2772360" y="4816440"/>
              <a:ext cx="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2792520" y="482292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2838600" y="48420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2858760" y="485136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2904840" y="486900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2926440" y="48783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2972520" y="4897440"/>
              <a:ext cx="2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2992680" y="4905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3038760" y="4924440"/>
              <a:ext cx="2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3060360" y="49323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3106440" y="495144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3126960" y="4959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3172680" y="497664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3193560" y="4986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3240720" y="5005440"/>
              <a:ext cx="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3260880" y="5013360"/>
              <a:ext cx="280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3306960" y="503244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3327480" y="5040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3373560" y="505944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3395160" y="506736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3440880" y="5086440"/>
              <a:ext cx="2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3461400" y="5094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3507480" y="5113440"/>
              <a:ext cx="2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3529080" y="512136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3574800" y="5140440"/>
              <a:ext cx="2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3595320" y="5148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3641400" y="516744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3661920" y="51768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3709080" y="51944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3729600" y="520236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3775680" y="522144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3795840" y="522936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3843000" y="52484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3863520" y="5257800"/>
              <a:ext cx="2628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3909600" y="5275440"/>
              <a:ext cx="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3929760" y="52848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3975840" y="530208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3997440" y="531036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043520" y="5330880"/>
              <a:ext cx="2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063680" y="533700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109760" y="5356080"/>
              <a:ext cx="2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131720" y="536580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974880" y="4021200"/>
              <a:ext cx="35280" cy="3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6" name=""/>
            <p:cNvSpPr/>
            <p:nvPr/>
          </p:nvSpPr>
          <p:spPr>
            <a:xfrm flipH="1">
              <a:off x="974880" y="4021200"/>
              <a:ext cx="35280" cy="3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2558880" y="4721400"/>
              <a:ext cx="35640" cy="2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8" name=""/>
            <p:cNvSpPr/>
            <p:nvPr/>
          </p:nvSpPr>
          <p:spPr>
            <a:xfrm flipH="1">
              <a:off x="2558520" y="4721400"/>
              <a:ext cx="35640" cy="2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143240" y="5362560"/>
              <a:ext cx="35280" cy="3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0" name=""/>
            <p:cNvSpPr/>
            <p:nvPr/>
          </p:nvSpPr>
          <p:spPr>
            <a:xfrm flipH="1">
              <a:off x="4143240" y="5362560"/>
              <a:ext cx="35280" cy="3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992520" y="380988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1047600" y="383220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1102320" y="38559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1157040" y="387828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1212120" y="39020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1268280" y="39243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1323360" y="3948120"/>
              <a:ext cx="2628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1378080" y="39704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1433160" y="39924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1487880" y="401652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1544040" y="403848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1599120" y="4060800"/>
              <a:ext cx="2664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1653840" y="40845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1708560" y="410688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1763640" y="412920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1819800" y="41529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1874880" y="417528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1929600" y="41990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1984680" y="42210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2039400" y="424512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2095560" y="426708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2150280" y="429084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2205360" y="43131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2260080" y="433692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2315160" y="4357800"/>
              <a:ext cx="2772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2371320" y="4381560"/>
              <a:ext cx="2664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2426400" y="4403880"/>
              <a:ext cx="262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2481120" y="44276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2535840" y="4449600"/>
              <a:ext cx="2772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2592000" y="4473720"/>
              <a:ext cx="2628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2646720" y="44942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2702880" y="45165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2757960" y="453852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2814120" y="4560840"/>
              <a:ext cx="27720" cy="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2870280" y="4581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2925360" y="460368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2981520" y="46260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3037680" y="464832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3092400" y="46688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148560" y="46911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203640" y="471312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259800" y="47354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315960" y="475632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370680" y="477828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426840" y="48006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483000" y="482292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37720" y="48434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93880" y="48657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648960" y="488808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705120" y="491004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761280" y="493236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816360" y="495288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872520" y="497520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928680" y="4997520"/>
              <a:ext cx="2628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983400" y="5019840"/>
              <a:ext cx="2772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4039560" y="5040360"/>
              <a:ext cx="27720" cy="1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4094640" y="5062680"/>
              <a:ext cx="27720" cy="1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4150800" y="5086440"/>
              <a:ext cx="10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972360" y="3794040"/>
              <a:ext cx="39600" cy="33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2556360" y="4449600"/>
              <a:ext cx="39600" cy="33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lnTo>
                    <a:pt x="31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4140720" y="5072040"/>
              <a:ext cx="39240" cy="3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992520" y="3720960"/>
              <a:ext cx="3168000" cy="1238400"/>
            </a:xfrm>
            <a:custGeom>
              <a:avLst/>
              <a:gdLst/>
              <a:ahLst/>
              <a:rect l="l" t="t" r="r" b="b"/>
              <a:pathLst>
                <a:path w="2482" h="1134">
                  <a:moveTo>
                    <a:pt x="0" y="0"/>
                  </a:moveTo>
                  <a:lnTo>
                    <a:pt x="1241" y="595"/>
                  </a:lnTo>
                  <a:lnTo>
                    <a:pt x="2482" y="1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966960" y="3699000"/>
              <a:ext cx="51120" cy="442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7"/>
                  </a:lnTo>
                  <a:lnTo>
                    <a:pt x="20" y="40"/>
                  </a:lnTo>
                  <a:lnTo>
                    <a:pt x="10" y="37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2551320" y="4349880"/>
              <a:ext cx="50760" cy="42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7"/>
                  </a:lnTo>
                  <a:lnTo>
                    <a:pt x="20" y="40"/>
                  </a:lnTo>
                  <a:lnTo>
                    <a:pt x="10" y="37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4135320" y="4938840"/>
              <a:ext cx="51120" cy="42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7" y="30"/>
                  </a:lnTo>
                  <a:lnTo>
                    <a:pt x="30" y="37"/>
                  </a:lnTo>
                  <a:lnTo>
                    <a:pt x="20" y="40"/>
                  </a:lnTo>
                  <a:lnTo>
                    <a:pt x="10" y="37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7" y="10"/>
                  </a:lnTo>
                  <a:lnTo>
                    <a:pt x="40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676080" y="6035760"/>
              <a:ext cx="380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49920" y="3484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43800" y="4094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43800" y="4708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43800" y="53244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43800" y="5938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2" name=""/>
            <p:cNvSpPr/>
            <p:nvPr/>
          </p:nvSpPr>
          <p:spPr>
            <a:xfrm rot="16200000">
              <a:off x="323280" y="4039200"/>
              <a:ext cx="106164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SNR (d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4282200" y="604368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AU" sz="1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773280" y="60436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1527480" y="6056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2362680" y="60706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103920" y="6083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945600" y="6095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1514880" y="5513400"/>
              <a:ext cx="5266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0" name=""/>
            <p:cNvCxnSpPr>
              <a:stCxn id="9169" idx="3"/>
              <a:endCxn id="8759" idx="0"/>
            </p:cNvCxnSpPr>
            <p:nvPr/>
          </p:nvCxnSpPr>
          <p:spPr>
            <a:xfrm flipV="1">
              <a:off x="1990440" y="5432040"/>
              <a:ext cx="586440" cy="186480"/>
            </a:xfrm>
            <a:prstGeom prst="curvedConnector2">
              <a:avLst/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sp>
          <p:nvSpPr>
            <p:cNvPr id="9171" name=""/>
            <p:cNvSpPr/>
            <p:nvPr/>
          </p:nvSpPr>
          <p:spPr>
            <a:xfrm>
              <a:off x="1517400" y="3621240"/>
              <a:ext cx="71388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AU" sz="1400" spc="-1" strike="noStrike" baseline="-25000">
                  <a:solidFill>
                    <a:srgbClr val="000000"/>
                  </a:solidFill>
                  <a:latin typeface="Arial"/>
                </a:rPr>
                <a:t>ACK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2" name=""/>
            <p:cNvCxnSpPr/>
            <p:nvPr/>
          </p:nvCxnSpPr>
          <p:spPr>
            <a:xfrm flipH="1" rot="16200000">
              <a:off x="1827720" y="3888720"/>
              <a:ext cx="371880" cy="277560"/>
            </a:xfrm>
            <a:prstGeom prst="curvedConnector5">
              <a:avLst>
                <a:gd name="adj1" fmla="val 39825"/>
                <a:gd name="adj2" fmla="val 50000"/>
                <a:gd name="adj3" fmla="val 39825"/>
              </a:avLst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sp>
          <p:nvSpPr>
            <p:cNvPr id="9173" name=""/>
            <p:cNvSpPr/>
            <p:nvPr/>
          </p:nvSpPr>
          <p:spPr>
            <a:xfrm>
              <a:off x="2297880" y="3825720"/>
              <a:ext cx="96228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AU" sz="1400" spc="-1" strike="noStrike" baseline="-25000">
                  <a:solidFill>
                    <a:srgbClr val="000000"/>
                  </a:solidFill>
                  <a:latin typeface="Arial"/>
                </a:rPr>
                <a:t>ACK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=0.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4" name=""/>
            <p:cNvCxnSpPr>
              <a:stCxn id="9173" idx="2"/>
            </p:cNvCxnSpPr>
            <p:nvPr/>
          </p:nvCxnSpPr>
          <p:spPr>
            <a:xfrm flipH="1" rot="16200000">
              <a:off x="2443320" y="4464360"/>
              <a:ext cx="848520" cy="180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  <p:sp>
          <p:nvSpPr>
            <p:cNvPr id="9175" name=""/>
            <p:cNvSpPr/>
            <p:nvPr/>
          </p:nvSpPr>
          <p:spPr>
            <a:xfrm>
              <a:off x="3417480" y="4087800"/>
              <a:ext cx="86328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AU" sz="1400" spc="-1" strike="noStrike" baseline="-25000">
                  <a:solidFill>
                    <a:srgbClr val="000000"/>
                  </a:solidFill>
                  <a:latin typeface="Arial"/>
                </a:rPr>
                <a:t>ACK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=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6" name=""/>
            <p:cNvCxnSpPr>
              <a:stCxn id="9175" idx="2"/>
            </p:cNvCxnSpPr>
            <p:nvPr/>
          </p:nvCxnSpPr>
          <p:spPr>
            <a:xfrm rot="5400000">
              <a:off x="3123000" y="4753440"/>
              <a:ext cx="1086480" cy="365040"/>
            </a:xfrm>
            <a:prstGeom prst="curvedConnector5">
              <a:avLst>
                <a:gd name="adj1" fmla="val 49983"/>
                <a:gd name="adj2" fmla="val 49950"/>
                <a:gd name="adj3" fmla="val 49983"/>
              </a:avLst>
            </a:prstGeom>
            <a:ln w="1260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9177" name=""/>
          <p:cNvSpPr/>
          <p:nvPr/>
        </p:nvSpPr>
        <p:spPr>
          <a:xfrm>
            <a:off x="4656240" y="3830760"/>
            <a:ext cx="43354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ther 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R-PET with packet bi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951C-0B35-452A-B34E-4BE0EDF158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8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Client-server systems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 – accessibility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1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del considered so f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lti-dimensional transforms serv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ploit redundancy (energy comp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cilitate scalability – natural resolution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t, transforms interfere with 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.g., access a region of a frame after MC temporal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server to send us a lot more than we actually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blem gets worse as we go to higher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.g., access a window at one time instant in multiview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0" name=""/>
          <p:cNvSpPr/>
          <p:nvPr/>
        </p:nvSpPr>
        <p:spPr>
          <a:xfrm>
            <a:off x="1187280" y="1892160"/>
            <a:ext cx="1295640" cy="6098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calabl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1" name=""/>
          <p:cNvSpPr/>
          <p:nvPr/>
        </p:nvSpPr>
        <p:spPr>
          <a:xfrm>
            <a:off x="7391520" y="1892160"/>
            <a:ext cx="1295280" cy="704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(decomp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2" name=""/>
          <p:cNvSpPr/>
          <p:nvPr/>
        </p:nvSpPr>
        <p:spPr>
          <a:xfrm>
            <a:off x="307440" y="1876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99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3" name=""/>
          <p:cNvSpPr/>
          <p:nvPr/>
        </p:nvSpPr>
        <p:spPr>
          <a:xfrm>
            <a:off x="425520" y="2197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4" name=""/>
          <p:cNvSpPr/>
          <p:nvPr/>
        </p:nvSpPr>
        <p:spPr>
          <a:xfrm>
            <a:off x="3733920" y="1968480"/>
            <a:ext cx="1295280" cy="4572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5" name=""/>
          <p:cNvSpPr/>
          <p:nvPr/>
        </p:nvSpPr>
        <p:spPr>
          <a:xfrm>
            <a:off x="2819520" y="1968480"/>
            <a:ext cx="533160" cy="4572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6" name=""/>
          <p:cNvCxnSpPr>
            <a:stCxn id="9180" idx="3"/>
            <a:endCxn id="9185" idx="2"/>
          </p:cNvCxnSpPr>
          <p:nvPr/>
        </p:nvCxnSpPr>
        <p:spPr>
          <a:xfrm>
            <a:off x="2491920" y="2196720"/>
            <a:ext cx="327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7" name=""/>
          <p:cNvCxnSpPr>
            <a:stCxn id="9185" idx="4"/>
            <a:endCxn id="9184" idx="1"/>
          </p:cNvCxnSpPr>
          <p:nvPr/>
        </p:nvCxnSpPr>
        <p:spPr>
          <a:xfrm>
            <a:off x="3352680" y="21967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8" name=""/>
          <p:cNvCxnSpPr/>
          <p:nvPr/>
        </p:nvCxnSpPr>
        <p:spPr>
          <a:xfrm>
            <a:off x="6636960" y="2196720"/>
            <a:ext cx="75492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9" name=""/>
          <p:cNvSpPr/>
          <p:nvPr/>
        </p:nvSpPr>
        <p:spPr>
          <a:xfrm rot="16200000">
            <a:off x="6165720" y="1590120"/>
            <a:ext cx="306360" cy="1214640"/>
          </a:xfrm>
          <a:prstGeom prst="can">
            <a:avLst>
              <a:gd name="adj" fmla="val 13199"/>
            </a:avLst>
          </a:prstGeom>
          <a:solidFill>
            <a:srgbClr val="cc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0" name=""/>
          <p:cNvCxnSpPr>
            <a:stCxn id="9184" idx="3"/>
          </p:cNvCxnSpPr>
          <p:nvPr/>
        </p:nvCxnSpPr>
        <p:spPr>
          <a:xfrm>
            <a:off x="5038200" y="2196720"/>
            <a:ext cx="75492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1" name=""/>
          <p:cNvSpPr/>
          <p:nvPr/>
        </p:nvSpPr>
        <p:spPr>
          <a:xfrm>
            <a:off x="2987280" y="2666880"/>
            <a:ext cx="288396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lects element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lity progressiv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tects content against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2" name=""/>
          <p:cNvSpPr/>
          <p:nvPr/>
        </p:nvSpPr>
        <p:spPr>
          <a:xfrm rot="16200000">
            <a:off x="4343400" y="1891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3" name=""/>
          <p:cNvSpPr/>
          <p:nvPr/>
        </p:nvSpPr>
        <p:spPr>
          <a:xfrm>
            <a:off x="2631600" y="1523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99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4" name=""/>
          <p:cNvSpPr/>
          <p:nvPr/>
        </p:nvSpPr>
        <p:spPr>
          <a:xfrm>
            <a:off x="5851440" y="1692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99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31F7-89DD-45EE-995B-068CFAEB41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Example from multiview imaging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we want the whole l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fficiency greatly improve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y a geometry compensate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view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we want only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tter without the interview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navigation lies between these wor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low navigation similar to the single view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tter off with independently compresse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st navigation similar to the whole lightfield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tter off with a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has been demonstrated theoretically and practically by</a:t>
            </a:r>
            <a:br>
              <a:rPr sz="2000"/>
            </a:b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Ramanathan &amp; Girod – Image Communication, to app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7" name=""/>
          <p:cNvSpPr/>
          <p:nvPr/>
        </p:nvSpPr>
        <p:spPr>
          <a:xfrm flipH="1">
            <a:off x="7079400" y="1533600"/>
            <a:ext cx="108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8" name=""/>
          <p:cNvSpPr/>
          <p:nvPr/>
        </p:nvSpPr>
        <p:spPr>
          <a:xfrm>
            <a:off x="6384960" y="2158920"/>
            <a:ext cx="1639800" cy="1270080"/>
          </a:xfrm>
          <a:custGeom>
            <a:avLst/>
            <a:gdLst/>
            <a:ahLst/>
            <a:rect l="l" t="t" r="r" b="b"/>
            <a:pathLst>
              <a:path w="1664" h="1384">
                <a:moveTo>
                  <a:pt x="160" y="128"/>
                </a:moveTo>
                <a:cubicBezTo>
                  <a:pt x="256" y="56"/>
                  <a:pt x="464" y="48"/>
                  <a:pt x="592" y="32"/>
                </a:cubicBezTo>
                <a:cubicBezTo>
                  <a:pt x="720" y="16"/>
                  <a:pt x="816" y="0"/>
                  <a:pt x="928" y="32"/>
                </a:cubicBezTo>
                <a:cubicBezTo>
                  <a:pt x="1040" y="64"/>
                  <a:pt x="1184" y="184"/>
                  <a:pt x="1264" y="224"/>
                </a:cubicBezTo>
                <a:cubicBezTo>
                  <a:pt x="1344" y="264"/>
                  <a:pt x="1360" y="232"/>
                  <a:pt x="1408" y="272"/>
                </a:cubicBezTo>
                <a:cubicBezTo>
                  <a:pt x="1456" y="312"/>
                  <a:pt x="1512" y="368"/>
                  <a:pt x="1552" y="464"/>
                </a:cubicBezTo>
                <a:cubicBezTo>
                  <a:pt x="1592" y="560"/>
                  <a:pt x="1664" y="728"/>
                  <a:pt x="1648" y="848"/>
                </a:cubicBezTo>
                <a:cubicBezTo>
                  <a:pt x="1632" y="968"/>
                  <a:pt x="1520" y="1104"/>
                  <a:pt x="1456" y="1184"/>
                </a:cubicBezTo>
                <a:cubicBezTo>
                  <a:pt x="1392" y="1264"/>
                  <a:pt x="1368" y="1296"/>
                  <a:pt x="1264" y="1328"/>
                </a:cubicBezTo>
                <a:cubicBezTo>
                  <a:pt x="1160" y="1360"/>
                  <a:pt x="944" y="1384"/>
                  <a:pt x="832" y="1376"/>
                </a:cubicBezTo>
                <a:cubicBezTo>
                  <a:pt x="720" y="1368"/>
                  <a:pt x="672" y="1344"/>
                  <a:pt x="592" y="1280"/>
                </a:cubicBezTo>
                <a:cubicBezTo>
                  <a:pt x="512" y="1216"/>
                  <a:pt x="440" y="1056"/>
                  <a:pt x="352" y="992"/>
                </a:cubicBezTo>
                <a:cubicBezTo>
                  <a:pt x="264" y="928"/>
                  <a:pt x="120" y="984"/>
                  <a:pt x="64" y="896"/>
                </a:cubicBezTo>
                <a:cubicBezTo>
                  <a:pt x="8" y="808"/>
                  <a:pt x="0" y="592"/>
                  <a:pt x="16" y="464"/>
                </a:cubicBezTo>
                <a:cubicBezTo>
                  <a:pt x="32" y="336"/>
                  <a:pt x="64" y="200"/>
                  <a:pt x="160" y="128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9" name=""/>
          <p:cNvSpPr/>
          <p:nvPr/>
        </p:nvSpPr>
        <p:spPr>
          <a:xfrm flipH="1">
            <a:off x="8510040" y="177804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0" name=""/>
          <p:cNvSpPr/>
          <p:nvPr/>
        </p:nvSpPr>
        <p:spPr>
          <a:xfrm flipH="1">
            <a:off x="5308200" y="183672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1" name=""/>
          <p:cNvSpPr/>
          <p:nvPr/>
        </p:nvSpPr>
        <p:spPr>
          <a:xfrm flipH="1">
            <a:off x="6690600" y="2390760"/>
            <a:ext cx="102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2" name=""/>
          <p:cNvGrpSpPr/>
          <p:nvPr/>
        </p:nvGrpSpPr>
        <p:grpSpPr>
          <a:xfrm>
            <a:off x="8007480" y="1603080"/>
            <a:ext cx="1006200" cy="1231920"/>
            <a:chOff x="8007480" y="1603080"/>
            <a:chExt cx="1006200" cy="1231920"/>
          </a:xfrm>
        </p:grpSpPr>
        <p:sp>
          <p:nvSpPr>
            <p:cNvPr id="9203" name=""/>
            <p:cNvSpPr/>
            <p:nvPr/>
          </p:nvSpPr>
          <p:spPr>
            <a:xfrm flipH="1">
              <a:off x="8235000" y="2199240"/>
              <a:ext cx="2707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4" name=""/>
            <p:cNvSpPr/>
            <p:nvPr/>
          </p:nvSpPr>
          <p:spPr>
            <a:xfrm flipH="1" rot="520800">
              <a:off x="8086320" y="1660320"/>
              <a:ext cx="847440" cy="1117080"/>
            </a:xfrm>
            <a:custGeom>
              <a:avLst/>
              <a:gdLst/>
              <a:ahLst/>
              <a:rect l="l" t="t" r="r" b="b"/>
              <a:pathLst>
                <a:path w="534" h="742">
                  <a:moveTo>
                    <a:pt x="0" y="742"/>
                  </a:moveTo>
                  <a:lnTo>
                    <a:pt x="89" y="499"/>
                  </a:lnTo>
                  <a:lnTo>
                    <a:pt x="534" y="0"/>
                  </a:lnTo>
                  <a:lnTo>
                    <a:pt x="486" y="192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5" name=""/>
            <p:cNvSpPr/>
            <p:nvPr/>
          </p:nvSpPr>
          <p:spPr>
            <a:xfrm flipH="1" rot="3481200">
              <a:off x="8486640" y="2173680"/>
              <a:ext cx="40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6" name=""/>
          <p:cNvGrpSpPr/>
          <p:nvPr/>
        </p:nvGrpSpPr>
        <p:grpSpPr>
          <a:xfrm>
            <a:off x="5121000" y="1652040"/>
            <a:ext cx="1006560" cy="1232640"/>
            <a:chOff x="5121000" y="1652040"/>
            <a:chExt cx="1006560" cy="1232640"/>
          </a:xfrm>
        </p:grpSpPr>
        <p:sp>
          <p:nvSpPr>
            <p:cNvPr id="9207" name=""/>
            <p:cNvSpPr/>
            <p:nvPr/>
          </p:nvSpPr>
          <p:spPr>
            <a:xfrm>
              <a:off x="5628600" y="2248560"/>
              <a:ext cx="27108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8" name=""/>
            <p:cNvSpPr/>
            <p:nvPr/>
          </p:nvSpPr>
          <p:spPr>
            <a:xfrm rot="21079200">
              <a:off x="5200200" y="1709280"/>
              <a:ext cx="847440" cy="1117800"/>
            </a:xfrm>
            <a:custGeom>
              <a:avLst/>
              <a:gdLst/>
              <a:ahLst/>
              <a:rect l="l" t="t" r="r" b="b"/>
              <a:pathLst>
                <a:path w="534" h="742">
                  <a:moveTo>
                    <a:pt x="0" y="742"/>
                  </a:moveTo>
                  <a:lnTo>
                    <a:pt x="89" y="499"/>
                  </a:lnTo>
                  <a:lnTo>
                    <a:pt x="534" y="0"/>
                  </a:lnTo>
                  <a:lnTo>
                    <a:pt x="486" y="192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338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9" name=""/>
            <p:cNvSpPr/>
            <p:nvPr/>
          </p:nvSpPr>
          <p:spPr>
            <a:xfrm rot="18118800">
              <a:off x="5607000" y="2222640"/>
              <a:ext cx="40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0" name=""/>
          <p:cNvSpPr/>
          <p:nvPr/>
        </p:nvSpPr>
        <p:spPr>
          <a:xfrm>
            <a:off x="6424560" y="1452600"/>
            <a:ext cx="1330200" cy="155520"/>
          </a:xfrm>
          <a:custGeom>
            <a:avLst/>
            <a:gdLst/>
            <a:ahLst/>
            <a:rect l="l" t="t" r="r" b="b"/>
            <a:pathLst>
              <a:path w="838" h="103">
                <a:moveTo>
                  <a:pt x="0" y="103"/>
                </a:moveTo>
                <a:lnTo>
                  <a:pt x="745" y="103"/>
                </a:lnTo>
                <a:lnTo>
                  <a:pt x="838" y="0"/>
                </a:lnTo>
                <a:lnTo>
                  <a:pt x="147" y="0"/>
                </a:lnTo>
                <a:lnTo>
                  <a:pt x="0" y="103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 flipH="1">
            <a:off x="6953040" y="1143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2" name=""/>
          <p:cNvSpPr/>
          <p:nvPr/>
        </p:nvSpPr>
        <p:spPr>
          <a:xfrm rot="21457200">
            <a:off x="7061040" y="1506600"/>
            <a:ext cx="43200" cy="20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5370480" y="1565280"/>
            <a:ext cx="2944800" cy="1813680"/>
            <a:chOff x="5370480" y="1565280"/>
            <a:chExt cx="2944800" cy="1813680"/>
          </a:xfrm>
        </p:grpSpPr>
        <p:sp>
          <p:nvSpPr>
            <p:cNvPr id="9214" name=""/>
            <p:cNvSpPr/>
            <p:nvPr/>
          </p:nvSpPr>
          <p:spPr>
            <a:xfrm>
              <a:off x="7481880" y="1617840"/>
              <a:ext cx="833400" cy="74268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5" name=""/>
            <p:cNvSpPr/>
            <p:nvPr/>
          </p:nvSpPr>
          <p:spPr>
            <a:xfrm flipH="1">
              <a:off x="5900040" y="1617840"/>
              <a:ext cx="762120" cy="668160"/>
            </a:xfrm>
            <a:custGeom>
              <a:avLst/>
              <a:gdLst/>
              <a:ahLst/>
              <a:rect l="l" t="t" r="r" b="b"/>
              <a:pathLst>
                <a:path w="480" h="444">
                  <a:moveTo>
                    <a:pt x="480" y="263"/>
                  </a:moveTo>
                  <a:cubicBezTo>
                    <a:pt x="392" y="312"/>
                    <a:pt x="305" y="362"/>
                    <a:pt x="240" y="391"/>
                  </a:cubicBezTo>
                  <a:cubicBezTo>
                    <a:pt x="175" y="420"/>
                    <a:pt x="124" y="444"/>
                    <a:pt x="90" y="435"/>
                  </a:cubicBezTo>
                  <a:cubicBezTo>
                    <a:pt x="56" y="426"/>
                    <a:pt x="53" y="408"/>
                    <a:pt x="38" y="336"/>
                  </a:cubicBezTo>
                  <a:cubicBezTo>
                    <a:pt x="23" y="264"/>
                    <a:pt x="11" y="132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7556400" y="1627200"/>
              <a:ext cx="701640" cy="61740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7" name=""/>
            <p:cNvSpPr/>
            <p:nvPr/>
          </p:nvSpPr>
          <p:spPr>
            <a:xfrm flipH="1">
              <a:off x="5903280" y="1565280"/>
              <a:ext cx="701640" cy="61740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8" name=""/>
            <p:cNvSpPr/>
            <p:nvPr/>
          </p:nvSpPr>
          <p:spPr>
            <a:xfrm flipH="1" rot="17121000">
              <a:off x="5594400" y="2481840"/>
              <a:ext cx="625680" cy="941400"/>
            </a:xfrm>
            <a:custGeom>
              <a:avLst/>
              <a:gdLst/>
              <a:ahLst/>
              <a:rect l="l" t="t" r="r" b="b"/>
              <a:pathLst>
                <a:path w="480" h="444">
                  <a:moveTo>
                    <a:pt x="480" y="263"/>
                  </a:moveTo>
                  <a:cubicBezTo>
                    <a:pt x="392" y="312"/>
                    <a:pt x="305" y="362"/>
                    <a:pt x="240" y="391"/>
                  </a:cubicBezTo>
                  <a:cubicBezTo>
                    <a:pt x="175" y="420"/>
                    <a:pt x="124" y="444"/>
                    <a:pt x="90" y="435"/>
                  </a:cubicBezTo>
                  <a:cubicBezTo>
                    <a:pt x="56" y="426"/>
                    <a:pt x="53" y="408"/>
                    <a:pt x="38" y="336"/>
                  </a:cubicBezTo>
                  <a:cubicBezTo>
                    <a:pt x="23" y="264"/>
                    <a:pt x="11" y="132"/>
                    <a:pt x="0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9" name=""/>
            <p:cNvSpPr/>
            <p:nvPr/>
          </p:nvSpPr>
          <p:spPr>
            <a:xfrm flipH="1" rot="17111400">
              <a:off x="5594400" y="2539080"/>
              <a:ext cx="471240" cy="799920"/>
            </a:xfrm>
            <a:custGeom>
              <a:avLst/>
              <a:gdLst/>
              <a:ahLst/>
              <a:rect l="l" t="t" r="r" b="b"/>
              <a:pathLst>
                <a:path w="525" h="494">
                  <a:moveTo>
                    <a:pt x="525" y="297"/>
                  </a:moveTo>
                  <a:cubicBezTo>
                    <a:pt x="479" y="320"/>
                    <a:pt x="318" y="410"/>
                    <a:pt x="247" y="441"/>
                  </a:cubicBezTo>
                  <a:cubicBezTo>
                    <a:pt x="176" y="472"/>
                    <a:pt x="131" y="494"/>
                    <a:pt x="97" y="485"/>
                  </a:cubicBezTo>
                  <a:cubicBezTo>
                    <a:pt x="63" y="476"/>
                    <a:pt x="61" y="467"/>
                    <a:pt x="45" y="386"/>
                  </a:cubicBezTo>
                  <a:cubicBezTo>
                    <a:pt x="29" y="305"/>
                    <a:pt x="9" y="80"/>
                    <a:pt x="0" y="0"/>
                  </a:cubicBezTo>
                </a:path>
              </a:pathLst>
            </a:custGeom>
            <a:noFill/>
            <a:ln w="19080">
              <a:solidFill>
                <a:srgbClr val="cc3300"/>
              </a:solidFill>
              <a:prstDash val="dash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C2D8-8445-437D-AE4C-97CB55D81C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9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9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3" dur="500"/>
                                        <p:tgtEl>
                                          <p:spTgt spid="9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0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An alternate approach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rver keeps origin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alable &amp; accessible, but independently com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rver policy sends selective elements to th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ends on the client’s desired view, scale, regi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depends on content already in the client’s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on this shor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lligent client combines availabl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redundancy exploited in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tion/geometry compensation of existing cache contents from nearby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turally open and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ent can use whatever it has, to generate the best view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 content (new views) can be added to the server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ent &amp; server policies only weakly coup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umb servers or dumb clients do not break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85F5-F36D-4521-8E6E-FD6EA9DC6A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2" name=""/>
          <p:cNvSpPr/>
          <p:nvPr/>
        </p:nvSpPr>
        <p:spPr>
          <a:xfrm>
            <a:off x="328680" y="1828800"/>
            <a:ext cx="5410080" cy="4343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Initial steps 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– client rendering problem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224" name=""/>
          <p:cNvSpPr/>
          <p:nvPr/>
        </p:nvSpPr>
        <p:spPr>
          <a:xfrm>
            <a:off x="5867280" y="2567160"/>
            <a:ext cx="3048120" cy="27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w it 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rping of the available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velet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  <a:ea typeface="Lucida Sans Unicode"/>
              </a:rPr>
              <a:t>Distortion sensitive blending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velet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>
            <a:off x="1187280" y="3954600"/>
            <a:ext cx="2702160" cy="55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6" name=""/>
          <p:cNvSpPr/>
          <p:nvPr/>
        </p:nvSpPr>
        <p:spPr>
          <a:xfrm>
            <a:off x="2413080" y="4818240"/>
            <a:ext cx="496800" cy="48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7" name=""/>
          <p:cNvSpPr/>
          <p:nvPr/>
        </p:nvSpPr>
        <p:spPr>
          <a:xfrm>
            <a:off x="1332000" y="4457880"/>
            <a:ext cx="285840" cy="280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8" name=""/>
          <p:cNvSpPr/>
          <p:nvPr/>
        </p:nvSpPr>
        <p:spPr>
          <a:xfrm>
            <a:off x="1187280" y="2873520"/>
            <a:ext cx="2702160" cy="63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9" name=""/>
          <p:cNvSpPr/>
          <p:nvPr/>
        </p:nvSpPr>
        <p:spPr>
          <a:xfrm flipV="1">
            <a:off x="3492360" y="4457880"/>
            <a:ext cx="497160" cy="48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0" name=""/>
          <p:cNvSpPr/>
          <p:nvPr/>
        </p:nvSpPr>
        <p:spPr>
          <a:xfrm>
            <a:off x="4211640" y="2873520"/>
            <a:ext cx="1279440" cy="63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1" name=""/>
          <p:cNvSpPr/>
          <p:nvPr/>
        </p:nvSpPr>
        <p:spPr>
          <a:xfrm flipH="1">
            <a:off x="1233360" y="463716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2" name=""/>
          <p:cNvSpPr/>
          <p:nvPr/>
        </p:nvSpPr>
        <p:spPr>
          <a:xfrm>
            <a:off x="4525920" y="2303640"/>
            <a:ext cx="504720" cy="607680"/>
          </a:xfrm>
          <a:custGeom>
            <a:avLst/>
            <a:gdLst/>
            <a:ahLst/>
            <a:rect l="l" t="t" r="r" b="b"/>
            <a:pathLst>
              <a:path w="318" h="383">
                <a:moveTo>
                  <a:pt x="316" y="322"/>
                </a:moveTo>
                <a:lnTo>
                  <a:pt x="309" y="343"/>
                </a:lnTo>
                <a:lnTo>
                  <a:pt x="298" y="360"/>
                </a:lnTo>
                <a:lnTo>
                  <a:pt x="283" y="373"/>
                </a:lnTo>
                <a:lnTo>
                  <a:pt x="266" y="381"/>
                </a:lnTo>
                <a:lnTo>
                  <a:pt x="243" y="383"/>
                </a:lnTo>
                <a:lnTo>
                  <a:pt x="218" y="382"/>
                </a:lnTo>
                <a:lnTo>
                  <a:pt x="189" y="375"/>
                </a:lnTo>
                <a:lnTo>
                  <a:pt x="148" y="366"/>
                </a:lnTo>
                <a:lnTo>
                  <a:pt x="107" y="365"/>
                </a:lnTo>
                <a:lnTo>
                  <a:pt x="80" y="365"/>
                </a:lnTo>
                <a:lnTo>
                  <a:pt x="56" y="360"/>
                </a:lnTo>
                <a:lnTo>
                  <a:pt x="36" y="352"/>
                </a:lnTo>
                <a:lnTo>
                  <a:pt x="20" y="339"/>
                </a:lnTo>
                <a:lnTo>
                  <a:pt x="9" y="323"/>
                </a:lnTo>
                <a:lnTo>
                  <a:pt x="2" y="304"/>
                </a:lnTo>
                <a:lnTo>
                  <a:pt x="0" y="281"/>
                </a:lnTo>
                <a:lnTo>
                  <a:pt x="3" y="263"/>
                </a:lnTo>
                <a:lnTo>
                  <a:pt x="15" y="246"/>
                </a:lnTo>
                <a:lnTo>
                  <a:pt x="39" y="213"/>
                </a:lnTo>
                <a:lnTo>
                  <a:pt x="57" y="177"/>
                </a:lnTo>
                <a:lnTo>
                  <a:pt x="72" y="137"/>
                </a:lnTo>
                <a:lnTo>
                  <a:pt x="82" y="95"/>
                </a:lnTo>
                <a:lnTo>
                  <a:pt x="87" y="72"/>
                </a:lnTo>
                <a:lnTo>
                  <a:pt x="96" y="52"/>
                </a:lnTo>
                <a:lnTo>
                  <a:pt x="110" y="36"/>
                </a:lnTo>
                <a:lnTo>
                  <a:pt x="135" y="16"/>
                </a:lnTo>
                <a:lnTo>
                  <a:pt x="163" y="4"/>
                </a:lnTo>
                <a:lnTo>
                  <a:pt x="192" y="0"/>
                </a:lnTo>
                <a:lnTo>
                  <a:pt x="225" y="6"/>
                </a:lnTo>
                <a:lnTo>
                  <a:pt x="258" y="17"/>
                </a:lnTo>
                <a:lnTo>
                  <a:pt x="269" y="56"/>
                </a:lnTo>
                <a:lnTo>
                  <a:pt x="275" y="96"/>
                </a:lnTo>
                <a:lnTo>
                  <a:pt x="275" y="138"/>
                </a:lnTo>
                <a:lnTo>
                  <a:pt x="270" y="181"/>
                </a:lnTo>
                <a:lnTo>
                  <a:pt x="269" y="205"/>
                </a:lnTo>
                <a:lnTo>
                  <a:pt x="273" y="224"/>
                </a:lnTo>
                <a:lnTo>
                  <a:pt x="283" y="237"/>
                </a:lnTo>
                <a:lnTo>
                  <a:pt x="302" y="256"/>
                </a:lnTo>
                <a:lnTo>
                  <a:pt x="313" y="276"/>
                </a:lnTo>
                <a:lnTo>
                  <a:pt x="318" y="299"/>
                </a:lnTo>
                <a:lnTo>
                  <a:pt x="316" y="3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3" name=""/>
          <p:cNvSpPr/>
          <p:nvPr/>
        </p:nvSpPr>
        <p:spPr>
          <a:xfrm>
            <a:off x="4676760" y="2455920"/>
            <a:ext cx="223920" cy="312840"/>
          </a:xfrm>
          <a:custGeom>
            <a:avLst/>
            <a:gdLst/>
            <a:ahLst/>
            <a:rect l="l" t="t" r="r" b="b"/>
            <a:pathLst>
              <a:path w="141" h="197">
                <a:moveTo>
                  <a:pt x="0" y="197"/>
                </a:moveTo>
                <a:lnTo>
                  <a:pt x="58" y="0"/>
                </a:lnTo>
                <a:lnTo>
                  <a:pt x="141" y="197"/>
                </a:lnTo>
                <a:lnTo>
                  <a:pt x="0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4" name=""/>
          <p:cNvSpPr/>
          <p:nvPr/>
        </p:nvSpPr>
        <p:spPr>
          <a:xfrm flipV="1">
            <a:off x="4470480" y="3019320"/>
            <a:ext cx="85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5" name=""/>
          <p:cNvSpPr/>
          <p:nvPr/>
        </p:nvSpPr>
        <p:spPr>
          <a:xfrm>
            <a:off x="4408560" y="3532320"/>
            <a:ext cx="17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6" name=""/>
          <p:cNvSpPr/>
          <p:nvPr/>
        </p:nvSpPr>
        <p:spPr>
          <a:xfrm flipV="1">
            <a:off x="4583160" y="333504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7" name=""/>
          <p:cNvSpPr/>
          <p:nvPr/>
        </p:nvSpPr>
        <p:spPr>
          <a:xfrm>
            <a:off x="4457880" y="338616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8" y="0"/>
                </a:moveTo>
                <a:lnTo>
                  <a:pt x="40" y="56"/>
                </a:lnTo>
                <a:lnTo>
                  <a:pt x="0" y="56"/>
                </a:lnTo>
                <a:lnTo>
                  <a:pt x="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8" name=""/>
          <p:cNvSpPr/>
          <p:nvPr/>
        </p:nvSpPr>
        <p:spPr>
          <a:xfrm>
            <a:off x="4408560" y="3335400"/>
            <a:ext cx="174600" cy="196920"/>
          </a:xfrm>
          <a:custGeom>
            <a:avLst/>
            <a:gdLst/>
            <a:ahLst/>
            <a:rect l="l" t="t" r="r" b="b"/>
            <a:pathLst>
              <a:path w="110" h="124">
                <a:moveTo>
                  <a:pt x="110" y="0"/>
                </a:moveTo>
                <a:lnTo>
                  <a:pt x="93" y="0"/>
                </a:lnTo>
                <a:lnTo>
                  <a:pt x="0" y="0"/>
                </a:lnTo>
                <a:lnTo>
                  <a:pt x="0" y="1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9" name=""/>
          <p:cNvSpPr/>
          <p:nvPr/>
        </p:nvSpPr>
        <p:spPr>
          <a:xfrm>
            <a:off x="4651200" y="33876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lnTo>
                  <a:pt x="16" y="0"/>
                </a:lnTo>
                <a:lnTo>
                  <a:pt x="40" y="56"/>
                </a:lnTo>
                <a:lnTo>
                  <a:pt x="0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0" name=""/>
          <p:cNvSpPr/>
          <p:nvPr/>
        </p:nvSpPr>
        <p:spPr>
          <a:xfrm>
            <a:off x="4768920" y="333540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4583160" y="353232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2" name=""/>
          <p:cNvSpPr/>
          <p:nvPr/>
        </p:nvSpPr>
        <p:spPr>
          <a:xfrm flipH="1">
            <a:off x="4583160" y="333540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3" name=""/>
          <p:cNvSpPr/>
          <p:nvPr/>
        </p:nvSpPr>
        <p:spPr>
          <a:xfrm>
            <a:off x="4556160" y="3019320"/>
            <a:ext cx="144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4" name=""/>
          <p:cNvSpPr/>
          <p:nvPr/>
        </p:nvSpPr>
        <p:spPr>
          <a:xfrm flipH="1" flipV="1">
            <a:off x="4555800" y="3019320"/>
            <a:ext cx="810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5" name=""/>
          <p:cNvSpPr/>
          <p:nvPr/>
        </p:nvSpPr>
        <p:spPr>
          <a:xfrm>
            <a:off x="3168720" y="2235240"/>
            <a:ext cx="753840" cy="789120"/>
          </a:xfrm>
          <a:custGeom>
            <a:avLst/>
            <a:gdLst/>
            <a:ahLst/>
            <a:rect l="l" t="t" r="r" b="b"/>
            <a:pathLst>
              <a:path w="475" h="497">
                <a:moveTo>
                  <a:pt x="238" y="497"/>
                </a:moveTo>
                <a:lnTo>
                  <a:pt x="475" y="497"/>
                </a:lnTo>
                <a:lnTo>
                  <a:pt x="475" y="0"/>
                </a:lnTo>
                <a:lnTo>
                  <a:pt x="0" y="0"/>
                </a:lnTo>
                <a:lnTo>
                  <a:pt x="0" y="497"/>
                </a:lnTo>
                <a:lnTo>
                  <a:pt x="238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6" name=""/>
          <p:cNvSpPr/>
          <p:nvPr/>
        </p:nvSpPr>
        <p:spPr>
          <a:xfrm>
            <a:off x="4648320" y="35942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8" y="0"/>
                </a:moveTo>
                <a:lnTo>
                  <a:pt x="40" y="56"/>
                </a:lnTo>
                <a:lnTo>
                  <a:pt x="0" y="56"/>
                </a:lnTo>
                <a:lnTo>
                  <a:pt x="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7" name=""/>
          <p:cNvSpPr/>
          <p:nvPr/>
        </p:nvSpPr>
        <p:spPr>
          <a:xfrm>
            <a:off x="4456080" y="359424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41" y="56"/>
                </a:moveTo>
                <a:lnTo>
                  <a:pt x="0" y="56"/>
                </a:lnTo>
                <a:lnTo>
                  <a:pt x="17" y="0"/>
                </a:lnTo>
                <a:lnTo>
                  <a:pt x="41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8" name=""/>
          <p:cNvSpPr/>
          <p:nvPr/>
        </p:nvSpPr>
        <p:spPr>
          <a:xfrm flipH="1">
            <a:off x="4408200" y="3730680"/>
            <a:ext cx="17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9" name=""/>
          <p:cNvSpPr/>
          <p:nvPr/>
        </p:nvSpPr>
        <p:spPr>
          <a:xfrm flipV="1">
            <a:off x="4768920" y="3730320"/>
            <a:ext cx="14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0" name=""/>
          <p:cNvSpPr/>
          <p:nvPr/>
        </p:nvSpPr>
        <p:spPr>
          <a:xfrm flipH="1">
            <a:off x="4583160" y="373068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1" name=""/>
          <p:cNvSpPr/>
          <p:nvPr/>
        </p:nvSpPr>
        <p:spPr>
          <a:xfrm>
            <a:off x="4900680" y="3830760"/>
            <a:ext cx="115920" cy="16164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2" y="0"/>
                </a:moveTo>
                <a:lnTo>
                  <a:pt x="73" y="102"/>
                </a:lnTo>
                <a:lnTo>
                  <a:pt x="0" y="102"/>
                </a:lnTo>
                <a:lnTo>
                  <a:pt x="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2" name=""/>
          <p:cNvSpPr/>
          <p:nvPr/>
        </p:nvSpPr>
        <p:spPr>
          <a:xfrm>
            <a:off x="4540320" y="3832200"/>
            <a:ext cx="115920" cy="160200"/>
          </a:xfrm>
          <a:custGeom>
            <a:avLst/>
            <a:gdLst/>
            <a:ahLst/>
            <a:rect l="l" t="t" r="r" b="b"/>
            <a:pathLst>
              <a:path w="73" h="101">
                <a:moveTo>
                  <a:pt x="30" y="0"/>
                </a:moveTo>
                <a:lnTo>
                  <a:pt x="73" y="101"/>
                </a:lnTo>
                <a:lnTo>
                  <a:pt x="0" y="101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3" name=""/>
          <p:cNvSpPr/>
          <p:nvPr/>
        </p:nvSpPr>
        <p:spPr>
          <a:xfrm>
            <a:off x="4408560" y="3730680"/>
            <a:ext cx="360360" cy="39348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0" y="248"/>
                </a:lnTo>
                <a:lnTo>
                  <a:pt x="227" y="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4" name=""/>
          <p:cNvSpPr/>
          <p:nvPr/>
        </p:nvSpPr>
        <p:spPr>
          <a:xfrm>
            <a:off x="3562200" y="4443480"/>
            <a:ext cx="360360" cy="396720"/>
          </a:xfrm>
          <a:custGeom>
            <a:avLst/>
            <a:gdLst/>
            <a:ahLst/>
            <a:rect l="l" t="t" r="r" b="b"/>
            <a:pathLst>
              <a:path w="227" h="250">
                <a:moveTo>
                  <a:pt x="227" y="250"/>
                </a:move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5" name=""/>
          <p:cNvSpPr/>
          <p:nvPr/>
        </p:nvSpPr>
        <p:spPr>
          <a:xfrm>
            <a:off x="3678120" y="4573440"/>
            <a:ext cx="114480" cy="1587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72" y="100"/>
                </a:moveTo>
                <a:lnTo>
                  <a:pt x="0" y="100"/>
                </a:lnTo>
                <a:lnTo>
                  <a:pt x="30" y="0"/>
                </a:lnTo>
                <a:lnTo>
                  <a:pt x="72" y="1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6" name=""/>
          <p:cNvSpPr/>
          <p:nvPr/>
        </p:nvSpPr>
        <p:spPr>
          <a:xfrm>
            <a:off x="3546360" y="4840200"/>
            <a:ext cx="376200" cy="390600"/>
          </a:xfrm>
          <a:custGeom>
            <a:avLst/>
            <a:gdLst/>
            <a:ahLst/>
            <a:rect l="l" t="t" r="r" b="b"/>
            <a:pathLst>
              <a:path w="237" h="246">
                <a:moveTo>
                  <a:pt x="0" y="246"/>
                </a:moveTo>
                <a:lnTo>
                  <a:pt x="237" y="246"/>
                </a:lnTo>
                <a:lnTo>
                  <a:pt x="23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7" name=""/>
          <p:cNvSpPr/>
          <p:nvPr/>
        </p:nvSpPr>
        <p:spPr>
          <a:xfrm>
            <a:off x="4768920" y="3730680"/>
            <a:ext cx="393480" cy="393480"/>
          </a:xfrm>
          <a:custGeom>
            <a:avLst/>
            <a:gdLst/>
            <a:ahLst/>
            <a:rect l="l" t="t" r="r" b="b"/>
            <a:pathLst>
              <a:path w="248" h="248">
                <a:moveTo>
                  <a:pt x="0" y="248"/>
                </a:moveTo>
                <a:lnTo>
                  <a:pt x="248" y="248"/>
                </a:lnTo>
                <a:lnTo>
                  <a:pt x="2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8" name=""/>
          <p:cNvSpPr/>
          <p:nvPr/>
        </p:nvSpPr>
        <p:spPr>
          <a:xfrm>
            <a:off x="3546360" y="3340080"/>
            <a:ext cx="376200" cy="789120"/>
          </a:xfrm>
          <a:custGeom>
            <a:avLst/>
            <a:gdLst/>
            <a:ahLst/>
            <a:rect l="l" t="t" r="r" b="b"/>
            <a:pathLst>
              <a:path w="237" h="497">
                <a:moveTo>
                  <a:pt x="10" y="497"/>
                </a:moveTo>
                <a:lnTo>
                  <a:pt x="237" y="497"/>
                </a:lnTo>
                <a:lnTo>
                  <a:pt x="23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9" name=""/>
          <p:cNvSpPr/>
          <p:nvPr/>
        </p:nvSpPr>
        <p:spPr>
          <a:xfrm>
            <a:off x="4894200" y="344808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0" y="0"/>
                </a:moveTo>
                <a:lnTo>
                  <a:pt x="73" y="102"/>
                </a:lnTo>
                <a:lnTo>
                  <a:pt x="0" y="102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0" name=""/>
          <p:cNvSpPr/>
          <p:nvPr/>
        </p:nvSpPr>
        <p:spPr>
          <a:xfrm>
            <a:off x="4768920" y="3730680"/>
            <a:ext cx="393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1" name=""/>
          <p:cNvSpPr/>
          <p:nvPr/>
        </p:nvSpPr>
        <p:spPr>
          <a:xfrm>
            <a:off x="4768920" y="3532320"/>
            <a:ext cx="14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2" name=""/>
          <p:cNvSpPr/>
          <p:nvPr/>
        </p:nvSpPr>
        <p:spPr>
          <a:xfrm>
            <a:off x="4583160" y="3532320"/>
            <a:ext cx="14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3" name=""/>
          <p:cNvSpPr/>
          <p:nvPr/>
        </p:nvSpPr>
        <p:spPr>
          <a:xfrm>
            <a:off x="4408560" y="3532320"/>
            <a:ext cx="14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4" name=""/>
          <p:cNvSpPr/>
          <p:nvPr/>
        </p:nvSpPr>
        <p:spPr>
          <a:xfrm>
            <a:off x="4768920" y="3335400"/>
            <a:ext cx="393480" cy="395280"/>
          </a:xfrm>
          <a:custGeom>
            <a:avLst/>
            <a:gdLst/>
            <a:ahLst/>
            <a:rect l="l" t="t" r="r" b="b"/>
            <a:pathLst>
              <a:path w="248" h="249">
                <a:moveTo>
                  <a:pt x="248" y="249"/>
                </a:moveTo>
                <a:lnTo>
                  <a:pt x="24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"/>
          <p:cNvSpPr/>
          <p:nvPr/>
        </p:nvSpPr>
        <p:spPr>
          <a:xfrm>
            <a:off x="3362400" y="2317680"/>
            <a:ext cx="419040" cy="630360"/>
          </a:xfrm>
          <a:custGeom>
            <a:avLst/>
            <a:gdLst/>
            <a:ahLst/>
            <a:rect l="l" t="t" r="r" b="b"/>
            <a:pathLst>
              <a:path w="264" h="397">
                <a:moveTo>
                  <a:pt x="211" y="99"/>
                </a:moveTo>
                <a:lnTo>
                  <a:pt x="214" y="152"/>
                </a:lnTo>
                <a:lnTo>
                  <a:pt x="223" y="202"/>
                </a:lnTo>
                <a:lnTo>
                  <a:pt x="237" y="251"/>
                </a:lnTo>
                <a:lnTo>
                  <a:pt x="256" y="298"/>
                </a:lnTo>
                <a:lnTo>
                  <a:pt x="264" y="313"/>
                </a:lnTo>
                <a:lnTo>
                  <a:pt x="263" y="326"/>
                </a:lnTo>
                <a:lnTo>
                  <a:pt x="254" y="336"/>
                </a:lnTo>
                <a:lnTo>
                  <a:pt x="237" y="343"/>
                </a:lnTo>
                <a:lnTo>
                  <a:pt x="211" y="346"/>
                </a:lnTo>
                <a:lnTo>
                  <a:pt x="173" y="353"/>
                </a:lnTo>
                <a:lnTo>
                  <a:pt x="128" y="364"/>
                </a:lnTo>
                <a:lnTo>
                  <a:pt x="78" y="379"/>
                </a:lnTo>
                <a:lnTo>
                  <a:pt x="21" y="397"/>
                </a:lnTo>
                <a:lnTo>
                  <a:pt x="14" y="376"/>
                </a:lnTo>
                <a:lnTo>
                  <a:pt x="13" y="353"/>
                </a:lnTo>
                <a:lnTo>
                  <a:pt x="14" y="327"/>
                </a:lnTo>
                <a:lnTo>
                  <a:pt x="21" y="298"/>
                </a:lnTo>
                <a:lnTo>
                  <a:pt x="7" y="268"/>
                </a:lnTo>
                <a:lnTo>
                  <a:pt x="0" y="239"/>
                </a:lnTo>
                <a:lnTo>
                  <a:pt x="0" y="209"/>
                </a:lnTo>
                <a:lnTo>
                  <a:pt x="7" y="178"/>
                </a:lnTo>
                <a:lnTo>
                  <a:pt x="21" y="146"/>
                </a:lnTo>
                <a:lnTo>
                  <a:pt x="30" y="112"/>
                </a:lnTo>
                <a:lnTo>
                  <a:pt x="43" y="80"/>
                </a:lnTo>
                <a:lnTo>
                  <a:pt x="63" y="50"/>
                </a:lnTo>
                <a:lnTo>
                  <a:pt x="87" y="24"/>
                </a:lnTo>
                <a:lnTo>
                  <a:pt x="116" y="0"/>
                </a:lnTo>
                <a:lnTo>
                  <a:pt x="150" y="26"/>
                </a:lnTo>
                <a:lnTo>
                  <a:pt x="176" y="51"/>
                </a:lnTo>
                <a:lnTo>
                  <a:pt x="197" y="76"/>
                </a:lnTo>
                <a:lnTo>
                  <a:pt x="211" y="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6" name=""/>
          <p:cNvSpPr/>
          <p:nvPr/>
        </p:nvSpPr>
        <p:spPr>
          <a:xfrm>
            <a:off x="3473280" y="2460600"/>
            <a:ext cx="158760" cy="31284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100" y="134"/>
                </a:moveTo>
                <a:lnTo>
                  <a:pt x="0" y="197"/>
                </a:lnTo>
                <a:lnTo>
                  <a:pt x="36" y="0"/>
                </a:lnTo>
                <a:lnTo>
                  <a:pt x="100" y="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7" name=""/>
          <p:cNvSpPr/>
          <p:nvPr/>
        </p:nvSpPr>
        <p:spPr>
          <a:xfrm>
            <a:off x="2212920" y="2327400"/>
            <a:ext cx="604800" cy="539640"/>
          </a:xfrm>
          <a:custGeom>
            <a:avLst/>
            <a:gdLst/>
            <a:ahLst/>
            <a:rect l="l" t="t" r="r" b="b"/>
            <a:pathLst>
              <a:path w="381" h="340">
                <a:moveTo>
                  <a:pt x="96" y="17"/>
                </a:moveTo>
                <a:lnTo>
                  <a:pt x="146" y="4"/>
                </a:lnTo>
                <a:lnTo>
                  <a:pt x="195" y="0"/>
                </a:lnTo>
                <a:lnTo>
                  <a:pt x="240" y="4"/>
                </a:lnTo>
                <a:lnTo>
                  <a:pt x="285" y="17"/>
                </a:lnTo>
                <a:lnTo>
                  <a:pt x="279" y="55"/>
                </a:lnTo>
                <a:lnTo>
                  <a:pt x="279" y="88"/>
                </a:lnTo>
                <a:lnTo>
                  <a:pt x="285" y="117"/>
                </a:lnTo>
                <a:lnTo>
                  <a:pt x="333" y="193"/>
                </a:lnTo>
                <a:lnTo>
                  <a:pt x="381" y="264"/>
                </a:lnTo>
                <a:lnTo>
                  <a:pt x="369" y="281"/>
                </a:lnTo>
                <a:lnTo>
                  <a:pt x="369" y="298"/>
                </a:lnTo>
                <a:lnTo>
                  <a:pt x="381" y="315"/>
                </a:lnTo>
                <a:lnTo>
                  <a:pt x="343" y="331"/>
                </a:lnTo>
                <a:lnTo>
                  <a:pt x="306" y="340"/>
                </a:lnTo>
                <a:lnTo>
                  <a:pt x="268" y="340"/>
                </a:lnTo>
                <a:lnTo>
                  <a:pt x="229" y="331"/>
                </a:lnTo>
                <a:lnTo>
                  <a:pt x="190" y="315"/>
                </a:lnTo>
                <a:lnTo>
                  <a:pt x="140" y="321"/>
                </a:lnTo>
                <a:lnTo>
                  <a:pt x="93" y="321"/>
                </a:lnTo>
                <a:lnTo>
                  <a:pt x="50" y="315"/>
                </a:lnTo>
                <a:lnTo>
                  <a:pt x="45" y="295"/>
                </a:lnTo>
                <a:lnTo>
                  <a:pt x="35" y="281"/>
                </a:lnTo>
                <a:lnTo>
                  <a:pt x="19" y="271"/>
                </a:lnTo>
                <a:lnTo>
                  <a:pt x="0" y="268"/>
                </a:lnTo>
                <a:lnTo>
                  <a:pt x="33" y="251"/>
                </a:lnTo>
                <a:lnTo>
                  <a:pt x="59" y="231"/>
                </a:lnTo>
                <a:lnTo>
                  <a:pt x="77" y="206"/>
                </a:lnTo>
                <a:lnTo>
                  <a:pt x="90" y="179"/>
                </a:lnTo>
                <a:lnTo>
                  <a:pt x="96" y="150"/>
                </a:lnTo>
                <a:lnTo>
                  <a:pt x="96" y="117"/>
                </a:lnTo>
                <a:lnTo>
                  <a:pt x="93" y="90"/>
                </a:lnTo>
                <a:lnTo>
                  <a:pt x="93" y="55"/>
                </a:lnTo>
                <a:lnTo>
                  <a:pt x="96" y="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8" name=""/>
          <p:cNvSpPr/>
          <p:nvPr/>
        </p:nvSpPr>
        <p:spPr>
          <a:xfrm>
            <a:off x="2387520" y="2508120"/>
            <a:ext cx="243000" cy="274680"/>
          </a:xfrm>
          <a:custGeom>
            <a:avLst/>
            <a:gdLst/>
            <a:ahLst/>
            <a:rect l="l" t="t" r="r" b="b"/>
            <a:pathLst>
              <a:path w="153" h="173">
                <a:moveTo>
                  <a:pt x="153" y="19"/>
                </a:moveTo>
                <a:lnTo>
                  <a:pt x="105" y="173"/>
                </a:lnTo>
                <a:lnTo>
                  <a:pt x="0" y="0"/>
                </a:lnTo>
                <a:lnTo>
                  <a:pt x="153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9" name=""/>
          <p:cNvSpPr/>
          <p:nvPr/>
        </p:nvSpPr>
        <p:spPr>
          <a:xfrm>
            <a:off x="2138400" y="2235240"/>
            <a:ext cx="754200" cy="789120"/>
          </a:xfrm>
          <a:custGeom>
            <a:avLst/>
            <a:gdLst/>
            <a:ahLst/>
            <a:rect l="l" t="t" r="r" b="b"/>
            <a:pathLst>
              <a:path w="475" h="497">
                <a:moveTo>
                  <a:pt x="475" y="497"/>
                </a:moveTo>
                <a:lnTo>
                  <a:pt x="475" y="0"/>
                </a:lnTo>
                <a:lnTo>
                  <a:pt x="0" y="0"/>
                </a:lnTo>
                <a:lnTo>
                  <a:pt x="0" y="497"/>
                </a:lnTo>
                <a:lnTo>
                  <a:pt x="392" y="497"/>
                </a:lnTo>
                <a:lnTo>
                  <a:pt x="475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2685960" y="3259080"/>
            <a:ext cx="7488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1" name=""/>
          <p:cNvSpPr/>
          <p:nvPr/>
        </p:nvSpPr>
        <p:spPr>
          <a:xfrm flipH="1">
            <a:off x="2760480" y="3259080"/>
            <a:ext cx="7596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2" name=""/>
          <p:cNvSpPr/>
          <p:nvPr/>
        </p:nvSpPr>
        <p:spPr>
          <a:xfrm flipV="1">
            <a:off x="2760840" y="302400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3" name=""/>
          <p:cNvSpPr/>
          <p:nvPr/>
        </p:nvSpPr>
        <p:spPr>
          <a:xfrm flipV="1">
            <a:off x="3546360" y="3258720"/>
            <a:ext cx="763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4" name=""/>
          <p:cNvSpPr/>
          <p:nvPr/>
        </p:nvSpPr>
        <p:spPr>
          <a:xfrm flipH="1" flipV="1">
            <a:off x="3470040" y="3258720"/>
            <a:ext cx="75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5" name=""/>
          <p:cNvSpPr/>
          <p:nvPr/>
        </p:nvSpPr>
        <p:spPr>
          <a:xfrm>
            <a:off x="3168720" y="3340080"/>
            <a:ext cx="393480" cy="789120"/>
          </a:xfrm>
          <a:custGeom>
            <a:avLst/>
            <a:gdLst/>
            <a:ahLst/>
            <a:rect l="l" t="t" r="r" b="b"/>
            <a:pathLst>
              <a:path w="248" h="497">
                <a:moveTo>
                  <a:pt x="238" y="0"/>
                </a:moveTo>
                <a:lnTo>
                  <a:pt x="0" y="0"/>
                </a:lnTo>
                <a:lnTo>
                  <a:pt x="0" y="497"/>
                </a:lnTo>
                <a:lnTo>
                  <a:pt x="248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6" name=""/>
          <p:cNvSpPr/>
          <p:nvPr/>
        </p:nvSpPr>
        <p:spPr>
          <a:xfrm>
            <a:off x="3546360" y="3024360"/>
            <a:ext cx="180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7" name=""/>
          <p:cNvSpPr/>
          <p:nvPr/>
        </p:nvSpPr>
        <p:spPr>
          <a:xfrm>
            <a:off x="1309680" y="2324160"/>
            <a:ext cx="536760" cy="631800"/>
          </a:xfrm>
          <a:custGeom>
            <a:avLst/>
            <a:gdLst/>
            <a:ahLst/>
            <a:rect l="l" t="t" r="r" b="b"/>
            <a:pathLst>
              <a:path w="338" h="398">
                <a:moveTo>
                  <a:pt x="285" y="200"/>
                </a:moveTo>
                <a:lnTo>
                  <a:pt x="308" y="220"/>
                </a:lnTo>
                <a:lnTo>
                  <a:pt x="325" y="238"/>
                </a:lnTo>
                <a:lnTo>
                  <a:pt x="335" y="254"/>
                </a:lnTo>
                <a:lnTo>
                  <a:pt x="338" y="267"/>
                </a:lnTo>
                <a:lnTo>
                  <a:pt x="335" y="279"/>
                </a:lnTo>
                <a:lnTo>
                  <a:pt x="325" y="287"/>
                </a:lnTo>
                <a:lnTo>
                  <a:pt x="308" y="294"/>
                </a:lnTo>
                <a:lnTo>
                  <a:pt x="285" y="299"/>
                </a:lnTo>
                <a:lnTo>
                  <a:pt x="258" y="337"/>
                </a:lnTo>
                <a:lnTo>
                  <a:pt x="225" y="370"/>
                </a:lnTo>
                <a:lnTo>
                  <a:pt x="190" y="398"/>
                </a:lnTo>
                <a:lnTo>
                  <a:pt x="156" y="379"/>
                </a:lnTo>
                <a:lnTo>
                  <a:pt x="130" y="356"/>
                </a:lnTo>
                <a:lnTo>
                  <a:pt x="109" y="329"/>
                </a:lnTo>
                <a:lnTo>
                  <a:pt x="95" y="299"/>
                </a:lnTo>
                <a:lnTo>
                  <a:pt x="70" y="299"/>
                </a:lnTo>
                <a:lnTo>
                  <a:pt x="50" y="293"/>
                </a:lnTo>
                <a:lnTo>
                  <a:pt x="33" y="280"/>
                </a:lnTo>
                <a:lnTo>
                  <a:pt x="19" y="260"/>
                </a:lnTo>
                <a:lnTo>
                  <a:pt x="7" y="233"/>
                </a:lnTo>
                <a:lnTo>
                  <a:pt x="0" y="200"/>
                </a:lnTo>
                <a:lnTo>
                  <a:pt x="27" y="171"/>
                </a:lnTo>
                <a:lnTo>
                  <a:pt x="59" y="138"/>
                </a:lnTo>
                <a:lnTo>
                  <a:pt x="95" y="101"/>
                </a:lnTo>
                <a:lnTo>
                  <a:pt x="105" y="72"/>
                </a:lnTo>
                <a:lnTo>
                  <a:pt x="117" y="47"/>
                </a:lnTo>
                <a:lnTo>
                  <a:pt x="137" y="29"/>
                </a:lnTo>
                <a:lnTo>
                  <a:pt x="160" y="13"/>
                </a:lnTo>
                <a:lnTo>
                  <a:pt x="190" y="0"/>
                </a:lnTo>
                <a:lnTo>
                  <a:pt x="222" y="6"/>
                </a:lnTo>
                <a:lnTo>
                  <a:pt x="248" y="14"/>
                </a:lnTo>
                <a:lnTo>
                  <a:pt x="269" y="29"/>
                </a:lnTo>
                <a:lnTo>
                  <a:pt x="285" y="47"/>
                </a:lnTo>
                <a:lnTo>
                  <a:pt x="282" y="93"/>
                </a:lnTo>
                <a:lnTo>
                  <a:pt x="282" y="144"/>
                </a:lnTo>
                <a:lnTo>
                  <a:pt x="285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8" name=""/>
          <p:cNvSpPr/>
          <p:nvPr/>
        </p:nvSpPr>
        <p:spPr>
          <a:xfrm flipH="1">
            <a:off x="1687320" y="3259080"/>
            <a:ext cx="75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9" name=""/>
          <p:cNvSpPr/>
          <p:nvPr/>
        </p:nvSpPr>
        <p:spPr>
          <a:xfrm flipH="1" flipV="1">
            <a:off x="1611360" y="3258720"/>
            <a:ext cx="763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0" name=""/>
          <p:cNvSpPr/>
          <p:nvPr/>
        </p:nvSpPr>
        <p:spPr>
          <a:xfrm>
            <a:off x="1684440" y="3340080"/>
            <a:ext cx="301680" cy="789120"/>
          </a:xfrm>
          <a:custGeom>
            <a:avLst/>
            <a:gdLst/>
            <a:ahLst/>
            <a:rect l="l" t="t" r="r" b="b"/>
            <a:pathLst>
              <a:path w="190" h="497">
                <a:moveTo>
                  <a:pt x="0" y="497"/>
                </a:moveTo>
                <a:lnTo>
                  <a:pt x="190" y="497"/>
                </a:lnTo>
                <a:lnTo>
                  <a:pt x="190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1" name=""/>
          <p:cNvSpPr/>
          <p:nvPr/>
        </p:nvSpPr>
        <p:spPr>
          <a:xfrm>
            <a:off x="1233360" y="2235240"/>
            <a:ext cx="752760" cy="789120"/>
          </a:xfrm>
          <a:custGeom>
            <a:avLst/>
            <a:gdLst/>
            <a:ahLst/>
            <a:rect l="l" t="t" r="r" b="b"/>
            <a:pathLst>
              <a:path w="474" h="497">
                <a:moveTo>
                  <a:pt x="286" y="497"/>
                </a:moveTo>
                <a:lnTo>
                  <a:pt x="474" y="497"/>
                </a:lnTo>
                <a:lnTo>
                  <a:pt x="474" y="0"/>
                </a:lnTo>
                <a:lnTo>
                  <a:pt x="0" y="0"/>
                </a:lnTo>
                <a:lnTo>
                  <a:pt x="0" y="497"/>
                </a:lnTo>
                <a:lnTo>
                  <a:pt x="286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2" name=""/>
          <p:cNvSpPr/>
          <p:nvPr/>
        </p:nvSpPr>
        <p:spPr>
          <a:xfrm>
            <a:off x="1687680" y="3024360"/>
            <a:ext cx="144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3" name=""/>
          <p:cNvSpPr/>
          <p:nvPr/>
        </p:nvSpPr>
        <p:spPr>
          <a:xfrm>
            <a:off x="1233360" y="3340080"/>
            <a:ext cx="454320" cy="789120"/>
          </a:xfrm>
          <a:custGeom>
            <a:avLst/>
            <a:gdLst/>
            <a:ahLst/>
            <a:rect l="l" t="t" r="r" b="b"/>
            <a:pathLst>
              <a:path w="286" h="497">
                <a:moveTo>
                  <a:pt x="286" y="0"/>
                </a:moveTo>
                <a:lnTo>
                  <a:pt x="0" y="0"/>
                </a:lnTo>
                <a:lnTo>
                  <a:pt x="0" y="497"/>
                </a:lnTo>
                <a:lnTo>
                  <a:pt x="284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4" name=""/>
          <p:cNvSpPr/>
          <p:nvPr/>
        </p:nvSpPr>
        <p:spPr>
          <a:xfrm>
            <a:off x="1519200" y="2513160"/>
            <a:ext cx="122400" cy="276120"/>
          </a:xfrm>
          <a:custGeom>
            <a:avLst/>
            <a:gdLst/>
            <a:ahLst/>
            <a:rect l="l" t="t" r="r" b="b"/>
            <a:pathLst>
              <a:path w="77" h="174">
                <a:moveTo>
                  <a:pt x="77" y="0"/>
                </a:moveTo>
                <a:lnTo>
                  <a:pt x="77" y="174"/>
                </a:lnTo>
                <a:lnTo>
                  <a:pt x="0" y="39"/>
                </a:lnTo>
                <a:lnTo>
                  <a:pt x="7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5" name=""/>
          <p:cNvSpPr/>
          <p:nvPr/>
        </p:nvSpPr>
        <p:spPr>
          <a:xfrm>
            <a:off x="1419120" y="444348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>
            <a:off x="1487520" y="4491000"/>
            <a:ext cx="63360" cy="87480"/>
          </a:xfrm>
          <a:custGeom>
            <a:avLst/>
            <a:gdLst/>
            <a:ahLst/>
            <a:rect l="l" t="t" r="r" b="b"/>
            <a:pathLst>
              <a:path w="40" h="55">
                <a:moveTo>
                  <a:pt x="17" y="0"/>
                </a:moveTo>
                <a:lnTo>
                  <a:pt x="40" y="55"/>
                </a:lnTo>
                <a:lnTo>
                  <a:pt x="0" y="55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7" name=""/>
          <p:cNvSpPr/>
          <p:nvPr/>
        </p:nvSpPr>
        <p:spPr>
          <a:xfrm>
            <a:off x="1293840" y="448956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7" y="0"/>
                </a:moveTo>
                <a:lnTo>
                  <a:pt x="40" y="56"/>
                </a:lnTo>
                <a:lnTo>
                  <a:pt x="0" y="56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8" name=""/>
          <p:cNvSpPr/>
          <p:nvPr/>
        </p:nvSpPr>
        <p:spPr>
          <a:xfrm>
            <a:off x="1233360" y="4443480"/>
            <a:ext cx="752760" cy="787320"/>
          </a:xfrm>
          <a:custGeom>
            <a:avLst/>
            <a:gdLst/>
            <a:ahLst/>
            <a:rect l="l" t="t" r="r" b="b"/>
            <a:pathLst>
              <a:path w="474" h="496">
                <a:moveTo>
                  <a:pt x="284" y="0"/>
                </a:moveTo>
                <a:lnTo>
                  <a:pt x="474" y="0"/>
                </a:lnTo>
                <a:lnTo>
                  <a:pt x="474" y="250"/>
                </a:lnTo>
                <a:lnTo>
                  <a:pt x="474" y="496"/>
                </a:lnTo>
                <a:lnTo>
                  <a:pt x="237" y="496"/>
                </a:lnTo>
                <a:lnTo>
                  <a:pt x="0" y="496"/>
                </a:lnTo>
                <a:lnTo>
                  <a:pt x="0" y="250"/>
                </a:lnTo>
                <a:lnTo>
                  <a:pt x="0" y="122"/>
                </a:lnTo>
                <a:lnTo>
                  <a:pt x="0" y="0"/>
                </a:lnTo>
                <a:lnTo>
                  <a:pt x="117" y="0"/>
                </a:lnTo>
                <a:lnTo>
                  <a:pt x="237" y="0"/>
                </a:lnTo>
                <a:lnTo>
                  <a:pt x="2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9" name=""/>
          <p:cNvSpPr/>
          <p:nvPr/>
        </p:nvSpPr>
        <p:spPr>
          <a:xfrm>
            <a:off x="1298520" y="46958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7" y="0"/>
                </a:moveTo>
                <a:lnTo>
                  <a:pt x="40" y="56"/>
                </a:lnTo>
                <a:lnTo>
                  <a:pt x="0" y="56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0" name=""/>
          <p:cNvSpPr/>
          <p:nvPr/>
        </p:nvSpPr>
        <p:spPr>
          <a:xfrm>
            <a:off x="1484280" y="4695840"/>
            <a:ext cx="6660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17" y="0"/>
                </a:moveTo>
                <a:lnTo>
                  <a:pt x="42" y="56"/>
                </a:lnTo>
                <a:lnTo>
                  <a:pt x="0" y="56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1" name=""/>
          <p:cNvSpPr/>
          <p:nvPr/>
        </p:nvSpPr>
        <p:spPr>
          <a:xfrm>
            <a:off x="1419120" y="4637160"/>
            <a:ext cx="18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2" name=""/>
          <p:cNvSpPr/>
          <p:nvPr/>
        </p:nvSpPr>
        <p:spPr>
          <a:xfrm flipH="1">
            <a:off x="1233360" y="4840200"/>
            <a:ext cx="185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3" name=""/>
          <p:cNvSpPr/>
          <p:nvPr/>
        </p:nvSpPr>
        <p:spPr>
          <a:xfrm>
            <a:off x="4408560" y="2230560"/>
            <a:ext cx="753840" cy="788760"/>
          </a:xfrm>
          <a:custGeom>
            <a:avLst/>
            <a:gdLst/>
            <a:ahLst/>
            <a:rect l="l" t="t" r="r" b="b"/>
            <a:pathLst>
              <a:path w="475" h="497">
                <a:moveTo>
                  <a:pt x="475" y="0"/>
                </a:moveTo>
                <a:lnTo>
                  <a:pt x="0" y="0"/>
                </a:lnTo>
                <a:lnTo>
                  <a:pt x="0" y="497"/>
                </a:lnTo>
                <a:lnTo>
                  <a:pt x="93" y="497"/>
                </a:lnTo>
                <a:lnTo>
                  <a:pt x="475" y="497"/>
                </a:lnTo>
                <a:lnTo>
                  <a:pt x="4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4" name=""/>
          <p:cNvSpPr/>
          <p:nvPr/>
        </p:nvSpPr>
        <p:spPr>
          <a:xfrm>
            <a:off x="1366920" y="494496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0" y="102"/>
                </a:moveTo>
                <a:lnTo>
                  <a:pt x="30" y="0"/>
                </a:lnTo>
                <a:lnTo>
                  <a:pt x="73" y="102"/>
                </a:lnTo>
                <a:lnTo>
                  <a:pt x="0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5" name=""/>
          <p:cNvSpPr/>
          <p:nvPr/>
        </p:nvSpPr>
        <p:spPr>
          <a:xfrm>
            <a:off x="2206800" y="4502160"/>
            <a:ext cx="6480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17" y="0"/>
                </a:moveTo>
                <a:lnTo>
                  <a:pt x="41" y="56"/>
                </a:lnTo>
                <a:lnTo>
                  <a:pt x="0" y="56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6" name=""/>
          <p:cNvSpPr/>
          <p:nvPr/>
        </p:nvSpPr>
        <p:spPr>
          <a:xfrm>
            <a:off x="2138400" y="4443480"/>
            <a:ext cx="750960" cy="787320"/>
          </a:xfrm>
          <a:custGeom>
            <a:avLst/>
            <a:gdLst/>
            <a:ahLst/>
            <a:rect l="l" t="t" r="r" b="b"/>
            <a:pathLst>
              <a:path w="473" h="496">
                <a:moveTo>
                  <a:pt x="0" y="130"/>
                </a:moveTo>
                <a:lnTo>
                  <a:pt x="0" y="250"/>
                </a:lnTo>
                <a:lnTo>
                  <a:pt x="0" y="496"/>
                </a:lnTo>
                <a:lnTo>
                  <a:pt x="237" y="496"/>
                </a:lnTo>
                <a:lnTo>
                  <a:pt x="473" y="496"/>
                </a:lnTo>
                <a:lnTo>
                  <a:pt x="473" y="250"/>
                </a:lnTo>
                <a:lnTo>
                  <a:pt x="473" y="0"/>
                </a:lnTo>
                <a:lnTo>
                  <a:pt x="237" y="0"/>
                </a:lnTo>
                <a:lnTo>
                  <a:pt x="122" y="0"/>
                </a:lnTo>
                <a:lnTo>
                  <a:pt x="0" y="0"/>
                </a:lnTo>
                <a:lnTo>
                  <a:pt x="0" y="1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7" name=""/>
          <p:cNvSpPr/>
          <p:nvPr/>
        </p:nvSpPr>
        <p:spPr>
          <a:xfrm>
            <a:off x="2208240" y="47102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8" y="0"/>
                </a:moveTo>
                <a:lnTo>
                  <a:pt x="40" y="56"/>
                </a:lnTo>
                <a:lnTo>
                  <a:pt x="0" y="56"/>
                </a:lnTo>
                <a:lnTo>
                  <a:pt x="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"/>
          <p:cNvSpPr/>
          <p:nvPr/>
        </p:nvSpPr>
        <p:spPr>
          <a:xfrm>
            <a:off x="1736640" y="457344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73" y="100"/>
                </a:moveTo>
                <a:lnTo>
                  <a:pt x="0" y="100"/>
                </a:lnTo>
                <a:lnTo>
                  <a:pt x="30" y="0"/>
                </a:lnTo>
                <a:lnTo>
                  <a:pt x="73" y="1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9" name=""/>
          <p:cNvSpPr/>
          <p:nvPr/>
        </p:nvSpPr>
        <p:spPr>
          <a:xfrm>
            <a:off x="1609560" y="4637160"/>
            <a:ext cx="18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0" name=""/>
          <p:cNvSpPr/>
          <p:nvPr/>
        </p:nvSpPr>
        <p:spPr>
          <a:xfrm>
            <a:off x="1609560" y="444348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1" name=""/>
          <p:cNvSpPr/>
          <p:nvPr/>
        </p:nvSpPr>
        <p:spPr>
          <a:xfrm>
            <a:off x="1731960" y="494496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2" y="0"/>
                </a:moveTo>
                <a:lnTo>
                  <a:pt x="73" y="102"/>
                </a:lnTo>
                <a:lnTo>
                  <a:pt x="0" y="102"/>
                </a:lnTo>
                <a:lnTo>
                  <a:pt x="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2" name=""/>
          <p:cNvSpPr/>
          <p:nvPr/>
        </p:nvSpPr>
        <p:spPr>
          <a:xfrm flipH="1">
            <a:off x="1609560" y="4840200"/>
            <a:ext cx="37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3" name=""/>
          <p:cNvSpPr/>
          <p:nvPr/>
        </p:nvSpPr>
        <p:spPr>
          <a:xfrm>
            <a:off x="1609560" y="484020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4" name=""/>
          <p:cNvSpPr/>
          <p:nvPr/>
        </p:nvSpPr>
        <p:spPr>
          <a:xfrm>
            <a:off x="1503360" y="3543480"/>
            <a:ext cx="223920" cy="312480"/>
          </a:xfrm>
          <a:custGeom>
            <a:avLst/>
            <a:gdLst/>
            <a:ahLst/>
            <a:rect l="l" t="t" r="r" b="b"/>
            <a:pathLst>
              <a:path w="141" h="197">
                <a:moveTo>
                  <a:pt x="0" y="197"/>
                </a:moveTo>
                <a:lnTo>
                  <a:pt x="58" y="0"/>
                </a:lnTo>
                <a:lnTo>
                  <a:pt x="141" y="197"/>
                </a:lnTo>
                <a:lnTo>
                  <a:pt x="0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5" name=""/>
          <p:cNvSpPr/>
          <p:nvPr/>
        </p:nvSpPr>
        <p:spPr>
          <a:xfrm>
            <a:off x="1609560" y="4361040"/>
            <a:ext cx="7488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6" name=""/>
          <p:cNvSpPr/>
          <p:nvPr/>
        </p:nvSpPr>
        <p:spPr>
          <a:xfrm flipH="1">
            <a:off x="1418760" y="484020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7" name=""/>
          <p:cNvSpPr/>
          <p:nvPr/>
        </p:nvSpPr>
        <p:spPr>
          <a:xfrm flipH="1">
            <a:off x="1418760" y="463716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8" name=""/>
          <p:cNvSpPr/>
          <p:nvPr/>
        </p:nvSpPr>
        <p:spPr>
          <a:xfrm flipH="1">
            <a:off x="1684440" y="4361040"/>
            <a:ext cx="79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1684440" y="412884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0" name=""/>
          <p:cNvSpPr/>
          <p:nvPr/>
        </p:nvSpPr>
        <p:spPr>
          <a:xfrm>
            <a:off x="3432240" y="3541680"/>
            <a:ext cx="225360" cy="311040"/>
          </a:xfrm>
          <a:custGeom>
            <a:avLst/>
            <a:gdLst/>
            <a:ahLst/>
            <a:rect l="l" t="t" r="r" b="b"/>
            <a:pathLst>
              <a:path w="142" h="196">
                <a:moveTo>
                  <a:pt x="0" y="196"/>
                </a:moveTo>
                <a:lnTo>
                  <a:pt x="60" y="0"/>
                </a:lnTo>
                <a:lnTo>
                  <a:pt x="142" y="196"/>
                </a:lnTo>
                <a:lnTo>
                  <a:pt x="0" y="1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1" name=""/>
          <p:cNvSpPr/>
          <p:nvPr/>
        </p:nvSpPr>
        <p:spPr>
          <a:xfrm>
            <a:off x="2138400" y="3340080"/>
            <a:ext cx="754200" cy="789120"/>
          </a:xfrm>
          <a:custGeom>
            <a:avLst/>
            <a:gdLst/>
            <a:ahLst/>
            <a:rect l="l" t="t" r="r" b="b"/>
            <a:pathLst>
              <a:path w="475" h="497">
                <a:moveTo>
                  <a:pt x="475" y="497"/>
                </a:moveTo>
                <a:lnTo>
                  <a:pt x="475" y="0"/>
                </a:lnTo>
                <a:lnTo>
                  <a:pt x="0" y="0"/>
                </a:lnTo>
                <a:lnTo>
                  <a:pt x="0" y="497"/>
                </a:lnTo>
                <a:lnTo>
                  <a:pt x="390" y="497"/>
                </a:lnTo>
                <a:lnTo>
                  <a:pt x="475" y="4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2" name=""/>
          <p:cNvSpPr/>
          <p:nvPr/>
        </p:nvSpPr>
        <p:spPr>
          <a:xfrm>
            <a:off x="2395440" y="3541680"/>
            <a:ext cx="223920" cy="311040"/>
          </a:xfrm>
          <a:custGeom>
            <a:avLst/>
            <a:gdLst/>
            <a:ahLst/>
            <a:rect l="l" t="t" r="r" b="b"/>
            <a:pathLst>
              <a:path w="141" h="196">
                <a:moveTo>
                  <a:pt x="0" y="196"/>
                </a:moveTo>
                <a:lnTo>
                  <a:pt x="58" y="0"/>
                </a:lnTo>
                <a:lnTo>
                  <a:pt x="141" y="196"/>
                </a:lnTo>
                <a:lnTo>
                  <a:pt x="0" y="1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3" name=""/>
          <p:cNvSpPr/>
          <p:nvPr/>
        </p:nvSpPr>
        <p:spPr>
          <a:xfrm>
            <a:off x="2639880" y="457344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0" y="0"/>
                </a:moveTo>
                <a:lnTo>
                  <a:pt x="73" y="100"/>
                </a:lnTo>
                <a:lnTo>
                  <a:pt x="0" y="100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4" name=""/>
          <p:cNvSpPr/>
          <p:nvPr/>
        </p:nvSpPr>
        <p:spPr>
          <a:xfrm>
            <a:off x="2400480" y="450540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40" y="56"/>
                </a:moveTo>
                <a:lnTo>
                  <a:pt x="0" y="56"/>
                </a:lnTo>
                <a:lnTo>
                  <a:pt x="17" y="0"/>
                </a:lnTo>
                <a:lnTo>
                  <a:pt x="40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"/>
          <p:cNvSpPr/>
          <p:nvPr/>
        </p:nvSpPr>
        <p:spPr>
          <a:xfrm>
            <a:off x="2332080" y="464976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2397240" y="4710240"/>
            <a:ext cx="6660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42" y="56"/>
                </a:moveTo>
                <a:lnTo>
                  <a:pt x="0" y="56"/>
                </a:lnTo>
                <a:lnTo>
                  <a:pt x="17" y="0"/>
                </a:lnTo>
                <a:lnTo>
                  <a:pt x="42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7" name=""/>
          <p:cNvSpPr/>
          <p:nvPr/>
        </p:nvSpPr>
        <p:spPr>
          <a:xfrm>
            <a:off x="2514600" y="464976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8" name=""/>
          <p:cNvSpPr/>
          <p:nvPr/>
        </p:nvSpPr>
        <p:spPr>
          <a:xfrm>
            <a:off x="2514600" y="4443480"/>
            <a:ext cx="14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9" name=""/>
          <p:cNvSpPr/>
          <p:nvPr/>
        </p:nvSpPr>
        <p:spPr>
          <a:xfrm flipV="1">
            <a:off x="2332080" y="4443120"/>
            <a:ext cx="14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0" name=""/>
          <p:cNvSpPr/>
          <p:nvPr/>
        </p:nvSpPr>
        <p:spPr>
          <a:xfrm flipH="1">
            <a:off x="2331720" y="4840200"/>
            <a:ext cx="182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1" name=""/>
          <p:cNvSpPr/>
          <p:nvPr/>
        </p:nvSpPr>
        <p:spPr>
          <a:xfrm>
            <a:off x="2332080" y="4649760"/>
            <a:ext cx="182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2" name=""/>
          <p:cNvSpPr/>
          <p:nvPr/>
        </p:nvSpPr>
        <p:spPr>
          <a:xfrm>
            <a:off x="2270160" y="494496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0" y="0"/>
                </a:moveTo>
                <a:lnTo>
                  <a:pt x="73" y="102"/>
                </a:lnTo>
                <a:lnTo>
                  <a:pt x="0" y="102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3" name=""/>
          <p:cNvSpPr/>
          <p:nvPr/>
        </p:nvSpPr>
        <p:spPr>
          <a:xfrm>
            <a:off x="2635200" y="494496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0" y="102"/>
                </a:moveTo>
                <a:lnTo>
                  <a:pt x="32" y="0"/>
                </a:lnTo>
                <a:lnTo>
                  <a:pt x="73" y="102"/>
                </a:lnTo>
                <a:lnTo>
                  <a:pt x="0" y="1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4" name=""/>
          <p:cNvSpPr/>
          <p:nvPr/>
        </p:nvSpPr>
        <p:spPr>
          <a:xfrm>
            <a:off x="2514600" y="4840200"/>
            <a:ext cx="14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5" name=""/>
          <p:cNvSpPr/>
          <p:nvPr/>
        </p:nvSpPr>
        <p:spPr>
          <a:xfrm flipH="1">
            <a:off x="2514240" y="4840200"/>
            <a:ext cx="374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6" name=""/>
          <p:cNvSpPr/>
          <p:nvPr/>
        </p:nvSpPr>
        <p:spPr>
          <a:xfrm>
            <a:off x="3430440" y="4505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lnTo>
                  <a:pt x="17" y="0"/>
                </a:lnTo>
                <a:lnTo>
                  <a:pt x="40" y="56"/>
                </a:lnTo>
                <a:lnTo>
                  <a:pt x="0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7" name=""/>
          <p:cNvSpPr/>
          <p:nvPr/>
        </p:nvSpPr>
        <p:spPr>
          <a:xfrm>
            <a:off x="3430440" y="47102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15" y="0"/>
                </a:moveTo>
                <a:lnTo>
                  <a:pt x="40" y="56"/>
                </a:lnTo>
                <a:lnTo>
                  <a:pt x="0" y="56"/>
                </a:lnTo>
                <a:lnTo>
                  <a:pt x="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8" name=""/>
          <p:cNvSpPr/>
          <p:nvPr/>
        </p:nvSpPr>
        <p:spPr>
          <a:xfrm>
            <a:off x="3546360" y="464976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9" name=""/>
          <p:cNvSpPr/>
          <p:nvPr/>
        </p:nvSpPr>
        <p:spPr>
          <a:xfrm flipH="1">
            <a:off x="3546360" y="4443480"/>
            <a:ext cx="1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0" name=""/>
          <p:cNvSpPr/>
          <p:nvPr/>
        </p:nvSpPr>
        <p:spPr>
          <a:xfrm>
            <a:off x="3546360" y="4443480"/>
            <a:ext cx="180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1" name=""/>
          <p:cNvSpPr/>
          <p:nvPr/>
        </p:nvSpPr>
        <p:spPr>
          <a:xfrm>
            <a:off x="3236760" y="4502160"/>
            <a:ext cx="6696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17" y="0"/>
                </a:moveTo>
                <a:lnTo>
                  <a:pt x="42" y="56"/>
                </a:lnTo>
                <a:lnTo>
                  <a:pt x="0" y="56"/>
                </a:lnTo>
                <a:lnTo>
                  <a:pt x="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2" name=""/>
          <p:cNvSpPr/>
          <p:nvPr/>
        </p:nvSpPr>
        <p:spPr>
          <a:xfrm>
            <a:off x="3168720" y="464976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3" name=""/>
          <p:cNvSpPr/>
          <p:nvPr/>
        </p:nvSpPr>
        <p:spPr>
          <a:xfrm>
            <a:off x="3236760" y="47102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40" y="56"/>
                </a:moveTo>
                <a:lnTo>
                  <a:pt x="0" y="56"/>
                </a:lnTo>
                <a:lnTo>
                  <a:pt x="17" y="0"/>
                </a:lnTo>
                <a:lnTo>
                  <a:pt x="40" y="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4" name=""/>
          <p:cNvSpPr/>
          <p:nvPr/>
        </p:nvSpPr>
        <p:spPr>
          <a:xfrm flipV="1">
            <a:off x="3362400" y="464940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5" name=""/>
          <p:cNvSpPr/>
          <p:nvPr/>
        </p:nvSpPr>
        <p:spPr>
          <a:xfrm>
            <a:off x="3168720" y="4649760"/>
            <a:ext cx="19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6" name=""/>
          <p:cNvSpPr/>
          <p:nvPr/>
        </p:nvSpPr>
        <p:spPr>
          <a:xfrm flipV="1">
            <a:off x="3362400" y="4443120"/>
            <a:ext cx="14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7" name=""/>
          <p:cNvSpPr/>
          <p:nvPr/>
        </p:nvSpPr>
        <p:spPr>
          <a:xfrm flipH="1">
            <a:off x="3168720" y="4840200"/>
            <a:ext cx="193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8" name=""/>
          <p:cNvSpPr/>
          <p:nvPr/>
        </p:nvSpPr>
        <p:spPr>
          <a:xfrm>
            <a:off x="3168720" y="4443480"/>
            <a:ext cx="193680" cy="20628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122" y="0"/>
                </a:moveTo>
                <a:lnTo>
                  <a:pt x="0" y="0"/>
                </a:lnTo>
                <a:lnTo>
                  <a:pt x="0" y="1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9" name=""/>
          <p:cNvSpPr/>
          <p:nvPr/>
        </p:nvSpPr>
        <p:spPr>
          <a:xfrm>
            <a:off x="3306600" y="4944960"/>
            <a:ext cx="11592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0" y="0"/>
                </a:moveTo>
                <a:lnTo>
                  <a:pt x="73" y="102"/>
                </a:lnTo>
                <a:lnTo>
                  <a:pt x="0" y="102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0" name=""/>
          <p:cNvSpPr/>
          <p:nvPr/>
        </p:nvSpPr>
        <p:spPr>
          <a:xfrm>
            <a:off x="3675240" y="4944960"/>
            <a:ext cx="115560" cy="162000"/>
          </a:xfrm>
          <a:custGeom>
            <a:avLst/>
            <a:gdLst/>
            <a:ahLst/>
            <a:rect l="l" t="t" r="r" b="b"/>
            <a:pathLst>
              <a:path w="73" h="102">
                <a:moveTo>
                  <a:pt x="30" y="0"/>
                </a:moveTo>
                <a:lnTo>
                  <a:pt x="73" y="102"/>
                </a:lnTo>
                <a:lnTo>
                  <a:pt x="0" y="102"/>
                </a:lnTo>
                <a:lnTo>
                  <a:pt x="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>
            <a:off x="3546360" y="4840200"/>
            <a:ext cx="18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2" name=""/>
          <p:cNvSpPr/>
          <p:nvPr/>
        </p:nvSpPr>
        <p:spPr>
          <a:xfrm flipH="1">
            <a:off x="3362040" y="4840200"/>
            <a:ext cx="183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3" name=""/>
          <p:cNvSpPr/>
          <p:nvPr/>
        </p:nvSpPr>
        <p:spPr>
          <a:xfrm>
            <a:off x="3362400" y="4649760"/>
            <a:ext cx="18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4" name=""/>
          <p:cNvSpPr/>
          <p:nvPr/>
        </p:nvSpPr>
        <p:spPr>
          <a:xfrm flipH="1">
            <a:off x="3362040" y="4443480"/>
            <a:ext cx="18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5" name=""/>
          <p:cNvSpPr/>
          <p:nvPr/>
        </p:nvSpPr>
        <p:spPr>
          <a:xfrm>
            <a:off x="3168720" y="4840200"/>
            <a:ext cx="377640" cy="390600"/>
          </a:xfrm>
          <a:custGeom>
            <a:avLst/>
            <a:gdLst/>
            <a:ahLst/>
            <a:rect l="l" t="t" r="r" b="b"/>
            <a:pathLst>
              <a:path w="238" h="246">
                <a:moveTo>
                  <a:pt x="0" y="0"/>
                </a:moveTo>
                <a:lnTo>
                  <a:pt x="0" y="246"/>
                </a:lnTo>
                <a:lnTo>
                  <a:pt x="238" y="2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6" name=""/>
          <p:cNvSpPr/>
          <p:nvPr/>
        </p:nvSpPr>
        <p:spPr>
          <a:xfrm>
            <a:off x="2682720" y="4361040"/>
            <a:ext cx="7488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"/>
          <p:cNvSpPr/>
          <p:nvPr/>
        </p:nvSpPr>
        <p:spPr>
          <a:xfrm flipH="1">
            <a:off x="2757600" y="4361040"/>
            <a:ext cx="777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8" name=""/>
          <p:cNvSpPr/>
          <p:nvPr/>
        </p:nvSpPr>
        <p:spPr>
          <a:xfrm flipV="1">
            <a:off x="2757600" y="412884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3562200" y="4128840"/>
            <a:ext cx="18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0" name=""/>
          <p:cNvSpPr/>
          <p:nvPr/>
        </p:nvSpPr>
        <p:spPr>
          <a:xfrm>
            <a:off x="3486240" y="4361040"/>
            <a:ext cx="759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1" name=""/>
          <p:cNvSpPr/>
          <p:nvPr/>
        </p:nvSpPr>
        <p:spPr>
          <a:xfrm flipV="1">
            <a:off x="3562200" y="4360680"/>
            <a:ext cx="7632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2" name=""/>
          <p:cNvSpPr/>
          <p:nvPr/>
        </p:nvSpPr>
        <p:spPr>
          <a:xfrm>
            <a:off x="2138400" y="4649760"/>
            <a:ext cx="19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3" name=""/>
          <p:cNvSpPr/>
          <p:nvPr/>
        </p:nvSpPr>
        <p:spPr>
          <a:xfrm flipH="1">
            <a:off x="2138400" y="4840200"/>
            <a:ext cx="193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4" name=""/>
          <p:cNvSpPr/>
          <p:nvPr/>
        </p:nvSpPr>
        <p:spPr>
          <a:xfrm flipH="1">
            <a:off x="3546000" y="484020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5" name=""/>
          <p:cNvSpPr/>
          <p:nvPr/>
        </p:nvSpPr>
        <p:spPr>
          <a:xfrm>
            <a:off x="2009880" y="3139920"/>
            <a:ext cx="91800" cy="74880"/>
          </a:xfrm>
          <a:custGeom>
            <a:avLst/>
            <a:gdLst/>
            <a:ahLst/>
            <a:rect l="l" t="t" r="r" b="b"/>
            <a:pathLst>
              <a:path w="58" h="47">
                <a:moveTo>
                  <a:pt x="18" y="47"/>
                </a:moveTo>
                <a:lnTo>
                  <a:pt x="28" y="11"/>
                </a:lnTo>
                <a:lnTo>
                  <a:pt x="28" y="9"/>
                </a:lnTo>
                <a:lnTo>
                  <a:pt x="30" y="6"/>
                </a:lnTo>
                <a:lnTo>
                  <a:pt x="30" y="7"/>
                </a:lnTo>
                <a:lnTo>
                  <a:pt x="31" y="11"/>
                </a:lnTo>
                <a:lnTo>
                  <a:pt x="41" y="47"/>
                </a:lnTo>
                <a:lnTo>
                  <a:pt x="47" y="47"/>
                </a:lnTo>
                <a:lnTo>
                  <a:pt x="58" y="0"/>
                </a:lnTo>
                <a:lnTo>
                  <a:pt x="52" y="0"/>
                </a:lnTo>
                <a:lnTo>
                  <a:pt x="45" y="30"/>
                </a:lnTo>
                <a:lnTo>
                  <a:pt x="44" y="36"/>
                </a:lnTo>
                <a:lnTo>
                  <a:pt x="42" y="42"/>
                </a:lnTo>
                <a:lnTo>
                  <a:pt x="41" y="33"/>
                </a:lnTo>
                <a:lnTo>
                  <a:pt x="40" y="24"/>
                </a:lnTo>
                <a:lnTo>
                  <a:pt x="32" y="0"/>
                </a:lnTo>
                <a:lnTo>
                  <a:pt x="25" y="0"/>
                </a:lnTo>
                <a:lnTo>
                  <a:pt x="17" y="31"/>
                </a:lnTo>
                <a:lnTo>
                  <a:pt x="17" y="34"/>
                </a:lnTo>
                <a:lnTo>
                  <a:pt x="17" y="37"/>
                </a:lnTo>
                <a:lnTo>
                  <a:pt x="15" y="42"/>
                </a:lnTo>
                <a:lnTo>
                  <a:pt x="14" y="36"/>
                </a:lnTo>
                <a:lnTo>
                  <a:pt x="14" y="31"/>
                </a:lnTo>
                <a:lnTo>
                  <a:pt x="7" y="0"/>
                </a:lnTo>
                <a:lnTo>
                  <a:pt x="0" y="0"/>
                </a:lnTo>
                <a:lnTo>
                  <a:pt x="12" y="47"/>
                </a:lnTo>
                <a:lnTo>
                  <a:pt x="18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6" name=""/>
          <p:cNvSpPr/>
          <p:nvPr/>
        </p:nvSpPr>
        <p:spPr>
          <a:xfrm>
            <a:off x="2104920" y="316080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24" y="34"/>
                </a:moveTo>
                <a:lnTo>
                  <a:pt x="30" y="34"/>
                </a:lnTo>
                <a:lnTo>
                  <a:pt x="28" y="33"/>
                </a:lnTo>
                <a:lnTo>
                  <a:pt x="28" y="30"/>
                </a:lnTo>
                <a:lnTo>
                  <a:pt x="28" y="29"/>
                </a:lnTo>
                <a:lnTo>
                  <a:pt x="28" y="24"/>
                </a:lnTo>
                <a:lnTo>
                  <a:pt x="28" y="20"/>
                </a:lnTo>
                <a:lnTo>
                  <a:pt x="28" y="13"/>
                </a:lnTo>
                <a:lnTo>
                  <a:pt x="28" y="8"/>
                </a:lnTo>
                <a:lnTo>
                  <a:pt x="28" y="7"/>
                </a:lnTo>
                <a:lnTo>
                  <a:pt x="27" y="6"/>
                </a:lnTo>
                <a:lnTo>
                  <a:pt x="25" y="3"/>
                </a:lnTo>
                <a:lnTo>
                  <a:pt x="24" y="1"/>
                </a:lnTo>
                <a:lnTo>
                  <a:pt x="23" y="0"/>
                </a:lnTo>
                <a:lnTo>
                  <a:pt x="18" y="0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5" y="3"/>
                </a:lnTo>
                <a:lnTo>
                  <a:pt x="3" y="4"/>
                </a:lnTo>
                <a:lnTo>
                  <a:pt x="1" y="7"/>
                </a:lnTo>
                <a:lnTo>
                  <a:pt x="0" y="10"/>
                </a:lnTo>
                <a:lnTo>
                  <a:pt x="5" y="11"/>
                </a:lnTo>
                <a:lnTo>
                  <a:pt x="7" y="7"/>
                </a:lnTo>
                <a:lnTo>
                  <a:pt x="8" y="6"/>
                </a:lnTo>
                <a:lnTo>
                  <a:pt x="11" y="4"/>
                </a:lnTo>
                <a:lnTo>
                  <a:pt x="14" y="4"/>
                </a:lnTo>
                <a:lnTo>
                  <a:pt x="18" y="4"/>
                </a:lnTo>
                <a:lnTo>
                  <a:pt x="21" y="6"/>
                </a:lnTo>
                <a:lnTo>
                  <a:pt x="21" y="8"/>
                </a:lnTo>
                <a:lnTo>
                  <a:pt x="23" y="11"/>
                </a:lnTo>
                <a:lnTo>
                  <a:pt x="23" y="11"/>
                </a:lnTo>
                <a:lnTo>
                  <a:pt x="23" y="13"/>
                </a:lnTo>
                <a:lnTo>
                  <a:pt x="18" y="14"/>
                </a:lnTo>
                <a:lnTo>
                  <a:pt x="13" y="14"/>
                </a:lnTo>
                <a:lnTo>
                  <a:pt x="10" y="16"/>
                </a:lnTo>
                <a:lnTo>
                  <a:pt x="7" y="16"/>
                </a:lnTo>
                <a:lnTo>
                  <a:pt x="5" y="17"/>
                </a:lnTo>
                <a:lnTo>
                  <a:pt x="4" y="17"/>
                </a:lnTo>
                <a:lnTo>
                  <a:pt x="1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30"/>
                </a:lnTo>
                <a:lnTo>
                  <a:pt x="3" y="33"/>
                </a:lnTo>
                <a:lnTo>
                  <a:pt x="5" y="34"/>
                </a:lnTo>
                <a:lnTo>
                  <a:pt x="11" y="36"/>
                </a:lnTo>
                <a:lnTo>
                  <a:pt x="14" y="34"/>
                </a:lnTo>
                <a:lnTo>
                  <a:pt x="17" y="34"/>
                </a:lnTo>
                <a:lnTo>
                  <a:pt x="20" y="33"/>
                </a:lnTo>
                <a:lnTo>
                  <a:pt x="23" y="30"/>
                </a:lnTo>
                <a:lnTo>
                  <a:pt x="23" y="33"/>
                </a:lnTo>
                <a:lnTo>
                  <a:pt x="24" y="34"/>
                </a:lnTo>
                <a:close/>
                <a:moveTo>
                  <a:pt x="23" y="20"/>
                </a:moveTo>
                <a:lnTo>
                  <a:pt x="23" y="23"/>
                </a:lnTo>
                <a:lnTo>
                  <a:pt x="21" y="26"/>
                </a:lnTo>
                <a:lnTo>
                  <a:pt x="20" y="27"/>
                </a:lnTo>
                <a:lnTo>
                  <a:pt x="18" y="29"/>
                </a:lnTo>
                <a:lnTo>
                  <a:pt x="15" y="30"/>
                </a:lnTo>
                <a:lnTo>
                  <a:pt x="13" y="30"/>
                </a:lnTo>
                <a:lnTo>
                  <a:pt x="10" y="30"/>
                </a:lnTo>
                <a:lnTo>
                  <a:pt x="7" y="29"/>
                </a:lnTo>
                <a:lnTo>
                  <a:pt x="5" y="27"/>
                </a:lnTo>
                <a:lnTo>
                  <a:pt x="5" y="26"/>
                </a:lnTo>
                <a:lnTo>
                  <a:pt x="5" y="24"/>
                </a:lnTo>
                <a:lnTo>
                  <a:pt x="5" y="23"/>
                </a:lnTo>
                <a:lnTo>
                  <a:pt x="7" y="21"/>
                </a:lnTo>
                <a:lnTo>
                  <a:pt x="8" y="21"/>
                </a:lnTo>
                <a:lnTo>
                  <a:pt x="10" y="20"/>
                </a:lnTo>
                <a:lnTo>
                  <a:pt x="13" y="20"/>
                </a:lnTo>
                <a:lnTo>
                  <a:pt x="18" y="18"/>
                </a:lnTo>
                <a:lnTo>
                  <a:pt x="23" y="17"/>
                </a:lnTo>
                <a:lnTo>
                  <a:pt x="23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7" name=""/>
          <p:cNvSpPr/>
          <p:nvPr/>
        </p:nvSpPr>
        <p:spPr>
          <a:xfrm>
            <a:off x="2163600" y="316080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4" y="34"/>
                </a:moveTo>
                <a:lnTo>
                  <a:pt x="4" y="17"/>
                </a:lnTo>
                <a:lnTo>
                  <a:pt x="6" y="13"/>
                </a:lnTo>
                <a:lnTo>
                  <a:pt x="6" y="10"/>
                </a:lnTo>
                <a:lnTo>
                  <a:pt x="7" y="8"/>
                </a:lnTo>
                <a:lnTo>
                  <a:pt x="8" y="7"/>
                </a:lnTo>
                <a:lnTo>
                  <a:pt x="10" y="6"/>
                </a:lnTo>
                <a:lnTo>
                  <a:pt x="11" y="6"/>
                </a:lnTo>
                <a:lnTo>
                  <a:pt x="13" y="6"/>
                </a:lnTo>
                <a:lnTo>
                  <a:pt x="16" y="7"/>
                </a:lnTo>
                <a:lnTo>
                  <a:pt x="17" y="1"/>
                </a:lnTo>
                <a:lnTo>
                  <a:pt x="14" y="0"/>
                </a:lnTo>
                <a:lnTo>
                  <a:pt x="11" y="0"/>
                </a:ln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lnTo>
                  <a:pt x="0" y="34"/>
                </a:lnTo>
                <a:lnTo>
                  <a:pt x="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8" name=""/>
          <p:cNvSpPr/>
          <p:nvPr/>
        </p:nvSpPr>
        <p:spPr>
          <a:xfrm>
            <a:off x="2195640" y="3160800"/>
            <a:ext cx="44280" cy="74520"/>
          </a:xfrm>
          <a:custGeom>
            <a:avLst/>
            <a:gdLst/>
            <a:ahLst/>
            <a:rect l="l" t="t" r="r" b="b"/>
            <a:pathLst>
              <a:path w="28" h="47">
                <a:moveTo>
                  <a:pt x="6" y="47"/>
                </a:moveTo>
                <a:lnTo>
                  <a:pt x="6" y="31"/>
                </a:lnTo>
                <a:lnTo>
                  <a:pt x="7" y="33"/>
                </a:lnTo>
                <a:lnTo>
                  <a:pt x="10" y="34"/>
                </a:lnTo>
                <a:lnTo>
                  <a:pt x="11" y="34"/>
                </a:lnTo>
                <a:lnTo>
                  <a:pt x="14" y="36"/>
                </a:lnTo>
                <a:lnTo>
                  <a:pt x="18" y="34"/>
                </a:lnTo>
                <a:lnTo>
                  <a:pt x="21" y="33"/>
                </a:lnTo>
                <a:lnTo>
                  <a:pt x="24" y="30"/>
                </a:lnTo>
                <a:lnTo>
                  <a:pt x="27" y="27"/>
                </a:lnTo>
                <a:lnTo>
                  <a:pt x="28" y="23"/>
                </a:lnTo>
                <a:lnTo>
                  <a:pt x="28" y="17"/>
                </a:lnTo>
                <a:lnTo>
                  <a:pt x="28" y="13"/>
                </a:lnTo>
                <a:lnTo>
                  <a:pt x="27" y="8"/>
                </a:lnTo>
                <a:lnTo>
                  <a:pt x="26" y="4"/>
                </a:lnTo>
                <a:lnTo>
                  <a:pt x="23" y="1"/>
                </a:lnTo>
                <a:lnTo>
                  <a:pt x="18" y="0"/>
                </a:lnTo>
                <a:lnTo>
                  <a:pt x="14" y="0"/>
                </a:lnTo>
                <a:lnTo>
                  <a:pt x="11" y="0"/>
                </a:lnTo>
                <a:lnTo>
                  <a:pt x="10" y="1"/>
                </a:lnTo>
                <a:lnTo>
                  <a:pt x="7" y="3"/>
                </a:lnTo>
                <a:lnTo>
                  <a:pt x="6" y="4"/>
                </a:lnTo>
                <a:lnTo>
                  <a:pt x="6" y="0"/>
                </a:lnTo>
                <a:lnTo>
                  <a:pt x="0" y="0"/>
                </a:lnTo>
                <a:lnTo>
                  <a:pt x="0" y="47"/>
                </a:lnTo>
                <a:lnTo>
                  <a:pt x="6" y="47"/>
                </a:lnTo>
                <a:close/>
                <a:moveTo>
                  <a:pt x="8" y="7"/>
                </a:moveTo>
                <a:lnTo>
                  <a:pt x="11" y="4"/>
                </a:lnTo>
                <a:lnTo>
                  <a:pt x="14" y="4"/>
                </a:lnTo>
                <a:lnTo>
                  <a:pt x="17" y="4"/>
                </a:lnTo>
                <a:lnTo>
                  <a:pt x="20" y="7"/>
                </a:lnTo>
                <a:lnTo>
                  <a:pt x="21" y="10"/>
                </a:lnTo>
                <a:lnTo>
                  <a:pt x="23" y="13"/>
                </a:lnTo>
                <a:lnTo>
                  <a:pt x="23" y="17"/>
                </a:lnTo>
                <a:lnTo>
                  <a:pt x="23" y="21"/>
                </a:lnTo>
                <a:lnTo>
                  <a:pt x="21" y="24"/>
                </a:lnTo>
                <a:lnTo>
                  <a:pt x="20" y="27"/>
                </a:lnTo>
                <a:lnTo>
                  <a:pt x="17" y="30"/>
                </a:lnTo>
                <a:lnTo>
                  <a:pt x="14" y="30"/>
                </a:lnTo>
                <a:lnTo>
                  <a:pt x="11" y="30"/>
                </a:lnTo>
                <a:lnTo>
                  <a:pt x="8" y="27"/>
                </a:lnTo>
                <a:lnTo>
                  <a:pt x="7" y="24"/>
                </a:lnTo>
                <a:lnTo>
                  <a:pt x="6" y="21"/>
                </a:lnTo>
                <a:lnTo>
                  <a:pt x="6" y="17"/>
                </a:lnTo>
                <a:lnTo>
                  <a:pt x="6" y="14"/>
                </a:lnTo>
                <a:lnTo>
                  <a:pt x="7" y="1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9" name=""/>
          <p:cNvSpPr/>
          <p:nvPr/>
        </p:nvSpPr>
        <p:spPr>
          <a:xfrm>
            <a:off x="2252520" y="3139920"/>
            <a:ext cx="7920" cy="74880"/>
          </a:xfrm>
          <a:custGeom>
            <a:avLst/>
            <a:gdLst/>
            <a:ahLst/>
            <a:rect l="l" t="t" r="r" b="b"/>
            <a:pathLst>
              <a:path w="5" h="47">
                <a:moveTo>
                  <a:pt x="5" y="7"/>
                </a:moveTo>
                <a:lnTo>
                  <a:pt x="5" y="0"/>
                </a:lnTo>
                <a:lnTo>
                  <a:pt x="0" y="0"/>
                </a:lnTo>
                <a:lnTo>
                  <a:pt x="0" y="7"/>
                </a:lnTo>
                <a:lnTo>
                  <a:pt x="5" y="7"/>
                </a:lnTo>
                <a:close/>
                <a:moveTo>
                  <a:pt x="5" y="47"/>
                </a:moveTo>
                <a:lnTo>
                  <a:pt x="5" y="13"/>
                </a:lnTo>
                <a:lnTo>
                  <a:pt x="0" y="13"/>
                </a:lnTo>
                <a:lnTo>
                  <a:pt x="0" y="47"/>
                </a:lnTo>
                <a:lnTo>
                  <a:pt x="5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0" name=""/>
          <p:cNvSpPr/>
          <p:nvPr/>
        </p:nvSpPr>
        <p:spPr>
          <a:xfrm>
            <a:off x="2274840" y="316080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6" y="34"/>
                </a:moveTo>
                <a:lnTo>
                  <a:pt x="6" y="16"/>
                </a:lnTo>
                <a:lnTo>
                  <a:pt x="6" y="11"/>
                </a:lnTo>
                <a:lnTo>
                  <a:pt x="6" y="8"/>
                </a:lnTo>
                <a:lnTo>
                  <a:pt x="7" y="7"/>
                </a:lnTo>
                <a:lnTo>
                  <a:pt x="10" y="6"/>
                </a:lnTo>
                <a:lnTo>
                  <a:pt x="14" y="4"/>
                </a:lnTo>
                <a:lnTo>
                  <a:pt x="16" y="4"/>
                </a:lnTo>
                <a:lnTo>
                  <a:pt x="17" y="6"/>
                </a:lnTo>
                <a:lnTo>
                  <a:pt x="18" y="7"/>
                </a:lnTo>
                <a:lnTo>
                  <a:pt x="20" y="8"/>
                </a:lnTo>
                <a:lnTo>
                  <a:pt x="20" y="10"/>
                </a:lnTo>
                <a:lnTo>
                  <a:pt x="20" y="14"/>
                </a:lnTo>
                <a:lnTo>
                  <a:pt x="20" y="34"/>
                </a:lnTo>
                <a:lnTo>
                  <a:pt x="26" y="34"/>
                </a:lnTo>
                <a:lnTo>
                  <a:pt x="26" y="13"/>
                </a:lnTo>
                <a:lnTo>
                  <a:pt x="26" y="10"/>
                </a:lnTo>
                <a:lnTo>
                  <a:pt x="26" y="8"/>
                </a:lnTo>
                <a:lnTo>
                  <a:pt x="26" y="6"/>
                </a:lnTo>
                <a:lnTo>
                  <a:pt x="24" y="4"/>
                </a:lnTo>
                <a:lnTo>
                  <a:pt x="23" y="1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0" y="0"/>
                </a:lnTo>
                <a:lnTo>
                  <a:pt x="7" y="1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lnTo>
                  <a:pt x="0" y="34"/>
                </a:lnTo>
                <a:lnTo>
                  <a:pt x="6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1" name=""/>
          <p:cNvSpPr/>
          <p:nvPr/>
        </p:nvSpPr>
        <p:spPr>
          <a:xfrm>
            <a:off x="2327400" y="3160800"/>
            <a:ext cx="44280" cy="77760"/>
          </a:xfrm>
          <a:custGeom>
            <a:avLst/>
            <a:gdLst/>
            <a:ahLst/>
            <a:rect l="l" t="t" r="r" b="b"/>
            <a:pathLst>
              <a:path w="28" h="49">
                <a:moveTo>
                  <a:pt x="4" y="46"/>
                </a:moveTo>
                <a:lnTo>
                  <a:pt x="8" y="47"/>
                </a:lnTo>
                <a:lnTo>
                  <a:pt x="14" y="49"/>
                </a:lnTo>
                <a:lnTo>
                  <a:pt x="18" y="49"/>
                </a:lnTo>
                <a:lnTo>
                  <a:pt x="21" y="47"/>
                </a:lnTo>
                <a:lnTo>
                  <a:pt x="24" y="44"/>
                </a:lnTo>
                <a:lnTo>
                  <a:pt x="27" y="41"/>
                </a:lnTo>
                <a:lnTo>
                  <a:pt x="27" y="39"/>
                </a:lnTo>
                <a:lnTo>
                  <a:pt x="28" y="34"/>
                </a:lnTo>
                <a:lnTo>
                  <a:pt x="28" y="30"/>
                </a:lnTo>
                <a:lnTo>
                  <a:pt x="28" y="0"/>
                </a:lnTo>
                <a:lnTo>
                  <a:pt x="23" y="0"/>
                </a:lnTo>
                <a:lnTo>
                  <a:pt x="23" y="4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0" y="0"/>
                </a:lnTo>
                <a:lnTo>
                  <a:pt x="5" y="1"/>
                </a:lnTo>
                <a:lnTo>
                  <a:pt x="3" y="4"/>
                </a:lnTo>
                <a:lnTo>
                  <a:pt x="1" y="8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1" y="26"/>
                </a:lnTo>
                <a:lnTo>
                  <a:pt x="3" y="30"/>
                </a:lnTo>
                <a:lnTo>
                  <a:pt x="5" y="33"/>
                </a:lnTo>
                <a:lnTo>
                  <a:pt x="10" y="34"/>
                </a:lnTo>
                <a:lnTo>
                  <a:pt x="14" y="34"/>
                </a:lnTo>
                <a:lnTo>
                  <a:pt x="17" y="34"/>
                </a:lnTo>
                <a:lnTo>
                  <a:pt x="20" y="33"/>
                </a:lnTo>
                <a:lnTo>
                  <a:pt x="23" y="30"/>
                </a:lnTo>
                <a:lnTo>
                  <a:pt x="23" y="34"/>
                </a:lnTo>
                <a:lnTo>
                  <a:pt x="23" y="37"/>
                </a:lnTo>
                <a:lnTo>
                  <a:pt x="21" y="40"/>
                </a:lnTo>
                <a:lnTo>
                  <a:pt x="20" y="41"/>
                </a:lnTo>
                <a:lnTo>
                  <a:pt x="17" y="43"/>
                </a:lnTo>
                <a:lnTo>
                  <a:pt x="13" y="43"/>
                </a:lnTo>
                <a:lnTo>
                  <a:pt x="10" y="43"/>
                </a:lnTo>
                <a:lnTo>
                  <a:pt x="8" y="41"/>
                </a:lnTo>
                <a:lnTo>
                  <a:pt x="7" y="40"/>
                </a:lnTo>
                <a:lnTo>
                  <a:pt x="5" y="39"/>
                </a:lnTo>
                <a:lnTo>
                  <a:pt x="0" y="37"/>
                </a:lnTo>
                <a:lnTo>
                  <a:pt x="1" y="41"/>
                </a:lnTo>
                <a:lnTo>
                  <a:pt x="3" y="43"/>
                </a:lnTo>
                <a:lnTo>
                  <a:pt x="4" y="46"/>
                </a:lnTo>
                <a:close/>
                <a:moveTo>
                  <a:pt x="7" y="7"/>
                </a:moveTo>
                <a:lnTo>
                  <a:pt x="10" y="6"/>
                </a:lnTo>
                <a:lnTo>
                  <a:pt x="14" y="4"/>
                </a:lnTo>
                <a:lnTo>
                  <a:pt x="17" y="6"/>
                </a:lnTo>
                <a:lnTo>
                  <a:pt x="20" y="7"/>
                </a:lnTo>
                <a:lnTo>
                  <a:pt x="21" y="10"/>
                </a:lnTo>
                <a:lnTo>
                  <a:pt x="23" y="13"/>
                </a:lnTo>
                <a:lnTo>
                  <a:pt x="23" y="17"/>
                </a:lnTo>
                <a:lnTo>
                  <a:pt x="23" y="21"/>
                </a:lnTo>
                <a:lnTo>
                  <a:pt x="21" y="24"/>
                </a:lnTo>
                <a:lnTo>
                  <a:pt x="20" y="27"/>
                </a:lnTo>
                <a:lnTo>
                  <a:pt x="17" y="29"/>
                </a:lnTo>
                <a:lnTo>
                  <a:pt x="14" y="30"/>
                </a:lnTo>
                <a:lnTo>
                  <a:pt x="10" y="29"/>
                </a:lnTo>
                <a:lnTo>
                  <a:pt x="7" y="27"/>
                </a:lnTo>
                <a:lnTo>
                  <a:pt x="5" y="24"/>
                </a:lnTo>
                <a:lnTo>
                  <a:pt x="5" y="21"/>
                </a:lnTo>
                <a:lnTo>
                  <a:pt x="5" y="17"/>
                </a:lnTo>
                <a:lnTo>
                  <a:pt x="5" y="13"/>
                </a:lnTo>
                <a:lnTo>
                  <a:pt x="5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2" name=""/>
          <p:cNvSpPr/>
          <p:nvPr/>
        </p:nvSpPr>
        <p:spPr>
          <a:xfrm>
            <a:off x="1920960" y="4246560"/>
            <a:ext cx="58680" cy="76320"/>
          </a:xfrm>
          <a:custGeom>
            <a:avLst/>
            <a:gdLst/>
            <a:ahLst/>
            <a:rect l="l" t="t" r="r" b="b"/>
            <a:pathLst>
              <a:path w="37" h="48">
                <a:moveTo>
                  <a:pt x="16" y="48"/>
                </a:moveTo>
                <a:lnTo>
                  <a:pt x="20" y="48"/>
                </a:lnTo>
                <a:lnTo>
                  <a:pt x="23" y="46"/>
                </a:lnTo>
                <a:lnTo>
                  <a:pt x="26" y="46"/>
                </a:lnTo>
                <a:lnTo>
                  <a:pt x="28" y="45"/>
                </a:lnTo>
                <a:lnTo>
                  <a:pt x="30" y="42"/>
                </a:lnTo>
                <a:lnTo>
                  <a:pt x="33" y="41"/>
                </a:lnTo>
                <a:lnTo>
                  <a:pt x="34" y="38"/>
                </a:lnTo>
                <a:lnTo>
                  <a:pt x="36" y="33"/>
                </a:lnTo>
                <a:lnTo>
                  <a:pt x="37" y="29"/>
                </a:lnTo>
                <a:lnTo>
                  <a:pt x="37" y="23"/>
                </a:lnTo>
                <a:lnTo>
                  <a:pt x="36" y="18"/>
                </a:lnTo>
                <a:lnTo>
                  <a:pt x="36" y="12"/>
                </a:lnTo>
                <a:lnTo>
                  <a:pt x="33" y="8"/>
                </a:lnTo>
                <a:lnTo>
                  <a:pt x="30" y="5"/>
                </a:lnTo>
                <a:lnTo>
                  <a:pt x="27" y="2"/>
                </a:lnTo>
                <a:lnTo>
                  <a:pt x="23" y="0"/>
                </a:lnTo>
                <a:lnTo>
                  <a:pt x="20" y="0"/>
                </a:lnTo>
                <a:lnTo>
                  <a:pt x="16" y="0"/>
                </a:lnTo>
                <a:lnTo>
                  <a:pt x="0" y="0"/>
                </a:lnTo>
                <a:lnTo>
                  <a:pt x="0" y="48"/>
                </a:lnTo>
                <a:lnTo>
                  <a:pt x="16" y="48"/>
                </a:lnTo>
                <a:close/>
                <a:moveTo>
                  <a:pt x="6" y="6"/>
                </a:moveTo>
                <a:lnTo>
                  <a:pt x="14" y="6"/>
                </a:lnTo>
                <a:lnTo>
                  <a:pt x="20" y="6"/>
                </a:lnTo>
                <a:lnTo>
                  <a:pt x="23" y="6"/>
                </a:lnTo>
                <a:lnTo>
                  <a:pt x="26" y="9"/>
                </a:lnTo>
                <a:lnTo>
                  <a:pt x="28" y="12"/>
                </a:lnTo>
                <a:lnTo>
                  <a:pt x="30" y="15"/>
                </a:lnTo>
                <a:lnTo>
                  <a:pt x="30" y="19"/>
                </a:lnTo>
                <a:lnTo>
                  <a:pt x="30" y="23"/>
                </a:lnTo>
                <a:lnTo>
                  <a:pt x="30" y="29"/>
                </a:lnTo>
                <a:lnTo>
                  <a:pt x="30" y="33"/>
                </a:lnTo>
                <a:lnTo>
                  <a:pt x="28" y="36"/>
                </a:lnTo>
                <a:lnTo>
                  <a:pt x="26" y="39"/>
                </a:lnTo>
                <a:lnTo>
                  <a:pt x="24" y="41"/>
                </a:lnTo>
                <a:lnTo>
                  <a:pt x="21" y="41"/>
                </a:lnTo>
                <a:lnTo>
                  <a:pt x="18" y="42"/>
                </a:lnTo>
                <a:lnTo>
                  <a:pt x="16" y="42"/>
                </a:lnTo>
                <a:lnTo>
                  <a:pt x="6" y="42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3" name=""/>
          <p:cNvSpPr/>
          <p:nvPr/>
        </p:nvSpPr>
        <p:spPr>
          <a:xfrm>
            <a:off x="1986120" y="4246560"/>
            <a:ext cx="90360" cy="76320"/>
          </a:xfrm>
          <a:custGeom>
            <a:avLst/>
            <a:gdLst/>
            <a:ahLst/>
            <a:rect l="l" t="t" r="r" b="b"/>
            <a:pathLst>
              <a:path w="57" h="48">
                <a:moveTo>
                  <a:pt x="17" y="48"/>
                </a:moveTo>
                <a:lnTo>
                  <a:pt x="27" y="12"/>
                </a:lnTo>
                <a:lnTo>
                  <a:pt x="27" y="9"/>
                </a:lnTo>
                <a:lnTo>
                  <a:pt x="29" y="6"/>
                </a:lnTo>
                <a:lnTo>
                  <a:pt x="29" y="8"/>
                </a:lnTo>
                <a:lnTo>
                  <a:pt x="30" y="12"/>
                </a:lnTo>
                <a:lnTo>
                  <a:pt x="40" y="48"/>
                </a:lnTo>
                <a:lnTo>
                  <a:pt x="46" y="48"/>
                </a:lnTo>
                <a:lnTo>
                  <a:pt x="57" y="0"/>
                </a:lnTo>
                <a:lnTo>
                  <a:pt x="52" y="0"/>
                </a:lnTo>
                <a:lnTo>
                  <a:pt x="45" y="31"/>
                </a:lnTo>
                <a:lnTo>
                  <a:pt x="43" y="36"/>
                </a:lnTo>
                <a:lnTo>
                  <a:pt x="43" y="41"/>
                </a:lnTo>
                <a:lnTo>
                  <a:pt x="42" y="33"/>
                </a:lnTo>
                <a:lnTo>
                  <a:pt x="39" y="25"/>
                </a:lnTo>
                <a:lnTo>
                  <a:pt x="33" y="0"/>
                </a:lnTo>
                <a:lnTo>
                  <a:pt x="26" y="0"/>
                </a:lnTo>
                <a:lnTo>
                  <a:pt x="17" y="32"/>
                </a:lnTo>
                <a:lnTo>
                  <a:pt x="16" y="33"/>
                </a:lnTo>
                <a:lnTo>
                  <a:pt x="16" y="36"/>
                </a:lnTo>
                <a:lnTo>
                  <a:pt x="15" y="41"/>
                </a:lnTo>
                <a:lnTo>
                  <a:pt x="13" y="36"/>
                </a:lnTo>
                <a:lnTo>
                  <a:pt x="13" y="32"/>
                </a:lnTo>
                <a:lnTo>
                  <a:pt x="6" y="0"/>
                </a:lnTo>
                <a:lnTo>
                  <a:pt x="0" y="0"/>
                </a:lnTo>
                <a:lnTo>
                  <a:pt x="12" y="48"/>
                </a:lnTo>
                <a:lnTo>
                  <a:pt x="17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4" name=""/>
          <p:cNvSpPr/>
          <p:nvPr/>
        </p:nvSpPr>
        <p:spPr>
          <a:xfrm>
            <a:off x="2081160" y="4246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2" y="48"/>
                </a:moveTo>
                <a:lnTo>
                  <a:pt x="22" y="6"/>
                </a:lnTo>
                <a:lnTo>
                  <a:pt x="36" y="6"/>
                </a:lnTo>
                <a:lnTo>
                  <a:pt x="36" y="0"/>
                </a:lnTo>
                <a:lnTo>
                  <a:pt x="0" y="0"/>
                </a:lnTo>
                <a:lnTo>
                  <a:pt x="0" y="6"/>
                </a:lnTo>
                <a:lnTo>
                  <a:pt x="15" y="6"/>
                </a:lnTo>
                <a:lnTo>
                  <a:pt x="15" y="48"/>
                </a:lnTo>
                <a:lnTo>
                  <a:pt x="22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5" name=""/>
          <p:cNvSpPr/>
          <p:nvPr/>
        </p:nvSpPr>
        <p:spPr>
          <a:xfrm>
            <a:off x="2160720" y="4246560"/>
            <a:ext cx="68040" cy="76320"/>
          </a:xfrm>
          <a:custGeom>
            <a:avLst/>
            <a:gdLst/>
            <a:ahLst/>
            <a:rect l="l" t="t" r="r" b="b"/>
            <a:pathLst>
              <a:path w="43" h="48">
                <a:moveTo>
                  <a:pt x="8" y="48"/>
                </a:moveTo>
                <a:lnTo>
                  <a:pt x="12" y="33"/>
                </a:lnTo>
                <a:lnTo>
                  <a:pt x="30" y="33"/>
                </a:lnTo>
                <a:lnTo>
                  <a:pt x="36" y="48"/>
                </a:lnTo>
                <a:lnTo>
                  <a:pt x="43" y="48"/>
                </a:lnTo>
                <a:lnTo>
                  <a:pt x="25" y="0"/>
                </a:lnTo>
                <a:lnTo>
                  <a:pt x="18" y="0"/>
                </a:lnTo>
                <a:lnTo>
                  <a:pt x="0" y="48"/>
                </a:lnTo>
                <a:lnTo>
                  <a:pt x="8" y="48"/>
                </a:lnTo>
                <a:close/>
                <a:moveTo>
                  <a:pt x="19" y="15"/>
                </a:moveTo>
                <a:lnTo>
                  <a:pt x="20" y="10"/>
                </a:lnTo>
                <a:lnTo>
                  <a:pt x="22" y="5"/>
                </a:lnTo>
                <a:lnTo>
                  <a:pt x="22" y="9"/>
                </a:lnTo>
                <a:lnTo>
                  <a:pt x="25" y="15"/>
                </a:lnTo>
                <a:lnTo>
                  <a:pt x="29" y="28"/>
                </a:lnTo>
                <a:lnTo>
                  <a:pt x="13" y="28"/>
                </a:lnTo>
                <a:lnTo>
                  <a:pt x="19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6" name=""/>
          <p:cNvSpPr/>
          <p:nvPr/>
        </p:nvSpPr>
        <p:spPr>
          <a:xfrm>
            <a:off x="2236680" y="4265640"/>
            <a:ext cx="39960" cy="57240"/>
          </a:xfrm>
          <a:custGeom>
            <a:avLst/>
            <a:gdLst/>
            <a:ahLst/>
            <a:rect l="l" t="t" r="r" b="b"/>
            <a:pathLst>
              <a:path w="25" h="36">
                <a:moveTo>
                  <a:pt x="5" y="36"/>
                </a:moveTo>
                <a:lnTo>
                  <a:pt x="5" y="17"/>
                </a:lnTo>
                <a:lnTo>
                  <a:pt x="5" y="13"/>
                </a:lnTo>
                <a:lnTo>
                  <a:pt x="5" y="10"/>
                </a:lnTo>
                <a:lnTo>
                  <a:pt x="7" y="9"/>
                </a:lnTo>
                <a:lnTo>
                  <a:pt x="10" y="6"/>
                </a:lnTo>
                <a:lnTo>
                  <a:pt x="14" y="6"/>
                </a:lnTo>
                <a:lnTo>
                  <a:pt x="15" y="6"/>
                </a:lnTo>
                <a:lnTo>
                  <a:pt x="17" y="7"/>
                </a:lnTo>
                <a:lnTo>
                  <a:pt x="18" y="9"/>
                </a:lnTo>
                <a:lnTo>
                  <a:pt x="20" y="10"/>
                </a:lnTo>
                <a:lnTo>
                  <a:pt x="20" y="11"/>
                </a:lnTo>
                <a:lnTo>
                  <a:pt x="20" y="14"/>
                </a:lnTo>
                <a:lnTo>
                  <a:pt x="20" y="36"/>
                </a:lnTo>
                <a:lnTo>
                  <a:pt x="25" y="36"/>
                </a:lnTo>
                <a:lnTo>
                  <a:pt x="25" y="14"/>
                </a:lnTo>
                <a:lnTo>
                  <a:pt x="25" y="11"/>
                </a:lnTo>
                <a:lnTo>
                  <a:pt x="25" y="9"/>
                </a:lnTo>
                <a:lnTo>
                  <a:pt x="25" y="7"/>
                </a:lnTo>
                <a:lnTo>
                  <a:pt x="24" y="4"/>
                </a:lnTo>
                <a:lnTo>
                  <a:pt x="22" y="3"/>
                </a:lnTo>
                <a:lnTo>
                  <a:pt x="20" y="1"/>
                </a:lnTo>
                <a:lnTo>
                  <a:pt x="17" y="1"/>
                </a:lnTo>
                <a:lnTo>
                  <a:pt x="14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4" y="1"/>
                </a:lnTo>
                <a:lnTo>
                  <a:pt x="0" y="1"/>
                </a:lnTo>
                <a:lnTo>
                  <a:pt x="0" y="36"/>
                </a:lnTo>
                <a:lnTo>
                  <a:pt x="5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7" name=""/>
          <p:cNvSpPr/>
          <p:nvPr/>
        </p:nvSpPr>
        <p:spPr>
          <a:xfrm>
            <a:off x="2287440" y="426564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25" y="36"/>
                </a:moveTo>
                <a:lnTo>
                  <a:pt x="30" y="36"/>
                </a:lnTo>
                <a:lnTo>
                  <a:pt x="29" y="34"/>
                </a:lnTo>
                <a:lnTo>
                  <a:pt x="29" y="32"/>
                </a:lnTo>
                <a:lnTo>
                  <a:pt x="29" y="30"/>
                </a:lnTo>
                <a:lnTo>
                  <a:pt x="29" y="26"/>
                </a:lnTo>
                <a:lnTo>
                  <a:pt x="29" y="21"/>
                </a:lnTo>
                <a:lnTo>
                  <a:pt x="29" y="14"/>
                </a:lnTo>
                <a:lnTo>
                  <a:pt x="29" y="10"/>
                </a:lnTo>
                <a:lnTo>
                  <a:pt x="29" y="9"/>
                </a:lnTo>
                <a:lnTo>
                  <a:pt x="28" y="6"/>
                </a:lnTo>
                <a:lnTo>
                  <a:pt x="26" y="4"/>
                </a:lnTo>
                <a:lnTo>
                  <a:pt x="25" y="3"/>
                </a:lnTo>
                <a:lnTo>
                  <a:pt x="23" y="1"/>
                </a:lnTo>
                <a:lnTo>
                  <a:pt x="20" y="1"/>
                </a:lnTo>
                <a:lnTo>
                  <a:pt x="16" y="0"/>
                </a:lnTo>
                <a:lnTo>
                  <a:pt x="12" y="1"/>
                </a:lnTo>
                <a:lnTo>
                  <a:pt x="9" y="1"/>
                </a:lnTo>
                <a:lnTo>
                  <a:pt x="6" y="3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6" y="11"/>
                </a:lnTo>
                <a:lnTo>
                  <a:pt x="8" y="9"/>
                </a:lnTo>
                <a:lnTo>
                  <a:pt x="9" y="7"/>
                </a:lnTo>
                <a:lnTo>
                  <a:pt x="12" y="6"/>
                </a:lnTo>
                <a:lnTo>
                  <a:pt x="15" y="6"/>
                </a:lnTo>
                <a:lnTo>
                  <a:pt x="19" y="6"/>
                </a:lnTo>
                <a:lnTo>
                  <a:pt x="22" y="7"/>
                </a:lnTo>
                <a:lnTo>
                  <a:pt x="23" y="10"/>
                </a:lnTo>
                <a:lnTo>
                  <a:pt x="23" y="13"/>
                </a:lnTo>
                <a:lnTo>
                  <a:pt x="23" y="13"/>
                </a:lnTo>
                <a:lnTo>
                  <a:pt x="23" y="14"/>
                </a:lnTo>
                <a:lnTo>
                  <a:pt x="19" y="16"/>
                </a:lnTo>
                <a:lnTo>
                  <a:pt x="13" y="16"/>
                </a:lnTo>
                <a:lnTo>
                  <a:pt x="10" y="16"/>
                </a:lnTo>
                <a:lnTo>
                  <a:pt x="8" y="17"/>
                </a:lnTo>
                <a:lnTo>
                  <a:pt x="6" y="17"/>
                </a:lnTo>
                <a:lnTo>
                  <a:pt x="5" y="19"/>
                </a:lnTo>
                <a:lnTo>
                  <a:pt x="3" y="20"/>
                </a:lnTo>
                <a:lnTo>
                  <a:pt x="2" y="21"/>
                </a:lnTo>
                <a:lnTo>
                  <a:pt x="0" y="24"/>
                </a:lnTo>
                <a:lnTo>
                  <a:pt x="0" y="27"/>
                </a:lnTo>
                <a:lnTo>
                  <a:pt x="0" y="30"/>
                </a:lnTo>
                <a:lnTo>
                  <a:pt x="3" y="33"/>
                </a:lnTo>
                <a:lnTo>
                  <a:pt x="6" y="36"/>
                </a:lnTo>
                <a:lnTo>
                  <a:pt x="12" y="36"/>
                </a:lnTo>
                <a:lnTo>
                  <a:pt x="15" y="36"/>
                </a:lnTo>
                <a:lnTo>
                  <a:pt x="18" y="36"/>
                </a:lnTo>
                <a:lnTo>
                  <a:pt x="20" y="34"/>
                </a:lnTo>
                <a:lnTo>
                  <a:pt x="23" y="32"/>
                </a:lnTo>
                <a:lnTo>
                  <a:pt x="23" y="34"/>
                </a:lnTo>
                <a:lnTo>
                  <a:pt x="25" y="36"/>
                </a:lnTo>
                <a:close/>
                <a:moveTo>
                  <a:pt x="23" y="20"/>
                </a:moveTo>
                <a:lnTo>
                  <a:pt x="23" y="24"/>
                </a:lnTo>
                <a:lnTo>
                  <a:pt x="22" y="26"/>
                </a:lnTo>
                <a:lnTo>
                  <a:pt x="20" y="29"/>
                </a:lnTo>
                <a:lnTo>
                  <a:pt x="19" y="30"/>
                </a:lnTo>
                <a:lnTo>
                  <a:pt x="16" y="32"/>
                </a:lnTo>
                <a:lnTo>
                  <a:pt x="13" y="32"/>
                </a:lnTo>
                <a:lnTo>
                  <a:pt x="10" y="32"/>
                </a:lnTo>
                <a:lnTo>
                  <a:pt x="8" y="30"/>
                </a:lnTo>
                <a:lnTo>
                  <a:pt x="6" y="29"/>
                </a:lnTo>
                <a:lnTo>
                  <a:pt x="6" y="26"/>
                </a:lnTo>
                <a:lnTo>
                  <a:pt x="6" y="24"/>
                </a:lnTo>
                <a:lnTo>
                  <a:pt x="8" y="24"/>
                </a:lnTo>
                <a:lnTo>
                  <a:pt x="8" y="23"/>
                </a:lnTo>
                <a:lnTo>
                  <a:pt x="9" y="21"/>
                </a:lnTo>
                <a:lnTo>
                  <a:pt x="10" y="21"/>
                </a:lnTo>
                <a:lnTo>
                  <a:pt x="15" y="20"/>
                </a:lnTo>
                <a:lnTo>
                  <a:pt x="19" y="20"/>
                </a:lnTo>
                <a:lnTo>
                  <a:pt x="23" y="19"/>
                </a:lnTo>
                <a:lnTo>
                  <a:pt x="23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8" name=""/>
          <p:cNvSpPr/>
          <p:nvPr/>
        </p:nvSpPr>
        <p:spPr>
          <a:xfrm>
            <a:off x="2347920" y="4246560"/>
            <a:ext cx="7920" cy="76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9" name=""/>
          <p:cNvSpPr/>
          <p:nvPr/>
        </p:nvSpPr>
        <p:spPr>
          <a:xfrm>
            <a:off x="2363760" y="4267080"/>
            <a:ext cx="47520" cy="77760"/>
          </a:xfrm>
          <a:custGeom>
            <a:avLst/>
            <a:gdLst/>
            <a:ahLst/>
            <a:rect l="l" t="t" r="r" b="b"/>
            <a:pathLst>
              <a:path w="30" h="49">
                <a:moveTo>
                  <a:pt x="7" y="49"/>
                </a:moveTo>
                <a:lnTo>
                  <a:pt x="10" y="48"/>
                </a:lnTo>
                <a:lnTo>
                  <a:pt x="11" y="48"/>
                </a:lnTo>
                <a:lnTo>
                  <a:pt x="13" y="45"/>
                </a:lnTo>
                <a:lnTo>
                  <a:pt x="14" y="43"/>
                </a:lnTo>
                <a:lnTo>
                  <a:pt x="15" y="41"/>
                </a:lnTo>
                <a:lnTo>
                  <a:pt x="18" y="35"/>
                </a:lnTo>
                <a:lnTo>
                  <a:pt x="30" y="0"/>
                </a:lnTo>
                <a:lnTo>
                  <a:pt x="24" y="0"/>
                </a:lnTo>
                <a:lnTo>
                  <a:pt x="18" y="20"/>
                </a:lnTo>
                <a:lnTo>
                  <a:pt x="17" y="25"/>
                </a:lnTo>
                <a:lnTo>
                  <a:pt x="15" y="28"/>
                </a:lnTo>
                <a:lnTo>
                  <a:pt x="14" y="25"/>
                </a:lnTo>
                <a:lnTo>
                  <a:pt x="13" y="20"/>
                </a:lnTo>
                <a:lnTo>
                  <a:pt x="5" y="0"/>
                </a:lnTo>
                <a:lnTo>
                  <a:pt x="0" y="0"/>
                </a:lnTo>
                <a:lnTo>
                  <a:pt x="13" y="35"/>
                </a:lnTo>
                <a:lnTo>
                  <a:pt x="13" y="36"/>
                </a:lnTo>
                <a:lnTo>
                  <a:pt x="13" y="36"/>
                </a:lnTo>
                <a:lnTo>
                  <a:pt x="11" y="39"/>
                </a:lnTo>
                <a:lnTo>
                  <a:pt x="11" y="41"/>
                </a:lnTo>
                <a:lnTo>
                  <a:pt x="10" y="42"/>
                </a:lnTo>
                <a:lnTo>
                  <a:pt x="8" y="42"/>
                </a:lnTo>
                <a:lnTo>
                  <a:pt x="7" y="43"/>
                </a:lnTo>
                <a:lnTo>
                  <a:pt x="5" y="43"/>
                </a:lnTo>
                <a:lnTo>
                  <a:pt x="4" y="43"/>
                </a:lnTo>
                <a:lnTo>
                  <a:pt x="3" y="42"/>
                </a:lnTo>
                <a:lnTo>
                  <a:pt x="3" y="48"/>
                </a:lnTo>
                <a:lnTo>
                  <a:pt x="5" y="48"/>
                </a:lnTo>
                <a:lnTo>
                  <a:pt x="7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0" name=""/>
          <p:cNvSpPr/>
          <p:nvPr/>
        </p:nvSpPr>
        <p:spPr>
          <a:xfrm>
            <a:off x="2416320" y="426564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4" y="33"/>
                </a:moveTo>
                <a:lnTo>
                  <a:pt x="7" y="36"/>
                </a:lnTo>
                <a:lnTo>
                  <a:pt x="10" y="36"/>
                </a:lnTo>
                <a:lnTo>
                  <a:pt x="14" y="36"/>
                </a:lnTo>
                <a:lnTo>
                  <a:pt x="17" y="36"/>
                </a:lnTo>
                <a:lnTo>
                  <a:pt x="21" y="34"/>
                </a:lnTo>
                <a:lnTo>
                  <a:pt x="24" y="33"/>
                </a:lnTo>
                <a:lnTo>
                  <a:pt x="25" y="32"/>
                </a:lnTo>
                <a:lnTo>
                  <a:pt x="27" y="29"/>
                </a:lnTo>
                <a:lnTo>
                  <a:pt x="27" y="26"/>
                </a:lnTo>
                <a:lnTo>
                  <a:pt x="27" y="23"/>
                </a:lnTo>
                <a:lnTo>
                  <a:pt x="25" y="20"/>
                </a:lnTo>
                <a:lnTo>
                  <a:pt x="24" y="19"/>
                </a:lnTo>
                <a:lnTo>
                  <a:pt x="22" y="17"/>
                </a:lnTo>
                <a:lnTo>
                  <a:pt x="18" y="16"/>
                </a:lnTo>
                <a:lnTo>
                  <a:pt x="14" y="14"/>
                </a:lnTo>
                <a:lnTo>
                  <a:pt x="11" y="14"/>
                </a:lnTo>
                <a:lnTo>
                  <a:pt x="8" y="13"/>
                </a:lnTo>
                <a:lnTo>
                  <a:pt x="8" y="13"/>
                </a:lnTo>
                <a:lnTo>
                  <a:pt x="7" y="11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8" y="7"/>
                </a:lnTo>
                <a:lnTo>
                  <a:pt x="10" y="6"/>
                </a:lnTo>
                <a:lnTo>
                  <a:pt x="12" y="6"/>
                </a:lnTo>
                <a:lnTo>
                  <a:pt x="15" y="6"/>
                </a:lnTo>
                <a:lnTo>
                  <a:pt x="18" y="7"/>
                </a:lnTo>
                <a:lnTo>
                  <a:pt x="20" y="9"/>
                </a:lnTo>
                <a:lnTo>
                  <a:pt x="20" y="11"/>
                </a:lnTo>
                <a:lnTo>
                  <a:pt x="25" y="10"/>
                </a:lnTo>
                <a:lnTo>
                  <a:pt x="25" y="7"/>
                </a:lnTo>
                <a:lnTo>
                  <a:pt x="24" y="4"/>
                </a:lnTo>
                <a:lnTo>
                  <a:pt x="22" y="3"/>
                </a:lnTo>
                <a:lnTo>
                  <a:pt x="20" y="1"/>
                </a:lnTo>
                <a:lnTo>
                  <a:pt x="17" y="1"/>
                </a:lnTo>
                <a:lnTo>
                  <a:pt x="12" y="0"/>
                </a:lnTo>
                <a:lnTo>
                  <a:pt x="10" y="1"/>
                </a:lnTo>
                <a:lnTo>
                  <a:pt x="8" y="1"/>
                </a:lnTo>
                <a:lnTo>
                  <a:pt x="5" y="1"/>
                </a:lnTo>
                <a:lnTo>
                  <a:pt x="4" y="3"/>
                </a:lnTo>
                <a:lnTo>
                  <a:pt x="2" y="4"/>
                </a:lnTo>
                <a:lnTo>
                  <a:pt x="1" y="6"/>
                </a:lnTo>
                <a:lnTo>
                  <a:pt x="1" y="9"/>
                </a:lnTo>
                <a:lnTo>
                  <a:pt x="1" y="10"/>
                </a:lnTo>
                <a:lnTo>
                  <a:pt x="1" y="13"/>
                </a:lnTo>
                <a:lnTo>
                  <a:pt x="2" y="16"/>
                </a:lnTo>
                <a:lnTo>
                  <a:pt x="4" y="17"/>
                </a:lnTo>
                <a:lnTo>
                  <a:pt x="5" y="19"/>
                </a:lnTo>
                <a:lnTo>
                  <a:pt x="8" y="20"/>
                </a:lnTo>
                <a:lnTo>
                  <a:pt x="14" y="21"/>
                </a:lnTo>
                <a:lnTo>
                  <a:pt x="18" y="23"/>
                </a:lnTo>
                <a:lnTo>
                  <a:pt x="20" y="23"/>
                </a:lnTo>
                <a:lnTo>
                  <a:pt x="21" y="24"/>
                </a:lnTo>
                <a:lnTo>
                  <a:pt x="21" y="26"/>
                </a:lnTo>
                <a:lnTo>
                  <a:pt x="21" y="29"/>
                </a:lnTo>
                <a:lnTo>
                  <a:pt x="20" y="30"/>
                </a:lnTo>
                <a:lnTo>
                  <a:pt x="17" y="32"/>
                </a:lnTo>
                <a:lnTo>
                  <a:pt x="14" y="32"/>
                </a:lnTo>
                <a:lnTo>
                  <a:pt x="11" y="32"/>
                </a:lnTo>
                <a:lnTo>
                  <a:pt x="8" y="30"/>
                </a:lnTo>
                <a:lnTo>
                  <a:pt x="7" y="27"/>
                </a:lnTo>
                <a:lnTo>
                  <a:pt x="5" y="24"/>
                </a:lnTo>
                <a:lnTo>
                  <a:pt x="0" y="26"/>
                </a:lnTo>
                <a:lnTo>
                  <a:pt x="1" y="30"/>
                </a:lnTo>
                <a:lnTo>
                  <a:pt x="4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1" name=""/>
          <p:cNvSpPr/>
          <p:nvPr/>
        </p:nvSpPr>
        <p:spPr>
          <a:xfrm>
            <a:off x="2470320" y="4246560"/>
            <a:ext cx="9360" cy="76320"/>
          </a:xfrm>
          <a:custGeom>
            <a:avLst/>
            <a:gdLst/>
            <a:ahLst/>
            <a:rect l="l" t="t" r="r" b="b"/>
            <a:pathLst>
              <a:path w="6" h="48">
                <a:moveTo>
                  <a:pt x="6" y="8"/>
                </a:moveTo>
                <a:lnTo>
                  <a:pt x="6" y="0"/>
                </a:lnTo>
                <a:lnTo>
                  <a:pt x="0" y="0"/>
                </a:lnTo>
                <a:lnTo>
                  <a:pt x="0" y="8"/>
                </a:lnTo>
                <a:lnTo>
                  <a:pt x="6" y="8"/>
                </a:lnTo>
                <a:close/>
                <a:moveTo>
                  <a:pt x="6" y="48"/>
                </a:moveTo>
                <a:lnTo>
                  <a:pt x="6" y="13"/>
                </a:lnTo>
                <a:lnTo>
                  <a:pt x="0" y="13"/>
                </a:lnTo>
                <a:lnTo>
                  <a:pt x="0" y="48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2" name=""/>
          <p:cNvSpPr/>
          <p:nvPr/>
        </p:nvSpPr>
        <p:spPr>
          <a:xfrm>
            <a:off x="2487600" y="426564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5" y="33"/>
                </a:moveTo>
                <a:lnTo>
                  <a:pt x="7" y="36"/>
                </a:lnTo>
                <a:lnTo>
                  <a:pt x="10" y="36"/>
                </a:lnTo>
                <a:lnTo>
                  <a:pt x="15" y="36"/>
                </a:lnTo>
                <a:lnTo>
                  <a:pt x="17" y="36"/>
                </a:lnTo>
                <a:lnTo>
                  <a:pt x="22" y="34"/>
                </a:lnTo>
                <a:lnTo>
                  <a:pt x="25" y="33"/>
                </a:lnTo>
                <a:lnTo>
                  <a:pt x="26" y="32"/>
                </a:lnTo>
                <a:lnTo>
                  <a:pt x="27" y="29"/>
                </a:lnTo>
                <a:lnTo>
                  <a:pt x="27" y="26"/>
                </a:lnTo>
                <a:lnTo>
                  <a:pt x="27" y="23"/>
                </a:lnTo>
                <a:lnTo>
                  <a:pt x="26" y="20"/>
                </a:lnTo>
                <a:lnTo>
                  <a:pt x="25" y="19"/>
                </a:lnTo>
                <a:lnTo>
                  <a:pt x="23" y="17"/>
                </a:lnTo>
                <a:lnTo>
                  <a:pt x="19" y="16"/>
                </a:lnTo>
                <a:lnTo>
                  <a:pt x="15" y="14"/>
                </a:lnTo>
                <a:lnTo>
                  <a:pt x="12" y="14"/>
                </a:lnTo>
                <a:lnTo>
                  <a:pt x="9" y="13"/>
                </a:lnTo>
                <a:lnTo>
                  <a:pt x="7" y="13"/>
                </a:lnTo>
                <a:lnTo>
                  <a:pt x="7" y="11"/>
                </a:lnTo>
                <a:lnTo>
                  <a:pt x="7" y="11"/>
                </a:lnTo>
                <a:lnTo>
                  <a:pt x="6" y="10"/>
                </a:lnTo>
                <a:lnTo>
                  <a:pt x="7" y="9"/>
                </a:lnTo>
                <a:lnTo>
                  <a:pt x="9" y="7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9" y="7"/>
                </a:lnTo>
                <a:lnTo>
                  <a:pt x="20" y="9"/>
                </a:lnTo>
                <a:lnTo>
                  <a:pt x="20" y="11"/>
                </a:lnTo>
                <a:lnTo>
                  <a:pt x="26" y="10"/>
                </a:lnTo>
                <a:lnTo>
                  <a:pt x="26" y="7"/>
                </a:lnTo>
                <a:lnTo>
                  <a:pt x="25" y="4"/>
                </a:lnTo>
                <a:lnTo>
                  <a:pt x="23" y="3"/>
                </a:lnTo>
                <a:lnTo>
                  <a:pt x="20" y="1"/>
                </a:lnTo>
                <a:lnTo>
                  <a:pt x="17" y="1"/>
                </a:lnTo>
                <a:lnTo>
                  <a:pt x="13" y="0"/>
                </a:lnTo>
                <a:lnTo>
                  <a:pt x="10" y="1"/>
                </a:lnTo>
                <a:lnTo>
                  <a:pt x="9" y="1"/>
                </a:lnTo>
                <a:lnTo>
                  <a:pt x="6" y="1"/>
                </a:lnTo>
                <a:lnTo>
                  <a:pt x="5" y="3"/>
                </a:lnTo>
                <a:lnTo>
                  <a:pt x="3" y="4"/>
                </a:lnTo>
                <a:lnTo>
                  <a:pt x="2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6"/>
                </a:lnTo>
                <a:lnTo>
                  <a:pt x="5" y="17"/>
                </a:lnTo>
                <a:lnTo>
                  <a:pt x="6" y="19"/>
                </a:lnTo>
                <a:lnTo>
                  <a:pt x="9" y="20"/>
                </a:lnTo>
                <a:lnTo>
                  <a:pt x="15" y="21"/>
                </a:lnTo>
                <a:lnTo>
                  <a:pt x="17" y="23"/>
                </a:lnTo>
                <a:lnTo>
                  <a:pt x="20" y="23"/>
                </a:lnTo>
                <a:lnTo>
                  <a:pt x="22" y="24"/>
                </a:lnTo>
                <a:lnTo>
                  <a:pt x="22" y="26"/>
                </a:lnTo>
                <a:lnTo>
                  <a:pt x="22" y="29"/>
                </a:lnTo>
                <a:lnTo>
                  <a:pt x="20" y="30"/>
                </a:lnTo>
                <a:lnTo>
                  <a:pt x="17" y="32"/>
                </a:lnTo>
                <a:lnTo>
                  <a:pt x="15" y="32"/>
                </a:lnTo>
                <a:lnTo>
                  <a:pt x="10" y="32"/>
                </a:lnTo>
                <a:lnTo>
                  <a:pt x="9" y="30"/>
                </a:lnTo>
                <a:lnTo>
                  <a:pt x="6" y="27"/>
                </a:lnTo>
                <a:lnTo>
                  <a:pt x="6" y="24"/>
                </a:lnTo>
                <a:lnTo>
                  <a:pt x="0" y="26"/>
                </a:lnTo>
                <a:lnTo>
                  <a:pt x="2" y="30"/>
                </a:lnTo>
                <a:lnTo>
                  <a:pt x="5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3" name=""/>
          <p:cNvSpPr/>
          <p:nvPr/>
        </p:nvSpPr>
        <p:spPr>
          <a:xfrm>
            <a:off x="1558800" y="2089080"/>
            <a:ext cx="66960" cy="763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5" y="48"/>
                </a:moveTo>
                <a:lnTo>
                  <a:pt x="42" y="0"/>
                </a:lnTo>
                <a:lnTo>
                  <a:pt x="36" y="0"/>
                </a:lnTo>
                <a:lnTo>
                  <a:pt x="23" y="35"/>
                </a:lnTo>
                <a:lnTo>
                  <a:pt x="22" y="38"/>
                </a:lnTo>
                <a:lnTo>
                  <a:pt x="22" y="42"/>
                </a:lnTo>
                <a:lnTo>
                  <a:pt x="21" y="38"/>
                </a:lnTo>
                <a:lnTo>
                  <a:pt x="19" y="35"/>
                </a:lnTo>
                <a:lnTo>
                  <a:pt x="8" y="0"/>
                </a:lnTo>
                <a:lnTo>
                  <a:pt x="0" y="0"/>
                </a:lnTo>
                <a:lnTo>
                  <a:pt x="18" y="48"/>
                </a:lnTo>
                <a:lnTo>
                  <a:pt x="25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4" name=""/>
          <p:cNvSpPr/>
          <p:nvPr/>
        </p:nvSpPr>
        <p:spPr>
          <a:xfrm>
            <a:off x="1650960" y="204156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4" y="36"/>
                </a:moveTo>
                <a:lnTo>
                  <a:pt x="5" y="39"/>
                </a:lnTo>
                <a:lnTo>
                  <a:pt x="8" y="40"/>
                </a:lnTo>
                <a:lnTo>
                  <a:pt x="13" y="40"/>
                </a:lnTo>
                <a:lnTo>
                  <a:pt x="15" y="40"/>
                </a:lnTo>
                <a:lnTo>
                  <a:pt x="18" y="37"/>
                </a:lnTo>
                <a:lnTo>
                  <a:pt x="21" y="35"/>
                </a:lnTo>
                <a:lnTo>
                  <a:pt x="23" y="32"/>
                </a:lnTo>
                <a:lnTo>
                  <a:pt x="24" y="26"/>
                </a:lnTo>
                <a:lnTo>
                  <a:pt x="24" y="20"/>
                </a:lnTo>
                <a:lnTo>
                  <a:pt x="24" y="14"/>
                </a:lnTo>
                <a:lnTo>
                  <a:pt x="24" y="10"/>
                </a:lnTo>
                <a:lnTo>
                  <a:pt x="23" y="7"/>
                </a:lnTo>
                <a:lnTo>
                  <a:pt x="21" y="4"/>
                </a:lnTo>
                <a:lnTo>
                  <a:pt x="20" y="3"/>
                </a:lnTo>
                <a:lnTo>
                  <a:pt x="17" y="2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2"/>
                </a:lnTo>
                <a:lnTo>
                  <a:pt x="3" y="4"/>
                </a:lnTo>
                <a:lnTo>
                  <a:pt x="1" y="9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1" y="32"/>
                </a:lnTo>
                <a:lnTo>
                  <a:pt x="4" y="36"/>
                </a:lnTo>
                <a:close/>
                <a:moveTo>
                  <a:pt x="7" y="7"/>
                </a:move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7" y="7"/>
                </a:lnTo>
                <a:lnTo>
                  <a:pt x="18" y="10"/>
                </a:lnTo>
                <a:lnTo>
                  <a:pt x="20" y="14"/>
                </a:lnTo>
                <a:lnTo>
                  <a:pt x="20" y="20"/>
                </a:lnTo>
                <a:lnTo>
                  <a:pt x="20" y="26"/>
                </a:lnTo>
                <a:lnTo>
                  <a:pt x="18" y="30"/>
                </a:lnTo>
                <a:lnTo>
                  <a:pt x="17" y="33"/>
                </a:lnTo>
                <a:lnTo>
                  <a:pt x="15" y="36"/>
                </a:lnTo>
                <a:lnTo>
                  <a:pt x="13" y="36"/>
                </a:lnTo>
                <a:lnTo>
                  <a:pt x="10" y="36"/>
                </a:lnTo>
                <a:lnTo>
                  <a:pt x="7" y="33"/>
                </a:lnTo>
                <a:lnTo>
                  <a:pt x="5" y="30"/>
                </a:lnTo>
                <a:lnTo>
                  <a:pt x="5" y="26"/>
                </a:lnTo>
                <a:lnTo>
                  <a:pt x="4" y="20"/>
                </a:lnTo>
                <a:lnTo>
                  <a:pt x="5" y="14"/>
                </a:lnTo>
                <a:lnTo>
                  <a:pt x="5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5" name=""/>
          <p:cNvSpPr/>
          <p:nvPr/>
        </p:nvSpPr>
        <p:spPr>
          <a:xfrm>
            <a:off x="2448000" y="208908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2" y="48"/>
                </a:moveTo>
                <a:lnTo>
                  <a:pt x="41" y="0"/>
                </a:lnTo>
                <a:lnTo>
                  <a:pt x="35" y="0"/>
                </a:lnTo>
                <a:lnTo>
                  <a:pt x="22" y="35"/>
                </a:lnTo>
                <a:lnTo>
                  <a:pt x="21" y="39"/>
                </a:lnTo>
                <a:lnTo>
                  <a:pt x="20" y="42"/>
                </a:lnTo>
                <a:lnTo>
                  <a:pt x="20" y="39"/>
                </a:lnTo>
                <a:lnTo>
                  <a:pt x="18" y="35"/>
                </a:lnTo>
                <a:lnTo>
                  <a:pt x="5" y="0"/>
                </a:lnTo>
                <a:lnTo>
                  <a:pt x="0" y="0"/>
                </a:lnTo>
                <a:lnTo>
                  <a:pt x="17" y="48"/>
                </a:lnTo>
                <a:lnTo>
                  <a:pt x="22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6" name=""/>
          <p:cNvSpPr/>
          <p:nvPr/>
        </p:nvSpPr>
        <p:spPr>
          <a:xfrm>
            <a:off x="2540160" y="2041560"/>
            <a:ext cx="20520" cy="63360"/>
          </a:xfrm>
          <a:custGeom>
            <a:avLst/>
            <a:gdLst/>
            <a:ahLst/>
            <a:rect l="l" t="t" r="r" b="b"/>
            <a:pathLst>
              <a:path w="13" h="40">
                <a:moveTo>
                  <a:pt x="13" y="0"/>
                </a:moveTo>
                <a:lnTo>
                  <a:pt x="10" y="0"/>
                </a:lnTo>
                <a:lnTo>
                  <a:pt x="9" y="3"/>
                </a:lnTo>
                <a:lnTo>
                  <a:pt x="6" y="6"/>
                </a:lnTo>
                <a:lnTo>
                  <a:pt x="3" y="9"/>
                </a:lnTo>
                <a:lnTo>
                  <a:pt x="0" y="10"/>
                </a:lnTo>
                <a:lnTo>
                  <a:pt x="0" y="14"/>
                </a:lnTo>
                <a:lnTo>
                  <a:pt x="2" y="14"/>
                </a:lnTo>
                <a:lnTo>
                  <a:pt x="4" y="13"/>
                </a:lnTo>
                <a:lnTo>
                  <a:pt x="7" y="12"/>
                </a:lnTo>
                <a:lnTo>
                  <a:pt x="9" y="9"/>
                </a:lnTo>
                <a:lnTo>
                  <a:pt x="9" y="40"/>
                </a:lnTo>
                <a:lnTo>
                  <a:pt x="13" y="4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7" name=""/>
          <p:cNvSpPr/>
          <p:nvPr/>
        </p:nvSpPr>
        <p:spPr>
          <a:xfrm>
            <a:off x="3494160" y="208908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4" y="48"/>
                </a:moveTo>
                <a:lnTo>
                  <a:pt x="41" y="0"/>
                </a:lnTo>
                <a:lnTo>
                  <a:pt x="35" y="0"/>
                </a:lnTo>
                <a:lnTo>
                  <a:pt x="24" y="35"/>
                </a:lnTo>
                <a:lnTo>
                  <a:pt x="23" y="39"/>
                </a:lnTo>
                <a:lnTo>
                  <a:pt x="21" y="43"/>
                </a:lnTo>
                <a:lnTo>
                  <a:pt x="20" y="39"/>
                </a:lnTo>
                <a:lnTo>
                  <a:pt x="18" y="35"/>
                </a:lnTo>
                <a:lnTo>
                  <a:pt x="7" y="0"/>
                </a:lnTo>
                <a:lnTo>
                  <a:pt x="0" y="0"/>
                </a:lnTo>
                <a:lnTo>
                  <a:pt x="18" y="48"/>
                </a:lnTo>
                <a:lnTo>
                  <a:pt x="2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8" name=""/>
          <p:cNvSpPr/>
          <p:nvPr/>
        </p:nvSpPr>
        <p:spPr>
          <a:xfrm>
            <a:off x="3597120" y="2055960"/>
            <a:ext cx="34920" cy="47520"/>
          </a:xfrm>
          <a:custGeom>
            <a:avLst/>
            <a:gdLst/>
            <a:ahLst/>
            <a:rect l="l" t="t" r="r" b="b"/>
            <a:pathLst>
              <a:path w="22" h="30">
                <a:moveTo>
                  <a:pt x="5" y="30"/>
                </a:moveTo>
                <a:lnTo>
                  <a:pt x="5" y="14"/>
                </a:lnTo>
                <a:lnTo>
                  <a:pt x="5" y="11"/>
                </a:lnTo>
                <a:lnTo>
                  <a:pt x="6" y="8"/>
                </a:lnTo>
                <a:lnTo>
                  <a:pt x="6" y="7"/>
                </a:lnTo>
                <a:lnTo>
                  <a:pt x="9" y="5"/>
                </a:lnTo>
                <a:lnTo>
                  <a:pt x="12" y="4"/>
                </a:lnTo>
                <a:lnTo>
                  <a:pt x="13" y="4"/>
                </a:lnTo>
                <a:lnTo>
                  <a:pt x="15" y="5"/>
                </a:lnTo>
                <a:lnTo>
                  <a:pt x="16" y="7"/>
                </a:lnTo>
                <a:lnTo>
                  <a:pt x="18" y="8"/>
                </a:lnTo>
                <a:lnTo>
                  <a:pt x="18" y="10"/>
                </a:lnTo>
                <a:lnTo>
                  <a:pt x="18" y="13"/>
                </a:lnTo>
                <a:lnTo>
                  <a:pt x="18" y="30"/>
                </a:lnTo>
                <a:lnTo>
                  <a:pt x="22" y="30"/>
                </a:lnTo>
                <a:lnTo>
                  <a:pt x="22" y="11"/>
                </a:lnTo>
                <a:lnTo>
                  <a:pt x="22" y="8"/>
                </a:lnTo>
                <a:lnTo>
                  <a:pt x="22" y="7"/>
                </a:lnTo>
                <a:lnTo>
                  <a:pt x="22" y="5"/>
                </a:lnTo>
                <a:lnTo>
                  <a:pt x="20" y="4"/>
                </a:lnTo>
                <a:lnTo>
                  <a:pt x="19" y="3"/>
                </a:lnTo>
                <a:lnTo>
                  <a:pt x="18" y="1"/>
                </a:lnTo>
                <a:lnTo>
                  <a:pt x="15" y="1"/>
                </a:lnTo>
                <a:lnTo>
                  <a:pt x="13" y="0"/>
                </a:lnTo>
                <a:lnTo>
                  <a:pt x="9" y="1"/>
                </a:lnTo>
                <a:lnTo>
                  <a:pt x="6" y="3"/>
                </a:lnTo>
                <a:lnTo>
                  <a:pt x="5" y="5"/>
                </a:lnTo>
                <a:lnTo>
                  <a:pt x="5" y="1"/>
                </a:lnTo>
                <a:lnTo>
                  <a:pt x="0" y="1"/>
                </a:lnTo>
                <a:lnTo>
                  <a:pt x="0" y="30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9" name=""/>
          <p:cNvSpPr/>
          <p:nvPr/>
        </p:nvSpPr>
        <p:spPr>
          <a:xfrm>
            <a:off x="4703760" y="206856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3" y="48"/>
                </a:moveTo>
                <a:lnTo>
                  <a:pt x="41" y="0"/>
                </a:lnTo>
                <a:lnTo>
                  <a:pt x="34" y="0"/>
                </a:lnTo>
                <a:lnTo>
                  <a:pt x="23" y="35"/>
                </a:lnTo>
                <a:lnTo>
                  <a:pt x="21" y="39"/>
                </a:lnTo>
                <a:lnTo>
                  <a:pt x="20" y="42"/>
                </a:lnTo>
                <a:lnTo>
                  <a:pt x="18" y="39"/>
                </a:lnTo>
                <a:lnTo>
                  <a:pt x="18" y="35"/>
                </a:lnTo>
                <a:lnTo>
                  <a:pt x="5" y="0"/>
                </a:lnTo>
                <a:lnTo>
                  <a:pt x="0" y="0"/>
                </a:lnTo>
                <a:lnTo>
                  <a:pt x="17" y="48"/>
                </a:lnTo>
                <a:lnTo>
                  <a:pt x="23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0" name=""/>
          <p:cNvSpPr/>
          <p:nvPr/>
        </p:nvSpPr>
        <p:spPr>
          <a:xfrm>
            <a:off x="4789440" y="2035080"/>
            <a:ext cx="27000" cy="25560"/>
          </a:xfrm>
          <a:custGeom>
            <a:avLst/>
            <a:gdLst/>
            <a:ahLst/>
            <a:rect l="l" t="t" r="r" b="b"/>
            <a:pathLst>
              <a:path w="17" h="16">
                <a:moveTo>
                  <a:pt x="6" y="8"/>
                </a:moveTo>
                <a:lnTo>
                  <a:pt x="4" y="10"/>
                </a:lnTo>
                <a:lnTo>
                  <a:pt x="2" y="14"/>
                </a:lnTo>
                <a:lnTo>
                  <a:pt x="6" y="16"/>
                </a:lnTo>
                <a:lnTo>
                  <a:pt x="7" y="14"/>
                </a:lnTo>
                <a:lnTo>
                  <a:pt x="9" y="10"/>
                </a:lnTo>
                <a:lnTo>
                  <a:pt x="10" y="14"/>
                </a:lnTo>
                <a:lnTo>
                  <a:pt x="12" y="16"/>
                </a:lnTo>
                <a:lnTo>
                  <a:pt x="16" y="14"/>
                </a:lnTo>
                <a:lnTo>
                  <a:pt x="13" y="11"/>
                </a:lnTo>
                <a:lnTo>
                  <a:pt x="10" y="8"/>
                </a:lnTo>
                <a:lnTo>
                  <a:pt x="14" y="8"/>
                </a:lnTo>
                <a:lnTo>
                  <a:pt x="17" y="7"/>
                </a:lnTo>
                <a:lnTo>
                  <a:pt x="16" y="3"/>
                </a:lnTo>
                <a:lnTo>
                  <a:pt x="13" y="4"/>
                </a:lnTo>
                <a:lnTo>
                  <a:pt x="10" y="6"/>
                </a:lnTo>
                <a:lnTo>
                  <a:pt x="10" y="3"/>
                </a:lnTo>
                <a:lnTo>
                  <a:pt x="10" y="0"/>
                </a:lnTo>
                <a:lnTo>
                  <a:pt x="7" y="0"/>
                </a:lnTo>
                <a:lnTo>
                  <a:pt x="7" y="1"/>
                </a:lnTo>
                <a:lnTo>
                  <a:pt x="7" y="6"/>
                </a:lnTo>
                <a:lnTo>
                  <a:pt x="4" y="4"/>
                </a:lnTo>
                <a:lnTo>
                  <a:pt x="2" y="3"/>
                </a:lnTo>
                <a:lnTo>
                  <a:pt x="0" y="7"/>
                </a:lnTo>
                <a:lnTo>
                  <a:pt x="3" y="8"/>
                </a:lnTo>
                <a:lnTo>
                  <a:pt x="6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1" name=""/>
          <p:cNvSpPr/>
          <p:nvPr/>
        </p:nvSpPr>
        <p:spPr>
          <a:xfrm>
            <a:off x="4703760" y="314964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16" y="47"/>
                </a:moveTo>
                <a:lnTo>
                  <a:pt x="20" y="47"/>
                </a:lnTo>
                <a:lnTo>
                  <a:pt x="23" y="47"/>
                </a:lnTo>
                <a:lnTo>
                  <a:pt x="26" y="46"/>
                </a:lnTo>
                <a:lnTo>
                  <a:pt x="28" y="44"/>
                </a:lnTo>
                <a:lnTo>
                  <a:pt x="31" y="43"/>
                </a:lnTo>
                <a:lnTo>
                  <a:pt x="33" y="40"/>
                </a:lnTo>
                <a:lnTo>
                  <a:pt x="34" y="37"/>
                </a:lnTo>
                <a:lnTo>
                  <a:pt x="36" y="33"/>
                </a:lnTo>
                <a:lnTo>
                  <a:pt x="37" y="28"/>
                </a:lnTo>
                <a:lnTo>
                  <a:pt x="37" y="24"/>
                </a:lnTo>
                <a:lnTo>
                  <a:pt x="37" y="18"/>
                </a:lnTo>
                <a:lnTo>
                  <a:pt x="36" y="13"/>
                </a:lnTo>
                <a:lnTo>
                  <a:pt x="33" y="8"/>
                </a:lnTo>
                <a:lnTo>
                  <a:pt x="30" y="4"/>
                </a:lnTo>
                <a:lnTo>
                  <a:pt x="27" y="3"/>
                </a:lnTo>
                <a:lnTo>
                  <a:pt x="23" y="1"/>
                </a:lnTo>
                <a:lnTo>
                  <a:pt x="20" y="0"/>
                </a:lnTo>
                <a:lnTo>
                  <a:pt x="16" y="0"/>
                </a:lnTo>
                <a:lnTo>
                  <a:pt x="0" y="0"/>
                </a:lnTo>
                <a:lnTo>
                  <a:pt x="0" y="47"/>
                </a:lnTo>
                <a:lnTo>
                  <a:pt x="16" y="47"/>
                </a:lnTo>
                <a:close/>
                <a:moveTo>
                  <a:pt x="5" y="5"/>
                </a:moveTo>
                <a:lnTo>
                  <a:pt x="16" y="5"/>
                </a:lnTo>
                <a:lnTo>
                  <a:pt x="20" y="5"/>
                </a:lnTo>
                <a:lnTo>
                  <a:pt x="23" y="7"/>
                </a:lnTo>
                <a:lnTo>
                  <a:pt x="26" y="8"/>
                </a:lnTo>
                <a:lnTo>
                  <a:pt x="28" y="13"/>
                </a:lnTo>
                <a:lnTo>
                  <a:pt x="30" y="15"/>
                </a:lnTo>
                <a:lnTo>
                  <a:pt x="30" y="18"/>
                </a:lnTo>
                <a:lnTo>
                  <a:pt x="31" y="24"/>
                </a:lnTo>
                <a:lnTo>
                  <a:pt x="30" y="28"/>
                </a:lnTo>
                <a:lnTo>
                  <a:pt x="30" y="33"/>
                </a:lnTo>
                <a:lnTo>
                  <a:pt x="28" y="36"/>
                </a:lnTo>
                <a:lnTo>
                  <a:pt x="26" y="38"/>
                </a:lnTo>
                <a:lnTo>
                  <a:pt x="24" y="40"/>
                </a:lnTo>
                <a:lnTo>
                  <a:pt x="23" y="41"/>
                </a:lnTo>
                <a:lnTo>
                  <a:pt x="18" y="41"/>
                </a:lnTo>
                <a:lnTo>
                  <a:pt x="16" y="43"/>
                </a:lnTo>
                <a:lnTo>
                  <a:pt x="5" y="43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2" name=""/>
          <p:cNvSpPr/>
          <p:nvPr/>
        </p:nvSpPr>
        <p:spPr>
          <a:xfrm>
            <a:off x="4768920" y="3149640"/>
            <a:ext cx="90360" cy="74520"/>
          </a:xfrm>
          <a:custGeom>
            <a:avLst/>
            <a:gdLst/>
            <a:ahLst/>
            <a:rect l="l" t="t" r="r" b="b"/>
            <a:pathLst>
              <a:path w="57" h="47">
                <a:moveTo>
                  <a:pt x="17" y="47"/>
                </a:moveTo>
                <a:lnTo>
                  <a:pt x="27" y="11"/>
                </a:lnTo>
                <a:lnTo>
                  <a:pt x="29" y="8"/>
                </a:lnTo>
                <a:lnTo>
                  <a:pt x="29" y="5"/>
                </a:lnTo>
                <a:lnTo>
                  <a:pt x="29" y="8"/>
                </a:lnTo>
                <a:lnTo>
                  <a:pt x="30" y="11"/>
                </a:lnTo>
                <a:lnTo>
                  <a:pt x="40" y="47"/>
                </a:lnTo>
                <a:lnTo>
                  <a:pt x="46" y="47"/>
                </a:lnTo>
                <a:lnTo>
                  <a:pt x="57" y="0"/>
                </a:lnTo>
                <a:lnTo>
                  <a:pt x="52" y="0"/>
                </a:lnTo>
                <a:lnTo>
                  <a:pt x="45" y="31"/>
                </a:lnTo>
                <a:lnTo>
                  <a:pt x="43" y="36"/>
                </a:lnTo>
                <a:lnTo>
                  <a:pt x="43" y="41"/>
                </a:lnTo>
                <a:lnTo>
                  <a:pt x="42" y="33"/>
                </a:lnTo>
                <a:lnTo>
                  <a:pt x="39" y="24"/>
                </a:lnTo>
                <a:lnTo>
                  <a:pt x="33" y="0"/>
                </a:lnTo>
                <a:lnTo>
                  <a:pt x="26" y="0"/>
                </a:lnTo>
                <a:lnTo>
                  <a:pt x="17" y="33"/>
                </a:lnTo>
                <a:lnTo>
                  <a:pt x="16" y="34"/>
                </a:lnTo>
                <a:lnTo>
                  <a:pt x="16" y="37"/>
                </a:lnTo>
                <a:lnTo>
                  <a:pt x="15" y="41"/>
                </a:lnTo>
                <a:lnTo>
                  <a:pt x="15" y="36"/>
                </a:lnTo>
                <a:lnTo>
                  <a:pt x="13" y="31"/>
                </a:lnTo>
                <a:lnTo>
                  <a:pt x="6" y="0"/>
                </a:lnTo>
                <a:lnTo>
                  <a:pt x="0" y="0"/>
                </a:lnTo>
                <a:lnTo>
                  <a:pt x="12" y="47"/>
                </a:lnTo>
                <a:lnTo>
                  <a:pt x="17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4863960" y="314964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22" y="47"/>
                </a:moveTo>
                <a:lnTo>
                  <a:pt x="22" y="5"/>
                </a:lnTo>
                <a:lnTo>
                  <a:pt x="36" y="5"/>
                </a:lnTo>
                <a:lnTo>
                  <a:pt x="36" y="0"/>
                </a:lnTo>
                <a:lnTo>
                  <a:pt x="0" y="0"/>
                </a:lnTo>
                <a:lnTo>
                  <a:pt x="0" y="5"/>
                </a:lnTo>
                <a:lnTo>
                  <a:pt x="16" y="5"/>
                </a:lnTo>
                <a:lnTo>
                  <a:pt x="16" y="47"/>
                </a:lnTo>
                <a:lnTo>
                  <a:pt x="22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4" name=""/>
          <p:cNvSpPr/>
          <p:nvPr/>
        </p:nvSpPr>
        <p:spPr>
          <a:xfrm>
            <a:off x="4954680" y="314964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3" y="41"/>
                </a:moveTo>
                <a:lnTo>
                  <a:pt x="5" y="44"/>
                </a:lnTo>
                <a:lnTo>
                  <a:pt x="9" y="47"/>
                </a:lnTo>
                <a:lnTo>
                  <a:pt x="13" y="48"/>
                </a:lnTo>
                <a:lnTo>
                  <a:pt x="19" y="48"/>
                </a:lnTo>
                <a:lnTo>
                  <a:pt x="25" y="48"/>
                </a:lnTo>
                <a:lnTo>
                  <a:pt x="28" y="47"/>
                </a:lnTo>
                <a:lnTo>
                  <a:pt x="32" y="44"/>
                </a:lnTo>
                <a:lnTo>
                  <a:pt x="35" y="41"/>
                </a:lnTo>
                <a:lnTo>
                  <a:pt x="36" y="38"/>
                </a:lnTo>
                <a:lnTo>
                  <a:pt x="36" y="34"/>
                </a:lnTo>
                <a:lnTo>
                  <a:pt x="36" y="31"/>
                </a:lnTo>
                <a:lnTo>
                  <a:pt x="35" y="27"/>
                </a:lnTo>
                <a:lnTo>
                  <a:pt x="32" y="25"/>
                </a:lnTo>
                <a:lnTo>
                  <a:pt x="29" y="23"/>
                </a:lnTo>
                <a:lnTo>
                  <a:pt x="25" y="21"/>
                </a:lnTo>
                <a:lnTo>
                  <a:pt x="19" y="20"/>
                </a:lnTo>
                <a:lnTo>
                  <a:pt x="12" y="18"/>
                </a:lnTo>
                <a:lnTo>
                  <a:pt x="9" y="17"/>
                </a:lnTo>
                <a:lnTo>
                  <a:pt x="8" y="14"/>
                </a:lnTo>
                <a:lnTo>
                  <a:pt x="8" y="13"/>
                </a:lnTo>
                <a:lnTo>
                  <a:pt x="8" y="10"/>
                </a:lnTo>
                <a:lnTo>
                  <a:pt x="10" y="7"/>
                </a:lnTo>
                <a:lnTo>
                  <a:pt x="13" y="5"/>
                </a:lnTo>
                <a:lnTo>
                  <a:pt x="18" y="5"/>
                </a:lnTo>
                <a:lnTo>
                  <a:pt x="23" y="5"/>
                </a:lnTo>
                <a:lnTo>
                  <a:pt x="26" y="7"/>
                </a:lnTo>
                <a:lnTo>
                  <a:pt x="28" y="10"/>
                </a:lnTo>
                <a:lnTo>
                  <a:pt x="29" y="14"/>
                </a:lnTo>
                <a:lnTo>
                  <a:pt x="35" y="14"/>
                </a:lnTo>
                <a:lnTo>
                  <a:pt x="35" y="10"/>
                </a:lnTo>
                <a:lnTo>
                  <a:pt x="33" y="5"/>
                </a:lnTo>
                <a:lnTo>
                  <a:pt x="31" y="3"/>
                </a:lnTo>
                <a:lnTo>
                  <a:pt x="26" y="1"/>
                </a:lnTo>
                <a:lnTo>
                  <a:pt x="22" y="0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6" y="3"/>
                </a:lnTo>
                <a:lnTo>
                  <a:pt x="3" y="5"/>
                </a:lnTo>
                <a:lnTo>
                  <a:pt x="2" y="10"/>
                </a:lnTo>
                <a:lnTo>
                  <a:pt x="2" y="13"/>
                </a:lnTo>
                <a:lnTo>
                  <a:pt x="2" y="15"/>
                </a:lnTo>
                <a:lnTo>
                  <a:pt x="3" y="18"/>
                </a:lnTo>
                <a:lnTo>
                  <a:pt x="6" y="21"/>
                </a:lnTo>
                <a:lnTo>
                  <a:pt x="8" y="23"/>
                </a:lnTo>
                <a:lnTo>
                  <a:pt x="12" y="24"/>
                </a:lnTo>
                <a:lnTo>
                  <a:pt x="18" y="25"/>
                </a:lnTo>
                <a:lnTo>
                  <a:pt x="22" y="27"/>
                </a:lnTo>
                <a:lnTo>
                  <a:pt x="25" y="28"/>
                </a:lnTo>
                <a:lnTo>
                  <a:pt x="28" y="30"/>
                </a:lnTo>
                <a:lnTo>
                  <a:pt x="29" y="31"/>
                </a:lnTo>
                <a:lnTo>
                  <a:pt x="31" y="33"/>
                </a:lnTo>
                <a:lnTo>
                  <a:pt x="31" y="34"/>
                </a:lnTo>
                <a:lnTo>
                  <a:pt x="31" y="37"/>
                </a:lnTo>
                <a:lnTo>
                  <a:pt x="29" y="38"/>
                </a:lnTo>
                <a:lnTo>
                  <a:pt x="28" y="40"/>
                </a:lnTo>
                <a:lnTo>
                  <a:pt x="25" y="41"/>
                </a:lnTo>
                <a:lnTo>
                  <a:pt x="22" y="43"/>
                </a:lnTo>
                <a:lnTo>
                  <a:pt x="19" y="43"/>
                </a:lnTo>
                <a:lnTo>
                  <a:pt x="16" y="43"/>
                </a:lnTo>
                <a:lnTo>
                  <a:pt x="12" y="41"/>
                </a:lnTo>
                <a:lnTo>
                  <a:pt x="9" y="40"/>
                </a:lnTo>
                <a:lnTo>
                  <a:pt x="8" y="38"/>
                </a:lnTo>
                <a:lnTo>
                  <a:pt x="6" y="36"/>
                </a:lnTo>
                <a:lnTo>
                  <a:pt x="6" y="31"/>
                </a:lnTo>
                <a:lnTo>
                  <a:pt x="0" y="33"/>
                </a:lnTo>
                <a:lnTo>
                  <a:pt x="0" y="37"/>
                </a:lnTo>
                <a:lnTo>
                  <a:pt x="3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5" name=""/>
          <p:cNvSpPr/>
          <p:nvPr/>
        </p:nvSpPr>
        <p:spPr>
          <a:xfrm>
            <a:off x="5019840" y="317016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7" y="48"/>
                </a:moveTo>
                <a:lnTo>
                  <a:pt x="8" y="48"/>
                </a:lnTo>
                <a:lnTo>
                  <a:pt x="11" y="47"/>
                </a:lnTo>
                <a:lnTo>
                  <a:pt x="12" y="45"/>
                </a:lnTo>
                <a:lnTo>
                  <a:pt x="14" y="43"/>
                </a:lnTo>
                <a:lnTo>
                  <a:pt x="15" y="40"/>
                </a:lnTo>
                <a:lnTo>
                  <a:pt x="17" y="35"/>
                </a:lnTo>
                <a:lnTo>
                  <a:pt x="30" y="0"/>
                </a:lnTo>
                <a:lnTo>
                  <a:pt x="24" y="0"/>
                </a:lnTo>
                <a:lnTo>
                  <a:pt x="17" y="20"/>
                </a:lnTo>
                <a:lnTo>
                  <a:pt x="15" y="24"/>
                </a:lnTo>
                <a:lnTo>
                  <a:pt x="15" y="28"/>
                </a:lnTo>
                <a:lnTo>
                  <a:pt x="14" y="24"/>
                </a:lnTo>
                <a:lnTo>
                  <a:pt x="12" y="20"/>
                </a:lnTo>
                <a:lnTo>
                  <a:pt x="5" y="0"/>
                </a:lnTo>
                <a:lnTo>
                  <a:pt x="0" y="0"/>
                </a:lnTo>
                <a:lnTo>
                  <a:pt x="12" y="34"/>
                </a:lnTo>
                <a:lnTo>
                  <a:pt x="11" y="35"/>
                </a:lnTo>
                <a:lnTo>
                  <a:pt x="11" y="35"/>
                </a:lnTo>
                <a:lnTo>
                  <a:pt x="11" y="38"/>
                </a:lnTo>
                <a:lnTo>
                  <a:pt x="10" y="41"/>
                </a:lnTo>
                <a:lnTo>
                  <a:pt x="10" y="41"/>
                </a:lnTo>
                <a:lnTo>
                  <a:pt x="8" y="43"/>
                </a:lnTo>
                <a:lnTo>
                  <a:pt x="7" y="43"/>
                </a:lnTo>
                <a:lnTo>
                  <a:pt x="5" y="43"/>
                </a:lnTo>
                <a:lnTo>
                  <a:pt x="4" y="43"/>
                </a:lnTo>
                <a:lnTo>
                  <a:pt x="2" y="43"/>
                </a:lnTo>
                <a:lnTo>
                  <a:pt x="2" y="48"/>
                </a:lnTo>
                <a:lnTo>
                  <a:pt x="4" y="48"/>
                </a:lnTo>
                <a:lnTo>
                  <a:pt x="7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6" name=""/>
          <p:cNvSpPr/>
          <p:nvPr/>
        </p:nvSpPr>
        <p:spPr>
          <a:xfrm>
            <a:off x="5073480" y="3170160"/>
            <a:ext cx="43200" cy="54000"/>
          </a:xfrm>
          <a:custGeom>
            <a:avLst/>
            <a:gdLst/>
            <a:ahLst/>
            <a:rect l="l" t="t" r="r" b="b"/>
            <a:pathLst>
              <a:path w="27" h="34">
                <a:moveTo>
                  <a:pt x="6" y="34"/>
                </a:moveTo>
                <a:lnTo>
                  <a:pt x="6" y="15"/>
                </a:lnTo>
                <a:lnTo>
                  <a:pt x="6" y="12"/>
                </a:lnTo>
                <a:lnTo>
                  <a:pt x="7" y="10"/>
                </a:lnTo>
                <a:lnTo>
                  <a:pt x="8" y="7"/>
                </a:lnTo>
                <a:lnTo>
                  <a:pt x="11" y="5"/>
                </a:lnTo>
                <a:lnTo>
                  <a:pt x="14" y="4"/>
                </a:lnTo>
                <a:lnTo>
                  <a:pt x="17" y="5"/>
                </a:lnTo>
                <a:lnTo>
                  <a:pt x="18" y="5"/>
                </a:lnTo>
                <a:lnTo>
                  <a:pt x="20" y="7"/>
                </a:lnTo>
                <a:lnTo>
                  <a:pt x="21" y="8"/>
                </a:lnTo>
                <a:lnTo>
                  <a:pt x="21" y="11"/>
                </a:lnTo>
                <a:lnTo>
                  <a:pt x="21" y="14"/>
                </a:lnTo>
                <a:lnTo>
                  <a:pt x="21" y="34"/>
                </a:lnTo>
                <a:lnTo>
                  <a:pt x="27" y="34"/>
                </a:lnTo>
                <a:lnTo>
                  <a:pt x="27" y="14"/>
                </a:lnTo>
                <a:lnTo>
                  <a:pt x="27" y="10"/>
                </a:lnTo>
                <a:lnTo>
                  <a:pt x="27" y="8"/>
                </a:lnTo>
                <a:lnTo>
                  <a:pt x="26" y="5"/>
                </a:lnTo>
                <a:lnTo>
                  <a:pt x="24" y="4"/>
                </a:lnTo>
                <a:lnTo>
                  <a:pt x="23" y="2"/>
                </a:lnTo>
                <a:lnTo>
                  <a:pt x="21" y="1"/>
                </a:lnTo>
                <a:lnTo>
                  <a:pt x="18" y="0"/>
                </a:lnTo>
                <a:lnTo>
                  <a:pt x="16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6" y="0"/>
                </a:lnTo>
                <a:lnTo>
                  <a:pt x="0" y="0"/>
                </a:lnTo>
                <a:lnTo>
                  <a:pt x="0" y="34"/>
                </a:lnTo>
                <a:lnTo>
                  <a:pt x="6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7" name=""/>
          <p:cNvSpPr/>
          <p:nvPr/>
        </p:nvSpPr>
        <p:spPr>
          <a:xfrm>
            <a:off x="5126040" y="3151080"/>
            <a:ext cx="23760" cy="74880"/>
          </a:xfrm>
          <a:custGeom>
            <a:avLst/>
            <a:gdLst/>
            <a:ahLst/>
            <a:rect l="l" t="t" r="r" b="b"/>
            <a:pathLst>
              <a:path w="15" h="47">
                <a:moveTo>
                  <a:pt x="13" y="42"/>
                </a:moveTo>
                <a:lnTo>
                  <a:pt x="11" y="42"/>
                </a:lnTo>
                <a:lnTo>
                  <a:pt x="10" y="42"/>
                </a:lnTo>
                <a:lnTo>
                  <a:pt x="10" y="40"/>
                </a:lnTo>
                <a:lnTo>
                  <a:pt x="10" y="40"/>
                </a:lnTo>
                <a:lnTo>
                  <a:pt x="8" y="39"/>
                </a:lnTo>
                <a:lnTo>
                  <a:pt x="8" y="37"/>
                </a:lnTo>
                <a:lnTo>
                  <a:pt x="8" y="17"/>
                </a:lnTo>
                <a:lnTo>
                  <a:pt x="14" y="17"/>
                </a:lnTo>
                <a:lnTo>
                  <a:pt x="14" y="12"/>
                </a:lnTo>
                <a:lnTo>
                  <a:pt x="8" y="12"/>
                </a:lnTo>
                <a:lnTo>
                  <a:pt x="8" y="0"/>
                </a:lnTo>
                <a:lnTo>
                  <a:pt x="3" y="4"/>
                </a:lnTo>
                <a:lnTo>
                  <a:pt x="3" y="12"/>
                </a:lnTo>
                <a:lnTo>
                  <a:pt x="0" y="12"/>
                </a:lnTo>
                <a:lnTo>
                  <a:pt x="0" y="17"/>
                </a:lnTo>
                <a:lnTo>
                  <a:pt x="3" y="17"/>
                </a:lnTo>
                <a:lnTo>
                  <a:pt x="3" y="36"/>
                </a:lnTo>
                <a:lnTo>
                  <a:pt x="4" y="40"/>
                </a:lnTo>
                <a:lnTo>
                  <a:pt x="4" y="43"/>
                </a:lnTo>
                <a:lnTo>
                  <a:pt x="5" y="45"/>
                </a:lnTo>
                <a:lnTo>
                  <a:pt x="7" y="46"/>
                </a:lnTo>
                <a:lnTo>
                  <a:pt x="8" y="47"/>
                </a:lnTo>
                <a:lnTo>
                  <a:pt x="11" y="47"/>
                </a:lnTo>
                <a:lnTo>
                  <a:pt x="13" y="47"/>
                </a:lnTo>
                <a:lnTo>
                  <a:pt x="15" y="46"/>
                </a:lnTo>
                <a:lnTo>
                  <a:pt x="14" y="42"/>
                </a:lnTo>
                <a:lnTo>
                  <a:pt x="13" y="42"/>
                </a:lnTo>
                <a:lnTo>
                  <a:pt x="1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8" name=""/>
          <p:cNvSpPr/>
          <p:nvPr/>
        </p:nvSpPr>
        <p:spPr>
          <a:xfrm>
            <a:off x="5157720" y="3149640"/>
            <a:ext cx="42840" cy="74520"/>
          </a:xfrm>
          <a:custGeom>
            <a:avLst/>
            <a:gdLst/>
            <a:ahLst/>
            <a:rect l="l" t="t" r="r" b="b"/>
            <a:pathLst>
              <a:path w="27" h="47">
                <a:moveTo>
                  <a:pt x="5" y="47"/>
                </a:moveTo>
                <a:lnTo>
                  <a:pt x="5" y="28"/>
                </a:lnTo>
                <a:lnTo>
                  <a:pt x="5" y="25"/>
                </a:lnTo>
                <a:lnTo>
                  <a:pt x="7" y="23"/>
                </a:lnTo>
                <a:lnTo>
                  <a:pt x="7" y="20"/>
                </a:lnTo>
                <a:lnTo>
                  <a:pt x="10" y="18"/>
                </a:lnTo>
                <a:lnTo>
                  <a:pt x="11" y="18"/>
                </a:lnTo>
                <a:lnTo>
                  <a:pt x="14" y="17"/>
                </a:lnTo>
                <a:lnTo>
                  <a:pt x="17" y="18"/>
                </a:lnTo>
                <a:lnTo>
                  <a:pt x="20" y="20"/>
                </a:lnTo>
                <a:lnTo>
                  <a:pt x="20" y="23"/>
                </a:lnTo>
                <a:lnTo>
                  <a:pt x="21" y="25"/>
                </a:lnTo>
                <a:lnTo>
                  <a:pt x="21" y="47"/>
                </a:lnTo>
                <a:lnTo>
                  <a:pt x="27" y="47"/>
                </a:lnTo>
                <a:lnTo>
                  <a:pt x="27" y="25"/>
                </a:lnTo>
                <a:lnTo>
                  <a:pt x="25" y="21"/>
                </a:lnTo>
                <a:lnTo>
                  <a:pt x="25" y="18"/>
                </a:lnTo>
                <a:lnTo>
                  <a:pt x="24" y="15"/>
                </a:lnTo>
                <a:lnTo>
                  <a:pt x="21" y="14"/>
                </a:lnTo>
                <a:lnTo>
                  <a:pt x="18" y="13"/>
                </a:lnTo>
                <a:lnTo>
                  <a:pt x="15" y="13"/>
                </a:lnTo>
                <a:lnTo>
                  <a:pt x="11" y="13"/>
                </a:lnTo>
                <a:lnTo>
                  <a:pt x="8" y="14"/>
                </a:lnTo>
                <a:lnTo>
                  <a:pt x="5" y="17"/>
                </a:lnTo>
                <a:lnTo>
                  <a:pt x="5" y="0"/>
                </a:lnTo>
                <a:lnTo>
                  <a:pt x="0" y="0"/>
                </a:lnTo>
                <a:lnTo>
                  <a:pt x="0" y="47"/>
                </a:lnTo>
                <a:lnTo>
                  <a:pt x="5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9" name=""/>
          <p:cNvSpPr/>
          <p:nvPr/>
        </p:nvSpPr>
        <p:spPr>
          <a:xfrm>
            <a:off x="5210280" y="3170160"/>
            <a:ext cx="47520" cy="55800"/>
          </a:xfrm>
          <a:custGeom>
            <a:avLst/>
            <a:gdLst/>
            <a:ahLst/>
            <a:rect l="l" t="t" r="r" b="b"/>
            <a:pathLst>
              <a:path w="30" h="35">
                <a:moveTo>
                  <a:pt x="21" y="28"/>
                </a:moveTo>
                <a:lnTo>
                  <a:pt x="18" y="30"/>
                </a:lnTo>
                <a:lnTo>
                  <a:pt x="15" y="31"/>
                </a:lnTo>
                <a:lnTo>
                  <a:pt x="12" y="30"/>
                </a:lnTo>
                <a:lnTo>
                  <a:pt x="8" y="28"/>
                </a:lnTo>
                <a:lnTo>
                  <a:pt x="7" y="24"/>
                </a:lnTo>
                <a:lnTo>
                  <a:pt x="5" y="18"/>
                </a:lnTo>
                <a:lnTo>
                  <a:pt x="30" y="18"/>
                </a:lnTo>
                <a:lnTo>
                  <a:pt x="30" y="18"/>
                </a:lnTo>
                <a:lnTo>
                  <a:pt x="30" y="17"/>
                </a:lnTo>
                <a:lnTo>
                  <a:pt x="30" y="12"/>
                </a:lnTo>
                <a:lnTo>
                  <a:pt x="28" y="8"/>
                </a:lnTo>
                <a:lnTo>
                  <a:pt x="27" y="4"/>
                </a:lnTo>
                <a:lnTo>
                  <a:pt x="23" y="1"/>
                </a:lnTo>
                <a:lnTo>
                  <a:pt x="20" y="0"/>
                </a:lnTo>
                <a:lnTo>
                  <a:pt x="15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2" y="8"/>
                </a:lnTo>
                <a:lnTo>
                  <a:pt x="1" y="12"/>
                </a:lnTo>
                <a:lnTo>
                  <a:pt x="0" y="18"/>
                </a:lnTo>
                <a:lnTo>
                  <a:pt x="1" y="23"/>
                </a:lnTo>
                <a:lnTo>
                  <a:pt x="2" y="27"/>
                </a:lnTo>
                <a:lnTo>
                  <a:pt x="4" y="31"/>
                </a:lnTo>
                <a:lnTo>
                  <a:pt x="7" y="33"/>
                </a:lnTo>
                <a:lnTo>
                  <a:pt x="11" y="35"/>
                </a:lnTo>
                <a:lnTo>
                  <a:pt x="15" y="35"/>
                </a:lnTo>
                <a:lnTo>
                  <a:pt x="21" y="34"/>
                </a:lnTo>
                <a:lnTo>
                  <a:pt x="25" y="33"/>
                </a:lnTo>
                <a:lnTo>
                  <a:pt x="28" y="28"/>
                </a:lnTo>
                <a:lnTo>
                  <a:pt x="30" y="24"/>
                </a:lnTo>
                <a:lnTo>
                  <a:pt x="24" y="24"/>
                </a:lnTo>
                <a:lnTo>
                  <a:pt x="23" y="27"/>
                </a:lnTo>
                <a:lnTo>
                  <a:pt x="21" y="28"/>
                </a:lnTo>
                <a:close/>
                <a:moveTo>
                  <a:pt x="10" y="7"/>
                </a:moveTo>
                <a:lnTo>
                  <a:pt x="12" y="5"/>
                </a:lnTo>
                <a:lnTo>
                  <a:pt x="15" y="4"/>
                </a:lnTo>
                <a:lnTo>
                  <a:pt x="20" y="5"/>
                </a:lnTo>
                <a:lnTo>
                  <a:pt x="23" y="8"/>
                </a:lnTo>
                <a:lnTo>
                  <a:pt x="24" y="11"/>
                </a:lnTo>
                <a:lnTo>
                  <a:pt x="24" y="14"/>
                </a:lnTo>
                <a:lnTo>
                  <a:pt x="7" y="14"/>
                </a:lnTo>
                <a:lnTo>
                  <a:pt x="7" y="10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0" name=""/>
          <p:cNvSpPr/>
          <p:nvPr/>
        </p:nvSpPr>
        <p:spPr>
          <a:xfrm>
            <a:off x="5265720" y="317016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5" y="33"/>
                </a:moveTo>
                <a:lnTo>
                  <a:pt x="6" y="34"/>
                </a:lnTo>
                <a:lnTo>
                  <a:pt x="10" y="35"/>
                </a:lnTo>
                <a:lnTo>
                  <a:pt x="13" y="35"/>
                </a:lnTo>
                <a:lnTo>
                  <a:pt x="18" y="35"/>
                </a:lnTo>
                <a:lnTo>
                  <a:pt x="20" y="34"/>
                </a:lnTo>
                <a:lnTo>
                  <a:pt x="23" y="33"/>
                </a:lnTo>
                <a:lnTo>
                  <a:pt x="26" y="30"/>
                </a:lnTo>
                <a:lnTo>
                  <a:pt x="26" y="27"/>
                </a:lnTo>
                <a:lnTo>
                  <a:pt x="28" y="24"/>
                </a:lnTo>
                <a:lnTo>
                  <a:pt x="26" y="21"/>
                </a:lnTo>
                <a:lnTo>
                  <a:pt x="26" y="20"/>
                </a:lnTo>
                <a:lnTo>
                  <a:pt x="25" y="18"/>
                </a:lnTo>
                <a:lnTo>
                  <a:pt x="22" y="17"/>
                </a:lnTo>
                <a:lnTo>
                  <a:pt x="19" y="15"/>
                </a:lnTo>
                <a:lnTo>
                  <a:pt x="13" y="14"/>
                </a:lnTo>
                <a:lnTo>
                  <a:pt x="10" y="12"/>
                </a:lnTo>
                <a:lnTo>
                  <a:pt x="9" y="12"/>
                </a:lnTo>
                <a:lnTo>
                  <a:pt x="8" y="11"/>
                </a:lnTo>
                <a:lnTo>
                  <a:pt x="8" y="11"/>
                </a:lnTo>
                <a:lnTo>
                  <a:pt x="6" y="10"/>
                </a:lnTo>
                <a:lnTo>
                  <a:pt x="6" y="8"/>
                </a:lnTo>
                <a:lnTo>
                  <a:pt x="6" y="7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0" y="8"/>
                </a:lnTo>
                <a:lnTo>
                  <a:pt x="20" y="10"/>
                </a:lnTo>
                <a:lnTo>
                  <a:pt x="26" y="10"/>
                </a:lnTo>
                <a:lnTo>
                  <a:pt x="25" y="7"/>
                </a:lnTo>
                <a:lnTo>
                  <a:pt x="23" y="4"/>
                </a:lnTo>
                <a:lnTo>
                  <a:pt x="22" y="2"/>
                </a:lnTo>
                <a:lnTo>
                  <a:pt x="19" y="1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6" y="1"/>
                </a:lnTo>
                <a:lnTo>
                  <a:pt x="5" y="2"/>
                </a:lnTo>
                <a:lnTo>
                  <a:pt x="3" y="4"/>
                </a:lnTo>
                <a:lnTo>
                  <a:pt x="2" y="5"/>
                </a:lnTo>
                <a:lnTo>
                  <a:pt x="0" y="7"/>
                </a:lnTo>
                <a:lnTo>
                  <a:pt x="0" y="10"/>
                </a:lnTo>
                <a:lnTo>
                  <a:pt x="0" y="12"/>
                </a:lnTo>
                <a:lnTo>
                  <a:pt x="2" y="14"/>
                </a:lnTo>
                <a:lnTo>
                  <a:pt x="3" y="15"/>
                </a:lnTo>
                <a:lnTo>
                  <a:pt x="6" y="17"/>
                </a:lnTo>
                <a:lnTo>
                  <a:pt x="9" y="18"/>
                </a:lnTo>
                <a:lnTo>
                  <a:pt x="15" y="20"/>
                </a:lnTo>
                <a:lnTo>
                  <a:pt x="18" y="21"/>
                </a:lnTo>
                <a:lnTo>
                  <a:pt x="20" y="23"/>
                </a:lnTo>
                <a:lnTo>
                  <a:pt x="20" y="24"/>
                </a:lnTo>
                <a:lnTo>
                  <a:pt x="22" y="25"/>
                </a:lnTo>
                <a:lnTo>
                  <a:pt x="20" y="27"/>
                </a:lnTo>
                <a:lnTo>
                  <a:pt x="19" y="28"/>
                </a:lnTo>
                <a:lnTo>
                  <a:pt x="18" y="30"/>
                </a:lnTo>
                <a:lnTo>
                  <a:pt x="13" y="31"/>
                </a:lnTo>
                <a:lnTo>
                  <a:pt x="10" y="30"/>
                </a:lnTo>
                <a:lnTo>
                  <a:pt x="8" y="28"/>
                </a:lnTo>
                <a:lnTo>
                  <a:pt x="6" y="27"/>
                </a:lnTo>
                <a:lnTo>
                  <a:pt x="5" y="24"/>
                </a:lnTo>
                <a:lnTo>
                  <a:pt x="0" y="24"/>
                </a:lnTo>
                <a:lnTo>
                  <a:pt x="2" y="30"/>
                </a:lnTo>
                <a:lnTo>
                  <a:pt x="5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1" name=""/>
          <p:cNvSpPr/>
          <p:nvPr/>
        </p:nvSpPr>
        <p:spPr>
          <a:xfrm>
            <a:off x="5318280" y="3149640"/>
            <a:ext cx="9360" cy="74520"/>
          </a:xfrm>
          <a:custGeom>
            <a:avLst/>
            <a:gdLst/>
            <a:ahLst/>
            <a:rect l="l" t="t" r="r" b="b"/>
            <a:pathLst>
              <a:path w="6" h="47">
                <a:moveTo>
                  <a:pt x="6" y="7"/>
                </a:move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close/>
                <a:moveTo>
                  <a:pt x="6" y="47"/>
                </a:moveTo>
                <a:lnTo>
                  <a:pt x="6" y="13"/>
                </a:lnTo>
                <a:lnTo>
                  <a:pt x="0" y="13"/>
                </a:lnTo>
                <a:lnTo>
                  <a:pt x="0" y="47"/>
                </a:lnTo>
                <a:lnTo>
                  <a:pt x="6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2" name=""/>
          <p:cNvSpPr/>
          <p:nvPr/>
        </p:nvSpPr>
        <p:spPr>
          <a:xfrm>
            <a:off x="5337000" y="317016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4" y="33"/>
                </a:moveTo>
                <a:lnTo>
                  <a:pt x="7" y="34"/>
                </a:lnTo>
                <a:lnTo>
                  <a:pt x="11" y="35"/>
                </a:lnTo>
                <a:lnTo>
                  <a:pt x="14" y="35"/>
                </a:lnTo>
                <a:lnTo>
                  <a:pt x="18" y="35"/>
                </a:lnTo>
                <a:lnTo>
                  <a:pt x="21" y="34"/>
                </a:lnTo>
                <a:lnTo>
                  <a:pt x="24" y="33"/>
                </a:lnTo>
                <a:lnTo>
                  <a:pt x="25" y="30"/>
                </a:lnTo>
                <a:lnTo>
                  <a:pt x="27" y="27"/>
                </a:lnTo>
                <a:lnTo>
                  <a:pt x="28" y="24"/>
                </a:lnTo>
                <a:lnTo>
                  <a:pt x="27" y="21"/>
                </a:lnTo>
                <a:lnTo>
                  <a:pt x="27" y="20"/>
                </a:lnTo>
                <a:lnTo>
                  <a:pt x="25" y="18"/>
                </a:lnTo>
                <a:lnTo>
                  <a:pt x="23" y="17"/>
                </a:lnTo>
                <a:lnTo>
                  <a:pt x="20" y="15"/>
                </a:lnTo>
                <a:lnTo>
                  <a:pt x="14" y="14"/>
                </a:lnTo>
                <a:lnTo>
                  <a:pt x="11" y="12"/>
                </a:lnTo>
                <a:lnTo>
                  <a:pt x="10" y="12"/>
                </a:lnTo>
                <a:lnTo>
                  <a:pt x="8" y="11"/>
                </a:lnTo>
                <a:lnTo>
                  <a:pt x="7" y="11"/>
                </a:lnTo>
                <a:lnTo>
                  <a:pt x="7" y="10"/>
                </a:lnTo>
                <a:lnTo>
                  <a:pt x="7" y="8"/>
                </a:lnTo>
                <a:lnTo>
                  <a:pt x="7" y="7"/>
                </a:lnTo>
                <a:lnTo>
                  <a:pt x="8" y="5"/>
                </a:lnTo>
                <a:lnTo>
                  <a:pt x="11" y="5"/>
                </a:lnTo>
                <a:lnTo>
                  <a:pt x="14" y="4"/>
                </a:lnTo>
                <a:lnTo>
                  <a:pt x="17" y="5"/>
                </a:lnTo>
                <a:lnTo>
                  <a:pt x="18" y="5"/>
                </a:lnTo>
                <a:lnTo>
                  <a:pt x="20" y="8"/>
                </a:lnTo>
                <a:lnTo>
                  <a:pt x="21" y="10"/>
                </a:lnTo>
                <a:lnTo>
                  <a:pt x="27" y="10"/>
                </a:lnTo>
                <a:lnTo>
                  <a:pt x="25" y="7"/>
                </a:lnTo>
                <a:lnTo>
                  <a:pt x="24" y="4"/>
                </a:lnTo>
                <a:lnTo>
                  <a:pt x="23" y="2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  <a:lnTo>
                  <a:pt x="7" y="1"/>
                </a:lnTo>
                <a:lnTo>
                  <a:pt x="5" y="2"/>
                </a:lnTo>
                <a:lnTo>
                  <a:pt x="4" y="4"/>
                </a:lnTo>
                <a:lnTo>
                  <a:pt x="3" y="5"/>
                </a:lnTo>
                <a:lnTo>
                  <a:pt x="1" y="7"/>
                </a:lnTo>
                <a:lnTo>
                  <a:pt x="1" y="10"/>
                </a:lnTo>
                <a:lnTo>
                  <a:pt x="1" y="12"/>
                </a:lnTo>
                <a:lnTo>
                  <a:pt x="3" y="14"/>
                </a:lnTo>
                <a:lnTo>
                  <a:pt x="4" y="15"/>
                </a:lnTo>
                <a:lnTo>
                  <a:pt x="7" y="17"/>
                </a:lnTo>
                <a:lnTo>
                  <a:pt x="10" y="18"/>
                </a:lnTo>
                <a:lnTo>
                  <a:pt x="14" y="20"/>
                </a:lnTo>
                <a:lnTo>
                  <a:pt x="18" y="21"/>
                </a:lnTo>
                <a:lnTo>
                  <a:pt x="20" y="23"/>
                </a:lnTo>
                <a:lnTo>
                  <a:pt x="21" y="24"/>
                </a:lnTo>
                <a:lnTo>
                  <a:pt x="23" y="25"/>
                </a:lnTo>
                <a:lnTo>
                  <a:pt x="21" y="27"/>
                </a:lnTo>
                <a:lnTo>
                  <a:pt x="20" y="28"/>
                </a:lnTo>
                <a:lnTo>
                  <a:pt x="18" y="30"/>
                </a:lnTo>
                <a:lnTo>
                  <a:pt x="14" y="31"/>
                </a:lnTo>
                <a:lnTo>
                  <a:pt x="11" y="30"/>
                </a:lnTo>
                <a:lnTo>
                  <a:pt x="8" y="28"/>
                </a:lnTo>
                <a:lnTo>
                  <a:pt x="7" y="27"/>
                </a:lnTo>
                <a:lnTo>
                  <a:pt x="5" y="24"/>
                </a:lnTo>
                <a:lnTo>
                  <a:pt x="0" y="24"/>
                </a:lnTo>
                <a:lnTo>
                  <a:pt x="3" y="30"/>
                </a:lnTo>
                <a:lnTo>
                  <a:pt x="4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3" name=""/>
          <p:cNvSpPr/>
          <p:nvPr/>
        </p:nvSpPr>
        <p:spPr>
          <a:xfrm>
            <a:off x="1022400" y="257508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2" y="36"/>
                </a:moveTo>
                <a:lnTo>
                  <a:pt x="5" y="37"/>
                </a:lnTo>
                <a:lnTo>
                  <a:pt x="8" y="39"/>
                </a:lnTo>
                <a:lnTo>
                  <a:pt x="11" y="40"/>
                </a:lnTo>
                <a:lnTo>
                  <a:pt x="15" y="39"/>
                </a:lnTo>
                <a:lnTo>
                  <a:pt x="18" y="37"/>
                </a:lnTo>
                <a:lnTo>
                  <a:pt x="21" y="34"/>
                </a:lnTo>
                <a:lnTo>
                  <a:pt x="23" y="30"/>
                </a:lnTo>
                <a:lnTo>
                  <a:pt x="24" y="26"/>
                </a:lnTo>
                <a:lnTo>
                  <a:pt x="24" y="20"/>
                </a:lnTo>
                <a:lnTo>
                  <a:pt x="24" y="14"/>
                </a:lnTo>
                <a:lnTo>
                  <a:pt x="23" y="10"/>
                </a:lnTo>
                <a:lnTo>
                  <a:pt x="23" y="7"/>
                </a:lnTo>
                <a:lnTo>
                  <a:pt x="21" y="4"/>
                </a:lnTo>
                <a:lnTo>
                  <a:pt x="20" y="3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lnTo>
                  <a:pt x="2" y="4"/>
                </a:lnTo>
                <a:lnTo>
                  <a:pt x="1" y="9"/>
                </a:lnTo>
                <a:lnTo>
                  <a:pt x="0" y="13"/>
                </a:lnTo>
                <a:lnTo>
                  <a:pt x="0" y="20"/>
                </a:lnTo>
                <a:lnTo>
                  <a:pt x="0" y="26"/>
                </a:lnTo>
                <a:lnTo>
                  <a:pt x="1" y="32"/>
                </a:lnTo>
                <a:lnTo>
                  <a:pt x="2" y="36"/>
                </a:lnTo>
                <a:close/>
                <a:moveTo>
                  <a:pt x="7" y="6"/>
                </a:moveTo>
                <a:lnTo>
                  <a:pt x="8" y="4"/>
                </a:lnTo>
                <a:lnTo>
                  <a:pt x="11" y="3"/>
                </a:lnTo>
                <a:lnTo>
                  <a:pt x="14" y="4"/>
                </a:lnTo>
                <a:lnTo>
                  <a:pt x="17" y="7"/>
                </a:lnTo>
                <a:lnTo>
                  <a:pt x="18" y="10"/>
                </a:lnTo>
                <a:lnTo>
                  <a:pt x="18" y="14"/>
                </a:lnTo>
                <a:lnTo>
                  <a:pt x="20" y="20"/>
                </a:lnTo>
                <a:lnTo>
                  <a:pt x="18" y="26"/>
                </a:lnTo>
                <a:lnTo>
                  <a:pt x="18" y="30"/>
                </a:lnTo>
                <a:lnTo>
                  <a:pt x="17" y="33"/>
                </a:lnTo>
                <a:lnTo>
                  <a:pt x="14" y="34"/>
                </a:lnTo>
                <a:lnTo>
                  <a:pt x="11" y="36"/>
                </a:lnTo>
                <a:lnTo>
                  <a:pt x="8" y="34"/>
                </a:lnTo>
                <a:lnTo>
                  <a:pt x="7" y="33"/>
                </a:lnTo>
                <a:lnTo>
                  <a:pt x="5" y="30"/>
                </a:lnTo>
                <a:lnTo>
                  <a:pt x="4" y="26"/>
                </a:lnTo>
                <a:lnTo>
                  <a:pt x="4" y="20"/>
                </a:lnTo>
                <a:lnTo>
                  <a:pt x="4" y="14"/>
                </a:lnTo>
                <a:lnTo>
                  <a:pt x="5" y="10"/>
                </a:lnTo>
                <a:lnTo>
                  <a:pt x="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4" name=""/>
          <p:cNvSpPr/>
          <p:nvPr/>
        </p:nvSpPr>
        <p:spPr>
          <a:xfrm>
            <a:off x="5484960" y="2503440"/>
            <a:ext cx="27000" cy="25560"/>
          </a:xfrm>
          <a:custGeom>
            <a:avLst/>
            <a:gdLst/>
            <a:ahLst/>
            <a:rect l="l" t="t" r="r" b="b"/>
            <a:pathLst>
              <a:path w="17" h="16">
                <a:moveTo>
                  <a:pt x="5" y="9"/>
                </a:moveTo>
                <a:lnTo>
                  <a:pt x="4" y="12"/>
                </a:lnTo>
                <a:lnTo>
                  <a:pt x="1" y="15"/>
                </a:lnTo>
                <a:lnTo>
                  <a:pt x="5" y="16"/>
                </a:lnTo>
                <a:lnTo>
                  <a:pt x="7" y="15"/>
                </a:lnTo>
                <a:lnTo>
                  <a:pt x="8" y="11"/>
                </a:lnTo>
                <a:lnTo>
                  <a:pt x="10" y="15"/>
                </a:lnTo>
                <a:lnTo>
                  <a:pt x="11" y="16"/>
                </a:lnTo>
                <a:lnTo>
                  <a:pt x="15" y="15"/>
                </a:lnTo>
                <a:lnTo>
                  <a:pt x="13" y="12"/>
                </a:lnTo>
                <a:lnTo>
                  <a:pt x="10" y="9"/>
                </a:lnTo>
                <a:lnTo>
                  <a:pt x="14" y="9"/>
                </a:lnTo>
                <a:lnTo>
                  <a:pt x="17" y="8"/>
                </a:lnTo>
                <a:lnTo>
                  <a:pt x="15" y="5"/>
                </a:lnTo>
                <a:lnTo>
                  <a:pt x="13" y="5"/>
                </a:lnTo>
                <a:lnTo>
                  <a:pt x="10" y="6"/>
                </a:lnTo>
                <a:lnTo>
                  <a:pt x="10" y="3"/>
                </a:lnTo>
                <a:lnTo>
                  <a:pt x="10" y="0"/>
                </a:lnTo>
                <a:lnTo>
                  <a:pt x="7" y="0"/>
                </a:lnTo>
                <a:lnTo>
                  <a:pt x="7" y="2"/>
                </a:lnTo>
                <a:lnTo>
                  <a:pt x="7" y="6"/>
                </a:lnTo>
                <a:lnTo>
                  <a:pt x="4" y="6"/>
                </a:lnTo>
                <a:lnTo>
                  <a:pt x="1" y="5"/>
                </a:lnTo>
                <a:lnTo>
                  <a:pt x="0" y="8"/>
                </a:lnTo>
                <a:lnTo>
                  <a:pt x="2" y="9"/>
                </a:lnTo>
                <a:lnTo>
                  <a:pt x="5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5" name=""/>
          <p:cNvSpPr/>
          <p:nvPr/>
        </p:nvSpPr>
        <p:spPr>
          <a:xfrm>
            <a:off x="5273640" y="2538360"/>
            <a:ext cx="65160" cy="745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4" y="47"/>
                </a:moveTo>
                <a:lnTo>
                  <a:pt x="41" y="0"/>
                </a:lnTo>
                <a:lnTo>
                  <a:pt x="35" y="0"/>
                </a:lnTo>
                <a:lnTo>
                  <a:pt x="23" y="34"/>
                </a:lnTo>
                <a:lnTo>
                  <a:pt x="21" y="39"/>
                </a:lnTo>
                <a:lnTo>
                  <a:pt x="20" y="43"/>
                </a:lnTo>
                <a:lnTo>
                  <a:pt x="20" y="39"/>
                </a:lnTo>
                <a:lnTo>
                  <a:pt x="18" y="34"/>
                </a:lnTo>
                <a:lnTo>
                  <a:pt x="5" y="0"/>
                </a:lnTo>
                <a:lnTo>
                  <a:pt x="0" y="0"/>
                </a:lnTo>
                <a:lnTo>
                  <a:pt x="17" y="47"/>
                </a:lnTo>
                <a:lnTo>
                  <a:pt x="24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6" name=""/>
          <p:cNvSpPr/>
          <p:nvPr/>
        </p:nvSpPr>
        <p:spPr>
          <a:xfrm>
            <a:off x="5373720" y="2538360"/>
            <a:ext cx="23760" cy="98640"/>
          </a:xfrm>
          <a:custGeom>
            <a:avLst/>
            <a:gdLst/>
            <a:ahLst/>
            <a:rect l="l" t="t" r="r" b="b"/>
            <a:pathLst>
              <a:path w="15" h="62">
                <a:moveTo>
                  <a:pt x="15" y="62"/>
                </a:moveTo>
                <a:lnTo>
                  <a:pt x="8" y="46"/>
                </a:lnTo>
                <a:lnTo>
                  <a:pt x="5" y="30"/>
                </a:lnTo>
                <a:lnTo>
                  <a:pt x="7" y="24"/>
                </a:lnTo>
                <a:lnTo>
                  <a:pt x="7" y="19"/>
                </a:lnTo>
                <a:lnTo>
                  <a:pt x="8" y="14"/>
                </a:lnTo>
                <a:lnTo>
                  <a:pt x="10" y="10"/>
                </a:lnTo>
                <a:lnTo>
                  <a:pt x="11" y="7"/>
                </a:lnTo>
                <a:lnTo>
                  <a:pt x="12" y="4"/>
                </a:lnTo>
                <a:lnTo>
                  <a:pt x="15" y="0"/>
                </a:lnTo>
                <a:lnTo>
                  <a:pt x="11" y="0"/>
                </a:lnTo>
                <a:lnTo>
                  <a:pt x="5" y="9"/>
                </a:lnTo>
                <a:lnTo>
                  <a:pt x="2" y="16"/>
                </a:lnTo>
                <a:lnTo>
                  <a:pt x="1" y="23"/>
                </a:lnTo>
                <a:lnTo>
                  <a:pt x="0" y="30"/>
                </a:lnTo>
                <a:lnTo>
                  <a:pt x="1" y="39"/>
                </a:lnTo>
                <a:lnTo>
                  <a:pt x="4" y="47"/>
                </a:lnTo>
                <a:lnTo>
                  <a:pt x="7" y="56"/>
                </a:lnTo>
                <a:lnTo>
                  <a:pt x="11" y="62"/>
                </a:lnTo>
                <a:lnTo>
                  <a:pt x="15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7" name=""/>
          <p:cNvSpPr/>
          <p:nvPr/>
        </p:nvSpPr>
        <p:spPr>
          <a:xfrm>
            <a:off x="5603760" y="2538360"/>
            <a:ext cx="23760" cy="98640"/>
          </a:xfrm>
          <a:custGeom>
            <a:avLst/>
            <a:gdLst/>
            <a:ahLst/>
            <a:rect l="l" t="t" r="r" b="b"/>
            <a:pathLst>
              <a:path w="15" h="62">
                <a:moveTo>
                  <a:pt x="12" y="47"/>
                </a:moveTo>
                <a:lnTo>
                  <a:pt x="13" y="39"/>
                </a:lnTo>
                <a:lnTo>
                  <a:pt x="15" y="30"/>
                </a:lnTo>
                <a:lnTo>
                  <a:pt x="15" y="23"/>
                </a:lnTo>
                <a:lnTo>
                  <a:pt x="12" y="16"/>
                </a:lnTo>
                <a:lnTo>
                  <a:pt x="9" y="9"/>
                </a:lnTo>
                <a:lnTo>
                  <a:pt x="3" y="0"/>
                </a:lnTo>
                <a:lnTo>
                  <a:pt x="0" y="0"/>
                </a:lnTo>
                <a:lnTo>
                  <a:pt x="2" y="4"/>
                </a:lnTo>
                <a:lnTo>
                  <a:pt x="3" y="7"/>
                </a:lnTo>
                <a:lnTo>
                  <a:pt x="5" y="10"/>
                </a:lnTo>
                <a:lnTo>
                  <a:pt x="6" y="14"/>
                </a:lnTo>
                <a:lnTo>
                  <a:pt x="8" y="19"/>
                </a:lnTo>
                <a:lnTo>
                  <a:pt x="9" y="24"/>
                </a:lnTo>
                <a:lnTo>
                  <a:pt x="9" y="30"/>
                </a:lnTo>
                <a:lnTo>
                  <a:pt x="6" y="46"/>
                </a:lnTo>
                <a:lnTo>
                  <a:pt x="0" y="62"/>
                </a:lnTo>
                <a:lnTo>
                  <a:pt x="3" y="62"/>
                </a:lnTo>
                <a:lnTo>
                  <a:pt x="8" y="56"/>
                </a:lnTo>
                <a:lnTo>
                  <a:pt x="12" y="4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8" name=""/>
          <p:cNvSpPr/>
          <p:nvPr/>
        </p:nvSpPr>
        <p:spPr>
          <a:xfrm>
            <a:off x="5359320" y="25034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7" y="11"/>
                </a:moveTo>
                <a:lnTo>
                  <a:pt x="4" y="12"/>
                </a:lnTo>
                <a:lnTo>
                  <a:pt x="3" y="15"/>
                </a:lnTo>
                <a:lnTo>
                  <a:pt x="6" y="18"/>
                </a:lnTo>
                <a:lnTo>
                  <a:pt x="7" y="15"/>
                </a:lnTo>
                <a:lnTo>
                  <a:pt x="9" y="12"/>
                </a:lnTo>
                <a:lnTo>
                  <a:pt x="10" y="15"/>
                </a:lnTo>
                <a:lnTo>
                  <a:pt x="11" y="18"/>
                </a:lnTo>
                <a:lnTo>
                  <a:pt x="16" y="15"/>
                </a:lnTo>
                <a:lnTo>
                  <a:pt x="13" y="12"/>
                </a:lnTo>
                <a:lnTo>
                  <a:pt x="11" y="11"/>
                </a:lnTo>
                <a:lnTo>
                  <a:pt x="14" y="9"/>
                </a:lnTo>
                <a:lnTo>
                  <a:pt x="17" y="9"/>
                </a:lnTo>
                <a:lnTo>
                  <a:pt x="16" y="5"/>
                </a:lnTo>
                <a:lnTo>
                  <a:pt x="13" y="6"/>
                </a:lnTo>
                <a:lnTo>
                  <a:pt x="10" y="8"/>
                </a:lnTo>
                <a:lnTo>
                  <a:pt x="10" y="3"/>
                </a:lnTo>
                <a:lnTo>
                  <a:pt x="10" y="0"/>
                </a:lnTo>
                <a:lnTo>
                  <a:pt x="7" y="0"/>
                </a:lnTo>
                <a:lnTo>
                  <a:pt x="7" y="3"/>
                </a:lnTo>
                <a:lnTo>
                  <a:pt x="7" y="8"/>
                </a:lnTo>
                <a:lnTo>
                  <a:pt x="4" y="6"/>
                </a:lnTo>
                <a:lnTo>
                  <a:pt x="1" y="5"/>
                </a:lnTo>
                <a:lnTo>
                  <a:pt x="0" y="9"/>
                </a:lnTo>
                <a:lnTo>
                  <a:pt x="3" y="9"/>
                </a:lnTo>
                <a:lnTo>
                  <a:pt x="7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9" name=""/>
          <p:cNvSpPr/>
          <p:nvPr/>
        </p:nvSpPr>
        <p:spPr>
          <a:xfrm>
            <a:off x="1511280" y="3435480"/>
            <a:ext cx="3171960" cy="2307960"/>
          </a:xfrm>
          <a:custGeom>
            <a:avLst/>
            <a:gdLst/>
            <a:ahLst/>
            <a:rect l="l" t="t" r="r" b="b"/>
            <a:pathLst>
              <a:path w="1998" h="1454">
                <a:moveTo>
                  <a:pt x="1998" y="0"/>
                </a:moveTo>
                <a:lnTo>
                  <a:pt x="1965" y="158"/>
                </a:lnTo>
                <a:lnTo>
                  <a:pt x="1931" y="306"/>
                </a:lnTo>
                <a:lnTo>
                  <a:pt x="1895" y="444"/>
                </a:lnTo>
                <a:lnTo>
                  <a:pt x="1856" y="575"/>
                </a:lnTo>
                <a:lnTo>
                  <a:pt x="1815" y="695"/>
                </a:lnTo>
                <a:lnTo>
                  <a:pt x="1772" y="807"/>
                </a:lnTo>
                <a:lnTo>
                  <a:pt x="1728" y="910"/>
                </a:lnTo>
                <a:lnTo>
                  <a:pt x="1680" y="1005"/>
                </a:lnTo>
                <a:lnTo>
                  <a:pt x="1630" y="1090"/>
                </a:lnTo>
                <a:lnTo>
                  <a:pt x="1579" y="1166"/>
                </a:lnTo>
                <a:lnTo>
                  <a:pt x="1526" y="1233"/>
                </a:lnTo>
                <a:lnTo>
                  <a:pt x="1470" y="1292"/>
                </a:lnTo>
                <a:lnTo>
                  <a:pt x="1412" y="1341"/>
                </a:lnTo>
                <a:lnTo>
                  <a:pt x="1352" y="1383"/>
                </a:lnTo>
                <a:lnTo>
                  <a:pt x="1290" y="1414"/>
                </a:lnTo>
                <a:lnTo>
                  <a:pt x="1226" y="1436"/>
                </a:lnTo>
                <a:lnTo>
                  <a:pt x="1159" y="1450"/>
                </a:lnTo>
                <a:lnTo>
                  <a:pt x="1090" y="1454"/>
                </a:lnTo>
                <a:lnTo>
                  <a:pt x="1018" y="1450"/>
                </a:lnTo>
                <a:lnTo>
                  <a:pt x="946" y="1437"/>
                </a:lnTo>
                <a:lnTo>
                  <a:pt x="871" y="1414"/>
                </a:lnTo>
                <a:lnTo>
                  <a:pt x="794" y="1383"/>
                </a:lnTo>
                <a:lnTo>
                  <a:pt x="714" y="1342"/>
                </a:lnTo>
                <a:lnTo>
                  <a:pt x="632" y="1294"/>
                </a:lnTo>
                <a:lnTo>
                  <a:pt x="550" y="1236"/>
                </a:lnTo>
                <a:lnTo>
                  <a:pt x="462" y="1169"/>
                </a:lnTo>
                <a:lnTo>
                  <a:pt x="375" y="1093"/>
                </a:lnTo>
                <a:lnTo>
                  <a:pt x="285" y="1008"/>
                </a:lnTo>
                <a:lnTo>
                  <a:pt x="192" y="913"/>
                </a:lnTo>
                <a:lnTo>
                  <a:pt x="98" y="811"/>
                </a:lnTo>
                <a:lnTo>
                  <a:pt x="0" y="6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0" name=""/>
          <p:cNvSpPr/>
          <p:nvPr/>
        </p:nvSpPr>
        <p:spPr>
          <a:xfrm>
            <a:off x="2693880" y="3932280"/>
            <a:ext cx="2274840" cy="2190600"/>
          </a:xfrm>
          <a:custGeom>
            <a:avLst/>
            <a:gdLst/>
            <a:ahLst/>
            <a:rect l="l" t="t" r="r" b="b"/>
            <a:pathLst>
              <a:path w="1433" h="1380">
                <a:moveTo>
                  <a:pt x="1433" y="0"/>
                </a:moveTo>
                <a:lnTo>
                  <a:pt x="1394" y="164"/>
                </a:lnTo>
                <a:lnTo>
                  <a:pt x="1356" y="316"/>
                </a:lnTo>
                <a:lnTo>
                  <a:pt x="1314" y="457"/>
                </a:lnTo>
                <a:lnTo>
                  <a:pt x="1273" y="589"/>
                </a:lnTo>
                <a:lnTo>
                  <a:pt x="1231" y="711"/>
                </a:lnTo>
                <a:lnTo>
                  <a:pt x="1187" y="823"/>
                </a:lnTo>
                <a:lnTo>
                  <a:pt x="1144" y="925"/>
                </a:lnTo>
                <a:lnTo>
                  <a:pt x="1098" y="1015"/>
                </a:lnTo>
                <a:lnTo>
                  <a:pt x="1053" y="1097"/>
                </a:lnTo>
                <a:lnTo>
                  <a:pt x="1006" y="1167"/>
                </a:lnTo>
                <a:lnTo>
                  <a:pt x="957" y="1228"/>
                </a:lnTo>
                <a:lnTo>
                  <a:pt x="908" y="1279"/>
                </a:lnTo>
                <a:lnTo>
                  <a:pt x="858" y="1319"/>
                </a:lnTo>
                <a:lnTo>
                  <a:pt x="808" y="1350"/>
                </a:lnTo>
                <a:lnTo>
                  <a:pt x="757" y="1370"/>
                </a:lnTo>
                <a:lnTo>
                  <a:pt x="704" y="1380"/>
                </a:lnTo>
                <a:lnTo>
                  <a:pt x="650" y="1380"/>
                </a:lnTo>
                <a:lnTo>
                  <a:pt x="595" y="1370"/>
                </a:lnTo>
                <a:lnTo>
                  <a:pt x="541" y="1350"/>
                </a:lnTo>
                <a:lnTo>
                  <a:pt x="484" y="1318"/>
                </a:lnTo>
                <a:lnTo>
                  <a:pt x="426" y="1278"/>
                </a:lnTo>
                <a:lnTo>
                  <a:pt x="369" y="1228"/>
                </a:lnTo>
                <a:lnTo>
                  <a:pt x="309" y="1166"/>
                </a:lnTo>
                <a:lnTo>
                  <a:pt x="249" y="1096"/>
                </a:lnTo>
                <a:lnTo>
                  <a:pt x="189" y="1014"/>
                </a:lnTo>
                <a:lnTo>
                  <a:pt x="126" y="922"/>
                </a:lnTo>
                <a:lnTo>
                  <a:pt x="63" y="820"/>
                </a:lnTo>
                <a:lnTo>
                  <a:pt x="0" y="7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1" name=""/>
          <p:cNvSpPr/>
          <p:nvPr/>
        </p:nvSpPr>
        <p:spPr>
          <a:xfrm>
            <a:off x="3728880" y="3557520"/>
            <a:ext cx="1219320" cy="1309680"/>
          </a:xfrm>
          <a:custGeom>
            <a:avLst/>
            <a:gdLst/>
            <a:ahLst/>
            <a:rect l="l" t="t" r="r" b="b"/>
            <a:pathLst>
              <a:path w="768" h="825">
                <a:moveTo>
                  <a:pt x="768" y="0"/>
                </a:moveTo>
                <a:lnTo>
                  <a:pt x="750" y="109"/>
                </a:lnTo>
                <a:lnTo>
                  <a:pt x="730" y="209"/>
                </a:lnTo>
                <a:lnTo>
                  <a:pt x="708" y="302"/>
                </a:lnTo>
                <a:lnTo>
                  <a:pt x="685" y="389"/>
                </a:lnTo>
                <a:lnTo>
                  <a:pt x="660" y="466"/>
                </a:lnTo>
                <a:lnTo>
                  <a:pt x="634" y="536"/>
                </a:lnTo>
                <a:lnTo>
                  <a:pt x="605" y="600"/>
                </a:lnTo>
                <a:lnTo>
                  <a:pt x="574" y="654"/>
                </a:lnTo>
                <a:lnTo>
                  <a:pt x="541" y="701"/>
                </a:lnTo>
                <a:lnTo>
                  <a:pt x="507" y="742"/>
                </a:lnTo>
                <a:lnTo>
                  <a:pt x="468" y="773"/>
                </a:lnTo>
                <a:lnTo>
                  <a:pt x="428" y="798"/>
                </a:lnTo>
                <a:lnTo>
                  <a:pt x="385" y="815"/>
                </a:lnTo>
                <a:lnTo>
                  <a:pt x="339" y="823"/>
                </a:lnTo>
                <a:lnTo>
                  <a:pt x="291" y="825"/>
                </a:lnTo>
                <a:lnTo>
                  <a:pt x="239" y="819"/>
                </a:lnTo>
                <a:lnTo>
                  <a:pt x="185" y="805"/>
                </a:lnTo>
                <a:lnTo>
                  <a:pt x="126" y="783"/>
                </a:lnTo>
                <a:lnTo>
                  <a:pt x="65" y="753"/>
                </a:lnTo>
                <a:lnTo>
                  <a:pt x="0" y="7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2" name=""/>
          <p:cNvSpPr/>
          <p:nvPr/>
        </p:nvSpPr>
        <p:spPr>
          <a:xfrm>
            <a:off x="684360" y="2620800"/>
            <a:ext cx="74520" cy="86040"/>
          </a:xfrm>
          <a:custGeom>
            <a:avLst/>
            <a:gdLst/>
            <a:ahLst/>
            <a:rect l="l" t="t" r="r" b="b"/>
            <a:pathLst>
              <a:path w="47" h="54">
                <a:moveTo>
                  <a:pt x="27" y="54"/>
                </a:moveTo>
                <a:lnTo>
                  <a:pt x="47" y="0"/>
                </a:lnTo>
                <a:lnTo>
                  <a:pt x="40" y="0"/>
                </a:lnTo>
                <a:lnTo>
                  <a:pt x="27" y="40"/>
                </a:lnTo>
                <a:lnTo>
                  <a:pt x="24" y="44"/>
                </a:lnTo>
                <a:lnTo>
                  <a:pt x="24" y="48"/>
                </a:lnTo>
                <a:lnTo>
                  <a:pt x="22" y="44"/>
                </a:lnTo>
                <a:lnTo>
                  <a:pt x="21" y="40"/>
                </a:lnTo>
                <a:lnTo>
                  <a:pt x="7" y="0"/>
                </a:lnTo>
                <a:lnTo>
                  <a:pt x="0" y="0"/>
                </a:lnTo>
                <a:lnTo>
                  <a:pt x="20" y="54"/>
                </a:lnTo>
                <a:lnTo>
                  <a:pt x="27" y="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3" name=""/>
          <p:cNvSpPr/>
          <p:nvPr/>
        </p:nvSpPr>
        <p:spPr>
          <a:xfrm>
            <a:off x="890640" y="2622600"/>
            <a:ext cx="31680" cy="111240"/>
          </a:xfrm>
          <a:custGeom>
            <a:avLst/>
            <a:gdLst/>
            <a:ahLst/>
            <a:rect l="l" t="t" r="r" b="b"/>
            <a:pathLst>
              <a:path w="20" h="70">
                <a:moveTo>
                  <a:pt x="13" y="60"/>
                </a:moveTo>
                <a:lnTo>
                  <a:pt x="10" y="56"/>
                </a:lnTo>
                <a:lnTo>
                  <a:pt x="8" y="49"/>
                </a:lnTo>
                <a:lnTo>
                  <a:pt x="7" y="42"/>
                </a:lnTo>
                <a:lnTo>
                  <a:pt x="7" y="35"/>
                </a:lnTo>
                <a:lnTo>
                  <a:pt x="7" y="27"/>
                </a:lnTo>
                <a:lnTo>
                  <a:pt x="8" y="20"/>
                </a:lnTo>
                <a:lnTo>
                  <a:pt x="10" y="13"/>
                </a:lnTo>
                <a:lnTo>
                  <a:pt x="13" y="9"/>
                </a:lnTo>
                <a:lnTo>
                  <a:pt x="15" y="4"/>
                </a:lnTo>
                <a:lnTo>
                  <a:pt x="20" y="2"/>
                </a:lnTo>
                <a:lnTo>
                  <a:pt x="20" y="0"/>
                </a:lnTo>
                <a:lnTo>
                  <a:pt x="14" y="3"/>
                </a:lnTo>
                <a:lnTo>
                  <a:pt x="10" y="7"/>
                </a:lnTo>
                <a:lnTo>
                  <a:pt x="5" y="13"/>
                </a:lnTo>
                <a:lnTo>
                  <a:pt x="3" y="20"/>
                </a:lnTo>
                <a:lnTo>
                  <a:pt x="1" y="27"/>
                </a:lnTo>
                <a:lnTo>
                  <a:pt x="0" y="35"/>
                </a:lnTo>
                <a:lnTo>
                  <a:pt x="1" y="42"/>
                </a:lnTo>
                <a:lnTo>
                  <a:pt x="3" y="49"/>
                </a:lnTo>
                <a:lnTo>
                  <a:pt x="5" y="56"/>
                </a:lnTo>
                <a:lnTo>
                  <a:pt x="10" y="62"/>
                </a:lnTo>
                <a:lnTo>
                  <a:pt x="14" y="66"/>
                </a:lnTo>
                <a:lnTo>
                  <a:pt x="20" y="70"/>
                </a:lnTo>
                <a:lnTo>
                  <a:pt x="20" y="69"/>
                </a:lnTo>
                <a:lnTo>
                  <a:pt x="15" y="65"/>
                </a:lnTo>
                <a:lnTo>
                  <a:pt x="13" y="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4" name=""/>
          <p:cNvSpPr/>
          <p:nvPr/>
        </p:nvSpPr>
        <p:spPr>
          <a:xfrm>
            <a:off x="927000" y="2625840"/>
            <a:ext cx="66600" cy="81000"/>
          </a:xfrm>
          <a:custGeom>
            <a:avLst/>
            <a:gdLst/>
            <a:ahLst/>
            <a:rect l="l" t="t" r="r" b="b"/>
            <a:pathLst>
              <a:path w="42" h="51">
                <a:moveTo>
                  <a:pt x="22" y="0"/>
                </a:moveTo>
                <a:lnTo>
                  <a:pt x="0" y="51"/>
                </a:lnTo>
                <a:lnTo>
                  <a:pt x="42" y="51"/>
                </a:lnTo>
                <a:lnTo>
                  <a:pt x="22" y="0"/>
                </a:lnTo>
                <a:close/>
                <a:moveTo>
                  <a:pt x="4" y="48"/>
                </a:moveTo>
                <a:lnTo>
                  <a:pt x="20" y="12"/>
                </a:lnTo>
                <a:lnTo>
                  <a:pt x="34" y="48"/>
                </a:lnTo>
                <a:lnTo>
                  <a:pt x="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5" name=""/>
          <p:cNvSpPr/>
          <p:nvPr/>
        </p:nvSpPr>
        <p:spPr>
          <a:xfrm>
            <a:off x="1087560" y="2622600"/>
            <a:ext cx="31680" cy="111240"/>
          </a:xfrm>
          <a:custGeom>
            <a:avLst/>
            <a:gdLst/>
            <a:ahLst/>
            <a:rect l="l" t="t" r="r" b="b"/>
            <a:pathLst>
              <a:path w="20" h="70">
                <a:moveTo>
                  <a:pt x="7" y="10"/>
                </a:moveTo>
                <a:lnTo>
                  <a:pt x="10" y="14"/>
                </a:lnTo>
                <a:lnTo>
                  <a:pt x="12" y="20"/>
                </a:lnTo>
                <a:lnTo>
                  <a:pt x="13" y="27"/>
                </a:lnTo>
                <a:lnTo>
                  <a:pt x="13" y="36"/>
                </a:lnTo>
                <a:lnTo>
                  <a:pt x="13" y="43"/>
                </a:lnTo>
                <a:lnTo>
                  <a:pt x="12" y="50"/>
                </a:lnTo>
                <a:lnTo>
                  <a:pt x="10" y="56"/>
                </a:lnTo>
                <a:lnTo>
                  <a:pt x="7" y="62"/>
                </a:lnTo>
                <a:lnTo>
                  <a:pt x="4" y="66"/>
                </a:lnTo>
                <a:lnTo>
                  <a:pt x="0" y="69"/>
                </a:lnTo>
                <a:lnTo>
                  <a:pt x="0" y="70"/>
                </a:lnTo>
                <a:lnTo>
                  <a:pt x="6" y="66"/>
                </a:lnTo>
                <a:lnTo>
                  <a:pt x="10" y="62"/>
                </a:lnTo>
                <a:lnTo>
                  <a:pt x="14" y="56"/>
                </a:lnTo>
                <a:lnTo>
                  <a:pt x="17" y="50"/>
                </a:lnTo>
                <a:lnTo>
                  <a:pt x="19" y="43"/>
                </a:lnTo>
                <a:lnTo>
                  <a:pt x="20" y="35"/>
                </a:lnTo>
                <a:lnTo>
                  <a:pt x="19" y="27"/>
                </a:lnTo>
                <a:lnTo>
                  <a:pt x="17" y="20"/>
                </a:lnTo>
                <a:lnTo>
                  <a:pt x="14" y="14"/>
                </a:lnTo>
                <a:lnTo>
                  <a:pt x="10" y="9"/>
                </a:lnTo>
                <a:lnTo>
                  <a:pt x="6" y="3"/>
                </a:lnTo>
                <a:lnTo>
                  <a:pt x="0" y="0"/>
                </a:lnTo>
                <a:lnTo>
                  <a:pt x="0" y="2"/>
                </a:lnTo>
                <a:lnTo>
                  <a:pt x="4" y="6"/>
                </a:lnTo>
                <a:lnTo>
                  <a:pt x="7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6" name=""/>
          <p:cNvSpPr/>
          <p:nvPr/>
        </p:nvSpPr>
        <p:spPr>
          <a:xfrm>
            <a:off x="1022400" y="2717640"/>
            <a:ext cx="42840" cy="55800"/>
          </a:xfrm>
          <a:custGeom>
            <a:avLst/>
            <a:gdLst/>
            <a:ahLst/>
            <a:rect l="l" t="t" r="r" b="b"/>
            <a:pathLst>
              <a:path w="27" h="35">
                <a:moveTo>
                  <a:pt x="5" y="35"/>
                </a:moveTo>
                <a:lnTo>
                  <a:pt x="5" y="16"/>
                </a:lnTo>
                <a:lnTo>
                  <a:pt x="5" y="12"/>
                </a:lnTo>
                <a:lnTo>
                  <a:pt x="7" y="9"/>
                </a:lnTo>
                <a:lnTo>
                  <a:pt x="8" y="8"/>
                </a:lnTo>
                <a:lnTo>
                  <a:pt x="11" y="5"/>
                </a:lnTo>
                <a:lnTo>
                  <a:pt x="14" y="5"/>
                </a:lnTo>
                <a:lnTo>
                  <a:pt x="17" y="5"/>
                </a:lnTo>
                <a:lnTo>
                  <a:pt x="18" y="6"/>
                </a:lnTo>
                <a:lnTo>
                  <a:pt x="20" y="8"/>
                </a:lnTo>
                <a:lnTo>
                  <a:pt x="20" y="9"/>
                </a:lnTo>
                <a:lnTo>
                  <a:pt x="21" y="10"/>
                </a:lnTo>
                <a:lnTo>
                  <a:pt x="21" y="13"/>
                </a:lnTo>
                <a:lnTo>
                  <a:pt x="21" y="35"/>
                </a:lnTo>
                <a:lnTo>
                  <a:pt x="27" y="35"/>
                </a:lnTo>
                <a:lnTo>
                  <a:pt x="27" y="13"/>
                </a:lnTo>
                <a:lnTo>
                  <a:pt x="27" y="10"/>
                </a:lnTo>
                <a:lnTo>
                  <a:pt x="27" y="8"/>
                </a:lnTo>
                <a:lnTo>
                  <a:pt x="25" y="6"/>
                </a:lnTo>
                <a:lnTo>
                  <a:pt x="24" y="3"/>
                </a:lnTo>
                <a:lnTo>
                  <a:pt x="23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1" y="0"/>
                </a:lnTo>
                <a:lnTo>
                  <a:pt x="8" y="2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  <a:lnTo>
                  <a:pt x="0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7" name=""/>
          <p:cNvSpPr/>
          <p:nvPr/>
        </p:nvSpPr>
        <p:spPr>
          <a:xfrm>
            <a:off x="5424480" y="2533680"/>
            <a:ext cx="68400" cy="84240"/>
          </a:xfrm>
          <a:custGeom>
            <a:avLst/>
            <a:gdLst/>
            <a:ahLst/>
            <a:rect l="l" t="t" r="r" b="b"/>
            <a:pathLst>
              <a:path w="43" h="53">
                <a:moveTo>
                  <a:pt x="22" y="0"/>
                </a:moveTo>
                <a:lnTo>
                  <a:pt x="0" y="53"/>
                </a:lnTo>
                <a:lnTo>
                  <a:pt x="43" y="53"/>
                </a:lnTo>
                <a:lnTo>
                  <a:pt x="22" y="0"/>
                </a:lnTo>
                <a:close/>
                <a:moveTo>
                  <a:pt x="5" y="49"/>
                </a:moveTo>
                <a:lnTo>
                  <a:pt x="20" y="13"/>
                </a:lnTo>
                <a:lnTo>
                  <a:pt x="35" y="49"/>
                </a:lnTo>
                <a:lnTo>
                  <a:pt x="5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8" name=""/>
          <p:cNvSpPr/>
          <p:nvPr/>
        </p:nvSpPr>
        <p:spPr>
          <a:xfrm>
            <a:off x="5513400" y="2627280"/>
            <a:ext cx="42840" cy="54000"/>
          </a:xfrm>
          <a:custGeom>
            <a:avLst/>
            <a:gdLst/>
            <a:ahLst/>
            <a:rect l="l" t="t" r="r" b="b"/>
            <a:pathLst>
              <a:path w="27" h="34">
                <a:moveTo>
                  <a:pt x="6" y="34"/>
                </a:moveTo>
                <a:lnTo>
                  <a:pt x="6" y="16"/>
                </a:lnTo>
                <a:lnTo>
                  <a:pt x="7" y="13"/>
                </a:lnTo>
                <a:lnTo>
                  <a:pt x="7" y="10"/>
                </a:lnTo>
                <a:lnTo>
                  <a:pt x="9" y="7"/>
                </a:lnTo>
                <a:lnTo>
                  <a:pt x="12" y="6"/>
                </a:lnTo>
                <a:lnTo>
                  <a:pt x="15" y="4"/>
                </a:lnTo>
                <a:lnTo>
                  <a:pt x="17" y="6"/>
                </a:lnTo>
                <a:lnTo>
                  <a:pt x="19" y="6"/>
                </a:lnTo>
                <a:lnTo>
                  <a:pt x="20" y="7"/>
                </a:lnTo>
                <a:lnTo>
                  <a:pt x="22" y="9"/>
                </a:lnTo>
                <a:lnTo>
                  <a:pt x="22" y="11"/>
                </a:lnTo>
                <a:lnTo>
                  <a:pt x="22" y="14"/>
                </a:lnTo>
                <a:lnTo>
                  <a:pt x="22" y="34"/>
                </a:lnTo>
                <a:lnTo>
                  <a:pt x="27" y="34"/>
                </a:lnTo>
                <a:lnTo>
                  <a:pt x="27" y="14"/>
                </a:lnTo>
                <a:lnTo>
                  <a:pt x="27" y="10"/>
                </a:lnTo>
                <a:lnTo>
                  <a:pt x="27" y="9"/>
                </a:lnTo>
                <a:lnTo>
                  <a:pt x="26" y="6"/>
                </a:lnTo>
                <a:lnTo>
                  <a:pt x="26" y="4"/>
                </a:lnTo>
                <a:lnTo>
                  <a:pt x="25" y="3"/>
                </a:lnTo>
                <a:lnTo>
                  <a:pt x="22" y="1"/>
                </a:lnTo>
                <a:lnTo>
                  <a:pt x="19" y="0"/>
                </a:lnTo>
                <a:lnTo>
                  <a:pt x="16" y="0"/>
                </a:lnTo>
                <a:lnTo>
                  <a:pt x="12" y="0"/>
                </a:lnTo>
                <a:lnTo>
                  <a:pt x="9" y="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0" y="34"/>
                </a:lnTo>
                <a:lnTo>
                  <a:pt x="6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9" name=""/>
          <p:cNvSpPr/>
          <p:nvPr/>
        </p:nvSpPr>
        <p:spPr>
          <a:xfrm>
            <a:off x="792000" y="2575080"/>
            <a:ext cx="39960" cy="63360"/>
          </a:xfrm>
          <a:custGeom>
            <a:avLst/>
            <a:gdLst/>
            <a:ahLst/>
            <a:rect l="l" t="t" r="r" b="b"/>
            <a:pathLst>
              <a:path w="25" h="40">
                <a:moveTo>
                  <a:pt x="5" y="36"/>
                </a:moveTo>
                <a:lnTo>
                  <a:pt x="6" y="39"/>
                </a:lnTo>
                <a:lnTo>
                  <a:pt x="9" y="40"/>
                </a:lnTo>
                <a:lnTo>
                  <a:pt x="13" y="40"/>
                </a:lnTo>
                <a:lnTo>
                  <a:pt x="16" y="39"/>
                </a:lnTo>
                <a:lnTo>
                  <a:pt x="19" y="37"/>
                </a:lnTo>
                <a:lnTo>
                  <a:pt x="22" y="34"/>
                </a:lnTo>
                <a:lnTo>
                  <a:pt x="23" y="32"/>
                </a:lnTo>
                <a:lnTo>
                  <a:pt x="25" y="26"/>
                </a:lnTo>
                <a:lnTo>
                  <a:pt x="25" y="20"/>
                </a:lnTo>
                <a:lnTo>
                  <a:pt x="25" y="14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20" y="3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6" y="1"/>
                </a:lnTo>
                <a:lnTo>
                  <a:pt x="3" y="4"/>
                </a:lnTo>
                <a:lnTo>
                  <a:pt x="2" y="9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2" y="32"/>
                </a:lnTo>
                <a:lnTo>
                  <a:pt x="5" y="36"/>
                </a:lnTo>
                <a:close/>
                <a:moveTo>
                  <a:pt x="7" y="7"/>
                </a:moveTo>
                <a:lnTo>
                  <a:pt x="10" y="4"/>
                </a:lnTo>
                <a:lnTo>
                  <a:pt x="13" y="4"/>
                </a:lnTo>
                <a:lnTo>
                  <a:pt x="16" y="4"/>
                </a:lnTo>
                <a:lnTo>
                  <a:pt x="17" y="7"/>
                </a:lnTo>
                <a:lnTo>
                  <a:pt x="19" y="10"/>
                </a:lnTo>
                <a:lnTo>
                  <a:pt x="20" y="14"/>
                </a:lnTo>
                <a:lnTo>
                  <a:pt x="20" y="20"/>
                </a:lnTo>
                <a:lnTo>
                  <a:pt x="20" y="26"/>
                </a:lnTo>
                <a:lnTo>
                  <a:pt x="19" y="30"/>
                </a:lnTo>
                <a:lnTo>
                  <a:pt x="17" y="33"/>
                </a:lnTo>
                <a:lnTo>
                  <a:pt x="16" y="36"/>
                </a:lnTo>
                <a:lnTo>
                  <a:pt x="13" y="36"/>
                </a:lnTo>
                <a:lnTo>
                  <a:pt x="10" y="36"/>
                </a:lnTo>
                <a:lnTo>
                  <a:pt x="7" y="33"/>
                </a:lnTo>
                <a:lnTo>
                  <a:pt x="6" y="30"/>
                </a:lnTo>
                <a:lnTo>
                  <a:pt x="6" y="26"/>
                </a:lnTo>
                <a:lnTo>
                  <a:pt x="5" y="20"/>
                </a:lnTo>
                <a:lnTo>
                  <a:pt x="6" y="14"/>
                </a:lnTo>
                <a:lnTo>
                  <a:pt x="6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0" name=""/>
          <p:cNvSpPr/>
          <p:nvPr/>
        </p:nvSpPr>
        <p:spPr>
          <a:xfrm>
            <a:off x="933480" y="364644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3" y="35"/>
                </a:moveTo>
                <a:lnTo>
                  <a:pt x="6" y="38"/>
                </a:lnTo>
                <a:lnTo>
                  <a:pt x="8" y="40"/>
                </a:lnTo>
                <a:lnTo>
                  <a:pt x="11" y="40"/>
                </a:lnTo>
                <a:lnTo>
                  <a:pt x="16" y="40"/>
                </a:lnTo>
                <a:lnTo>
                  <a:pt x="18" y="38"/>
                </a:lnTo>
                <a:lnTo>
                  <a:pt x="21" y="35"/>
                </a:lnTo>
                <a:lnTo>
                  <a:pt x="23" y="31"/>
                </a:lnTo>
                <a:lnTo>
                  <a:pt x="24" y="27"/>
                </a:lnTo>
                <a:lnTo>
                  <a:pt x="24" y="20"/>
                </a:lnTo>
                <a:lnTo>
                  <a:pt x="24" y="15"/>
                </a:lnTo>
                <a:lnTo>
                  <a:pt x="23" y="11"/>
                </a:lnTo>
                <a:lnTo>
                  <a:pt x="23" y="7"/>
                </a:lnTo>
                <a:lnTo>
                  <a:pt x="21" y="5"/>
                </a:lnTo>
                <a:lnTo>
                  <a:pt x="20" y="2"/>
                </a:lnTo>
                <a:lnTo>
                  <a:pt x="17" y="1"/>
                </a:lnTo>
                <a:lnTo>
                  <a:pt x="14" y="0"/>
                </a:lnTo>
                <a:lnTo>
                  <a:pt x="11" y="0"/>
                </a:lnTo>
                <a:lnTo>
                  <a:pt x="8" y="1"/>
                </a:lnTo>
                <a:lnTo>
                  <a:pt x="6" y="2"/>
                </a:lnTo>
                <a:lnTo>
                  <a:pt x="3" y="5"/>
                </a:lnTo>
                <a:lnTo>
                  <a:pt x="1" y="8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1" y="33"/>
                </a:lnTo>
                <a:lnTo>
                  <a:pt x="3" y="35"/>
                </a:lnTo>
                <a:close/>
                <a:moveTo>
                  <a:pt x="7" y="7"/>
                </a:moveTo>
                <a:lnTo>
                  <a:pt x="8" y="4"/>
                </a:lnTo>
                <a:lnTo>
                  <a:pt x="11" y="4"/>
                </a:lnTo>
                <a:lnTo>
                  <a:pt x="14" y="5"/>
                </a:lnTo>
                <a:lnTo>
                  <a:pt x="17" y="7"/>
                </a:lnTo>
                <a:lnTo>
                  <a:pt x="18" y="10"/>
                </a:lnTo>
                <a:lnTo>
                  <a:pt x="20" y="14"/>
                </a:lnTo>
                <a:lnTo>
                  <a:pt x="20" y="20"/>
                </a:lnTo>
                <a:lnTo>
                  <a:pt x="20" y="25"/>
                </a:lnTo>
                <a:lnTo>
                  <a:pt x="18" y="30"/>
                </a:lnTo>
                <a:lnTo>
                  <a:pt x="17" y="33"/>
                </a:lnTo>
                <a:lnTo>
                  <a:pt x="14" y="35"/>
                </a:lnTo>
                <a:lnTo>
                  <a:pt x="11" y="37"/>
                </a:lnTo>
                <a:lnTo>
                  <a:pt x="8" y="35"/>
                </a:lnTo>
                <a:lnTo>
                  <a:pt x="7" y="33"/>
                </a:lnTo>
                <a:lnTo>
                  <a:pt x="6" y="30"/>
                </a:lnTo>
                <a:lnTo>
                  <a:pt x="4" y="25"/>
                </a:lnTo>
                <a:lnTo>
                  <a:pt x="4" y="20"/>
                </a:lnTo>
                <a:lnTo>
                  <a:pt x="4" y="14"/>
                </a:lnTo>
                <a:lnTo>
                  <a:pt x="6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1" name=""/>
          <p:cNvSpPr/>
          <p:nvPr/>
        </p:nvSpPr>
        <p:spPr>
          <a:xfrm>
            <a:off x="412920" y="3679920"/>
            <a:ext cx="109440" cy="115920"/>
          </a:xfrm>
          <a:custGeom>
            <a:avLst/>
            <a:gdLst/>
            <a:ahLst/>
            <a:rect l="l" t="t" r="r" b="b"/>
            <a:pathLst>
              <a:path w="69" h="73">
                <a:moveTo>
                  <a:pt x="28" y="12"/>
                </a:moveTo>
                <a:lnTo>
                  <a:pt x="23" y="12"/>
                </a:lnTo>
                <a:lnTo>
                  <a:pt x="19" y="12"/>
                </a:lnTo>
                <a:lnTo>
                  <a:pt x="18" y="12"/>
                </a:lnTo>
                <a:lnTo>
                  <a:pt x="12" y="13"/>
                </a:lnTo>
                <a:lnTo>
                  <a:pt x="9" y="16"/>
                </a:lnTo>
                <a:lnTo>
                  <a:pt x="5" y="19"/>
                </a:lnTo>
                <a:lnTo>
                  <a:pt x="3" y="22"/>
                </a:lnTo>
                <a:lnTo>
                  <a:pt x="2" y="26"/>
                </a:lnTo>
                <a:lnTo>
                  <a:pt x="0" y="30"/>
                </a:lnTo>
                <a:lnTo>
                  <a:pt x="0" y="32"/>
                </a:lnTo>
                <a:lnTo>
                  <a:pt x="2" y="35"/>
                </a:lnTo>
                <a:lnTo>
                  <a:pt x="3" y="35"/>
                </a:lnTo>
                <a:lnTo>
                  <a:pt x="5" y="36"/>
                </a:lnTo>
                <a:lnTo>
                  <a:pt x="6" y="36"/>
                </a:lnTo>
                <a:lnTo>
                  <a:pt x="6" y="35"/>
                </a:lnTo>
                <a:lnTo>
                  <a:pt x="8" y="33"/>
                </a:lnTo>
                <a:lnTo>
                  <a:pt x="8" y="32"/>
                </a:lnTo>
                <a:lnTo>
                  <a:pt x="8" y="30"/>
                </a:lnTo>
                <a:lnTo>
                  <a:pt x="6" y="29"/>
                </a:lnTo>
                <a:lnTo>
                  <a:pt x="6" y="27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9"/>
                </a:lnTo>
                <a:lnTo>
                  <a:pt x="15" y="16"/>
                </a:lnTo>
                <a:lnTo>
                  <a:pt x="19" y="14"/>
                </a:lnTo>
                <a:lnTo>
                  <a:pt x="26" y="14"/>
                </a:lnTo>
                <a:lnTo>
                  <a:pt x="19" y="30"/>
                </a:lnTo>
                <a:lnTo>
                  <a:pt x="15" y="42"/>
                </a:lnTo>
                <a:lnTo>
                  <a:pt x="13" y="47"/>
                </a:lnTo>
                <a:lnTo>
                  <a:pt x="13" y="55"/>
                </a:lnTo>
                <a:lnTo>
                  <a:pt x="13" y="59"/>
                </a:lnTo>
                <a:lnTo>
                  <a:pt x="15" y="63"/>
                </a:lnTo>
                <a:lnTo>
                  <a:pt x="18" y="68"/>
                </a:lnTo>
                <a:lnTo>
                  <a:pt x="20" y="70"/>
                </a:lnTo>
                <a:lnTo>
                  <a:pt x="25" y="72"/>
                </a:lnTo>
                <a:lnTo>
                  <a:pt x="29" y="73"/>
                </a:lnTo>
                <a:lnTo>
                  <a:pt x="35" y="72"/>
                </a:lnTo>
                <a:lnTo>
                  <a:pt x="42" y="70"/>
                </a:lnTo>
                <a:lnTo>
                  <a:pt x="48" y="66"/>
                </a:lnTo>
                <a:lnTo>
                  <a:pt x="53" y="60"/>
                </a:lnTo>
                <a:lnTo>
                  <a:pt x="58" y="53"/>
                </a:lnTo>
                <a:lnTo>
                  <a:pt x="62" y="45"/>
                </a:lnTo>
                <a:lnTo>
                  <a:pt x="68" y="29"/>
                </a:lnTo>
                <a:lnTo>
                  <a:pt x="69" y="13"/>
                </a:lnTo>
                <a:lnTo>
                  <a:pt x="69" y="7"/>
                </a:lnTo>
                <a:lnTo>
                  <a:pt x="68" y="2"/>
                </a:lnTo>
                <a:lnTo>
                  <a:pt x="65" y="0"/>
                </a:lnTo>
                <a:lnTo>
                  <a:pt x="63" y="0"/>
                </a:lnTo>
                <a:lnTo>
                  <a:pt x="62" y="0"/>
                </a:lnTo>
                <a:lnTo>
                  <a:pt x="62" y="0"/>
                </a:lnTo>
                <a:lnTo>
                  <a:pt x="60" y="2"/>
                </a:lnTo>
                <a:lnTo>
                  <a:pt x="60" y="3"/>
                </a:lnTo>
                <a:lnTo>
                  <a:pt x="60" y="4"/>
                </a:lnTo>
                <a:lnTo>
                  <a:pt x="60" y="4"/>
                </a:lnTo>
                <a:lnTo>
                  <a:pt x="60" y="6"/>
                </a:lnTo>
                <a:lnTo>
                  <a:pt x="62" y="7"/>
                </a:lnTo>
                <a:lnTo>
                  <a:pt x="63" y="13"/>
                </a:lnTo>
                <a:lnTo>
                  <a:pt x="65" y="19"/>
                </a:lnTo>
                <a:lnTo>
                  <a:pt x="63" y="27"/>
                </a:lnTo>
                <a:lnTo>
                  <a:pt x="62" y="37"/>
                </a:lnTo>
                <a:lnTo>
                  <a:pt x="58" y="46"/>
                </a:lnTo>
                <a:lnTo>
                  <a:pt x="53" y="53"/>
                </a:lnTo>
                <a:lnTo>
                  <a:pt x="48" y="59"/>
                </a:lnTo>
                <a:lnTo>
                  <a:pt x="43" y="63"/>
                </a:lnTo>
                <a:lnTo>
                  <a:pt x="38" y="66"/>
                </a:lnTo>
                <a:lnTo>
                  <a:pt x="33" y="66"/>
                </a:lnTo>
                <a:lnTo>
                  <a:pt x="30" y="66"/>
                </a:lnTo>
                <a:lnTo>
                  <a:pt x="28" y="65"/>
                </a:lnTo>
                <a:lnTo>
                  <a:pt x="25" y="62"/>
                </a:lnTo>
                <a:lnTo>
                  <a:pt x="23" y="59"/>
                </a:lnTo>
                <a:lnTo>
                  <a:pt x="22" y="55"/>
                </a:lnTo>
                <a:lnTo>
                  <a:pt x="22" y="50"/>
                </a:lnTo>
                <a:lnTo>
                  <a:pt x="22" y="46"/>
                </a:lnTo>
                <a:lnTo>
                  <a:pt x="23" y="40"/>
                </a:lnTo>
                <a:lnTo>
                  <a:pt x="25" y="35"/>
                </a:lnTo>
                <a:lnTo>
                  <a:pt x="29" y="22"/>
                </a:lnTo>
                <a:lnTo>
                  <a:pt x="35" y="10"/>
                </a:lnTo>
                <a:lnTo>
                  <a:pt x="32" y="12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2" name=""/>
          <p:cNvSpPr/>
          <p:nvPr/>
        </p:nvSpPr>
        <p:spPr>
          <a:xfrm>
            <a:off x="638280" y="3691080"/>
            <a:ext cx="27000" cy="114120"/>
          </a:xfrm>
          <a:custGeom>
            <a:avLst/>
            <a:gdLst/>
            <a:ahLst/>
            <a:rect l="l" t="t" r="r" b="b"/>
            <a:pathLst>
              <a:path w="17" h="72">
                <a:moveTo>
                  <a:pt x="17" y="72"/>
                </a:moveTo>
                <a:lnTo>
                  <a:pt x="9" y="53"/>
                </a:lnTo>
                <a:lnTo>
                  <a:pt x="7" y="36"/>
                </a:lnTo>
                <a:lnTo>
                  <a:pt x="7" y="29"/>
                </a:lnTo>
                <a:lnTo>
                  <a:pt x="9" y="22"/>
                </a:lnTo>
                <a:lnTo>
                  <a:pt x="10" y="16"/>
                </a:lnTo>
                <a:lnTo>
                  <a:pt x="11" y="10"/>
                </a:lnTo>
                <a:lnTo>
                  <a:pt x="13" y="7"/>
                </a:lnTo>
                <a:lnTo>
                  <a:pt x="14" y="5"/>
                </a:lnTo>
                <a:lnTo>
                  <a:pt x="17" y="0"/>
                </a:lnTo>
                <a:lnTo>
                  <a:pt x="13" y="0"/>
                </a:lnTo>
                <a:lnTo>
                  <a:pt x="7" y="9"/>
                </a:lnTo>
                <a:lnTo>
                  <a:pt x="3" y="19"/>
                </a:lnTo>
                <a:lnTo>
                  <a:pt x="0" y="28"/>
                </a:lnTo>
                <a:lnTo>
                  <a:pt x="0" y="36"/>
                </a:lnTo>
                <a:lnTo>
                  <a:pt x="1" y="46"/>
                </a:lnTo>
                <a:lnTo>
                  <a:pt x="4" y="55"/>
                </a:lnTo>
                <a:lnTo>
                  <a:pt x="7" y="65"/>
                </a:lnTo>
                <a:lnTo>
                  <a:pt x="13" y="72"/>
                </a:lnTo>
                <a:lnTo>
                  <a:pt x="17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3" name=""/>
          <p:cNvSpPr/>
          <p:nvPr/>
        </p:nvSpPr>
        <p:spPr>
          <a:xfrm>
            <a:off x="669960" y="3691080"/>
            <a:ext cx="77760" cy="88920"/>
          </a:xfrm>
          <a:custGeom>
            <a:avLst/>
            <a:gdLst/>
            <a:ahLst/>
            <a:rect l="l" t="t" r="r" b="b"/>
            <a:pathLst>
              <a:path w="49" h="56">
                <a:moveTo>
                  <a:pt x="29" y="56"/>
                </a:moveTo>
                <a:lnTo>
                  <a:pt x="49" y="0"/>
                </a:lnTo>
                <a:lnTo>
                  <a:pt x="41" y="0"/>
                </a:lnTo>
                <a:lnTo>
                  <a:pt x="27" y="40"/>
                </a:lnTo>
                <a:lnTo>
                  <a:pt x="26" y="45"/>
                </a:lnTo>
                <a:lnTo>
                  <a:pt x="24" y="50"/>
                </a:lnTo>
                <a:lnTo>
                  <a:pt x="23" y="45"/>
                </a:lnTo>
                <a:lnTo>
                  <a:pt x="21" y="40"/>
                </a:lnTo>
                <a:lnTo>
                  <a:pt x="7" y="0"/>
                </a:lnTo>
                <a:lnTo>
                  <a:pt x="0" y="0"/>
                </a:lnTo>
                <a:lnTo>
                  <a:pt x="20" y="56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4" name=""/>
          <p:cNvSpPr/>
          <p:nvPr/>
        </p:nvSpPr>
        <p:spPr>
          <a:xfrm>
            <a:off x="811080" y="3693960"/>
            <a:ext cx="32040" cy="111240"/>
          </a:xfrm>
          <a:custGeom>
            <a:avLst/>
            <a:gdLst/>
            <a:ahLst/>
            <a:rect l="l" t="t" r="r" b="b"/>
            <a:pathLst>
              <a:path w="20" h="70">
                <a:moveTo>
                  <a:pt x="11" y="61"/>
                </a:moveTo>
                <a:lnTo>
                  <a:pt x="10" y="56"/>
                </a:lnTo>
                <a:lnTo>
                  <a:pt x="7" y="50"/>
                </a:lnTo>
                <a:lnTo>
                  <a:pt x="7" y="43"/>
                </a:lnTo>
                <a:lnTo>
                  <a:pt x="7" y="34"/>
                </a:lnTo>
                <a:lnTo>
                  <a:pt x="7" y="27"/>
                </a:lnTo>
                <a:lnTo>
                  <a:pt x="7" y="20"/>
                </a:lnTo>
                <a:lnTo>
                  <a:pt x="10" y="14"/>
                </a:lnTo>
                <a:lnTo>
                  <a:pt x="11" y="8"/>
                </a:lnTo>
                <a:lnTo>
                  <a:pt x="15" y="5"/>
                </a:lnTo>
                <a:lnTo>
                  <a:pt x="20" y="1"/>
                </a:lnTo>
                <a:lnTo>
                  <a:pt x="20" y="0"/>
                </a:lnTo>
                <a:lnTo>
                  <a:pt x="14" y="4"/>
                </a:lnTo>
                <a:lnTo>
                  <a:pt x="8" y="8"/>
                </a:lnTo>
                <a:lnTo>
                  <a:pt x="5" y="14"/>
                </a:lnTo>
                <a:lnTo>
                  <a:pt x="1" y="21"/>
                </a:lnTo>
                <a:lnTo>
                  <a:pt x="0" y="28"/>
                </a:lnTo>
                <a:lnTo>
                  <a:pt x="0" y="36"/>
                </a:lnTo>
                <a:lnTo>
                  <a:pt x="0" y="43"/>
                </a:lnTo>
                <a:lnTo>
                  <a:pt x="1" y="50"/>
                </a:lnTo>
                <a:lnTo>
                  <a:pt x="4" y="56"/>
                </a:lnTo>
                <a:lnTo>
                  <a:pt x="8" y="61"/>
                </a:lnTo>
                <a:lnTo>
                  <a:pt x="13" y="67"/>
                </a:lnTo>
                <a:lnTo>
                  <a:pt x="20" y="70"/>
                </a:lnTo>
                <a:lnTo>
                  <a:pt x="20" y="69"/>
                </a:lnTo>
                <a:lnTo>
                  <a:pt x="14" y="66"/>
                </a:lnTo>
                <a:lnTo>
                  <a:pt x="11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5" name=""/>
          <p:cNvSpPr/>
          <p:nvPr/>
        </p:nvSpPr>
        <p:spPr>
          <a:xfrm>
            <a:off x="844560" y="3695760"/>
            <a:ext cx="69840" cy="84240"/>
          </a:xfrm>
          <a:custGeom>
            <a:avLst/>
            <a:gdLst/>
            <a:ahLst/>
            <a:rect l="l" t="t" r="r" b="b"/>
            <a:pathLst>
              <a:path w="44" h="53">
                <a:moveTo>
                  <a:pt x="23" y="0"/>
                </a:moveTo>
                <a:lnTo>
                  <a:pt x="0" y="53"/>
                </a:lnTo>
                <a:lnTo>
                  <a:pt x="44" y="53"/>
                </a:lnTo>
                <a:lnTo>
                  <a:pt x="23" y="0"/>
                </a:lnTo>
                <a:close/>
                <a:moveTo>
                  <a:pt x="4" y="50"/>
                </a:moveTo>
                <a:lnTo>
                  <a:pt x="22" y="13"/>
                </a:lnTo>
                <a:lnTo>
                  <a:pt x="36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6" name=""/>
          <p:cNvSpPr/>
          <p:nvPr/>
        </p:nvSpPr>
        <p:spPr>
          <a:xfrm>
            <a:off x="1006560" y="3693960"/>
            <a:ext cx="31680" cy="111240"/>
          </a:xfrm>
          <a:custGeom>
            <a:avLst/>
            <a:gdLst/>
            <a:ahLst/>
            <a:rect l="l" t="t" r="r" b="b"/>
            <a:pathLst>
              <a:path w="20" h="70">
                <a:moveTo>
                  <a:pt x="7" y="10"/>
                </a:moveTo>
                <a:lnTo>
                  <a:pt x="10" y="15"/>
                </a:lnTo>
                <a:lnTo>
                  <a:pt x="11" y="21"/>
                </a:lnTo>
                <a:lnTo>
                  <a:pt x="12" y="28"/>
                </a:lnTo>
                <a:lnTo>
                  <a:pt x="12" y="36"/>
                </a:lnTo>
                <a:lnTo>
                  <a:pt x="12" y="44"/>
                </a:lnTo>
                <a:lnTo>
                  <a:pt x="11" y="50"/>
                </a:lnTo>
                <a:lnTo>
                  <a:pt x="10" y="57"/>
                </a:lnTo>
                <a:lnTo>
                  <a:pt x="7" y="61"/>
                </a:lnTo>
                <a:lnTo>
                  <a:pt x="4" y="66"/>
                </a:lnTo>
                <a:lnTo>
                  <a:pt x="0" y="69"/>
                </a:lnTo>
                <a:lnTo>
                  <a:pt x="0" y="70"/>
                </a:lnTo>
                <a:lnTo>
                  <a:pt x="5" y="67"/>
                </a:lnTo>
                <a:lnTo>
                  <a:pt x="10" y="63"/>
                </a:lnTo>
                <a:lnTo>
                  <a:pt x="14" y="57"/>
                </a:lnTo>
                <a:lnTo>
                  <a:pt x="17" y="50"/>
                </a:lnTo>
                <a:lnTo>
                  <a:pt x="20" y="43"/>
                </a:lnTo>
                <a:lnTo>
                  <a:pt x="20" y="36"/>
                </a:lnTo>
                <a:lnTo>
                  <a:pt x="20" y="28"/>
                </a:lnTo>
                <a:lnTo>
                  <a:pt x="17" y="21"/>
                </a:lnTo>
                <a:lnTo>
                  <a:pt x="14" y="14"/>
                </a:lnTo>
                <a:lnTo>
                  <a:pt x="11" y="8"/>
                </a:lnTo>
                <a:lnTo>
                  <a:pt x="5" y="4"/>
                </a:lnTo>
                <a:lnTo>
                  <a:pt x="0" y="0"/>
                </a:lnTo>
                <a:lnTo>
                  <a:pt x="0" y="1"/>
                </a:lnTo>
                <a:lnTo>
                  <a:pt x="4" y="5"/>
                </a:lnTo>
                <a:lnTo>
                  <a:pt x="7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7" name=""/>
          <p:cNvSpPr/>
          <p:nvPr/>
        </p:nvSpPr>
        <p:spPr>
          <a:xfrm>
            <a:off x="1085760" y="3691080"/>
            <a:ext cx="27000" cy="114120"/>
          </a:xfrm>
          <a:custGeom>
            <a:avLst/>
            <a:gdLst/>
            <a:ahLst/>
            <a:rect l="l" t="t" r="r" b="b"/>
            <a:pathLst>
              <a:path w="17" h="72">
                <a:moveTo>
                  <a:pt x="14" y="55"/>
                </a:moveTo>
                <a:lnTo>
                  <a:pt x="17" y="46"/>
                </a:lnTo>
                <a:lnTo>
                  <a:pt x="17" y="36"/>
                </a:lnTo>
                <a:lnTo>
                  <a:pt x="17" y="28"/>
                </a:lnTo>
                <a:lnTo>
                  <a:pt x="14" y="19"/>
                </a:lnTo>
                <a:lnTo>
                  <a:pt x="11" y="9"/>
                </a:lnTo>
                <a:lnTo>
                  <a:pt x="4" y="0"/>
                </a:lnTo>
                <a:lnTo>
                  <a:pt x="0" y="0"/>
                </a:lnTo>
                <a:lnTo>
                  <a:pt x="3" y="5"/>
                </a:lnTo>
                <a:lnTo>
                  <a:pt x="4" y="9"/>
                </a:lnTo>
                <a:lnTo>
                  <a:pt x="5" y="10"/>
                </a:lnTo>
                <a:lnTo>
                  <a:pt x="8" y="16"/>
                </a:lnTo>
                <a:lnTo>
                  <a:pt x="10" y="22"/>
                </a:lnTo>
                <a:lnTo>
                  <a:pt x="10" y="29"/>
                </a:lnTo>
                <a:lnTo>
                  <a:pt x="11" y="36"/>
                </a:lnTo>
                <a:lnTo>
                  <a:pt x="8" y="53"/>
                </a:lnTo>
                <a:lnTo>
                  <a:pt x="0" y="72"/>
                </a:lnTo>
                <a:lnTo>
                  <a:pt x="4" y="72"/>
                </a:lnTo>
                <a:lnTo>
                  <a:pt x="10" y="65"/>
                </a:lnTo>
                <a:lnTo>
                  <a:pt x="14" y="5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8" name=""/>
          <p:cNvSpPr/>
          <p:nvPr/>
        </p:nvSpPr>
        <p:spPr>
          <a:xfrm>
            <a:off x="942840" y="378936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5" y="36"/>
                </a:moveTo>
                <a:lnTo>
                  <a:pt x="5" y="17"/>
                </a:lnTo>
                <a:lnTo>
                  <a:pt x="5" y="13"/>
                </a:lnTo>
                <a:lnTo>
                  <a:pt x="7" y="10"/>
                </a:lnTo>
                <a:lnTo>
                  <a:pt x="8" y="7"/>
                </a:lnTo>
                <a:lnTo>
                  <a:pt x="11" y="6"/>
                </a:lnTo>
                <a:lnTo>
                  <a:pt x="14" y="6"/>
                </a:lnTo>
                <a:lnTo>
                  <a:pt x="15" y="6"/>
                </a:lnTo>
                <a:lnTo>
                  <a:pt x="18" y="6"/>
                </a:lnTo>
                <a:lnTo>
                  <a:pt x="20" y="7"/>
                </a:lnTo>
                <a:lnTo>
                  <a:pt x="20" y="9"/>
                </a:lnTo>
                <a:lnTo>
                  <a:pt x="21" y="11"/>
                </a:lnTo>
                <a:lnTo>
                  <a:pt x="21" y="14"/>
                </a:lnTo>
                <a:lnTo>
                  <a:pt x="21" y="36"/>
                </a:lnTo>
                <a:lnTo>
                  <a:pt x="27" y="36"/>
                </a:lnTo>
                <a:lnTo>
                  <a:pt x="27" y="14"/>
                </a:lnTo>
                <a:lnTo>
                  <a:pt x="27" y="10"/>
                </a:lnTo>
                <a:lnTo>
                  <a:pt x="25" y="9"/>
                </a:lnTo>
                <a:lnTo>
                  <a:pt x="25" y="6"/>
                </a:lnTo>
                <a:lnTo>
                  <a:pt x="24" y="4"/>
                </a:lnTo>
                <a:lnTo>
                  <a:pt x="22" y="3"/>
                </a:lnTo>
                <a:lnTo>
                  <a:pt x="21" y="1"/>
                </a:lnTo>
                <a:lnTo>
                  <a:pt x="18" y="0"/>
                </a:lnTo>
                <a:lnTo>
                  <a:pt x="15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4" y="1"/>
                </a:lnTo>
                <a:lnTo>
                  <a:pt x="0" y="1"/>
                </a:lnTo>
                <a:lnTo>
                  <a:pt x="0" y="36"/>
                </a:lnTo>
                <a:lnTo>
                  <a:pt x="5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9" name=""/>
          <p:cNvSpPr/>
          <p:nvPr/>
        </p:nvSpPr>
        <p:spPr>
          <a:xfrm>
            <a:off x="573120" y="364320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4" y="36"/>
                </a:moveTo>
                <a:lnTo>
                  <a:pt x="5" y="39"/>
                </a:lnTo>
                <a:lnTo>
                  <a:pt x="8" y="40"/>
                </a:lnTo>
                <a:lnTo>
                  <a:pt x="12" y="40"/>
                </a:lnTo>
                <a:lnTo>
                  <a:pt x="15" y="40"/>
                </a:lnTo>
                <a:lnTo>
                  <a:pt x="20" y="37"/>
                </a:lnTo>
                <a:lnTo>
                  <a:pt x="21" y="35"/>
                </a:lnTo>
                <a:lnTo>
                  <a:pt x="22" y="32"/>
                </a:lnTo>
                <a:lnTo>
                  <a:pt x="24" y="26"/>
                </a:lnTo>
                <a:lnTo>
                  <a:pt x="24" y="20"/>
                </a:lnTo>
                <a:lnTo>
                  <a:pt x="24" y="14"/>
                </a:lnTo>
                <a:lnTo>
                  <a:pt x="24" y="10"/>
                </a:lnTo>
                <a:lnTo>
                  <a:pt x="22" y="7"/>
                </a:lnTo>
                <a:lnTo>
                  <a:pt x="21" y="4"/>
                </a:lnTo>
                <a:lnTo>
                  <a:pt x="20" y="3"/>
                </a:lnTo>
                <a:lnTo>
                  <a:pt x="18" y="2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5" y="2"/>
                </a:lnTo>
                <a:lnTo>
                  <a:pt x="2" y="4"/>
                </a:lnTo>
                <a:lnTo>
                  <a:pt x="1" y="9"/>
                </a:lnTo>
                <a:lnTo>
                  <a:pt x="0" y="13"/>
                </a:lnTo>
                <a:lnTo>
                  <a:pt x="0" y="20"/>
                </a:lnTo>
                <a:lnTo>
                  <a:pt x="1" y="27"/>
                </a:lnTo>
                <a:lnTo>
                  <a:pt x="1" y="32"/>
                </a:lnTo>
                <a:lnTo>
                  <a:pt x="4" y="36"/>
                </a:lnTo>
                <a:close/>
                <a:moveTo>
                  <a:pt x="7" y="7"/>
                </a:move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7"/>
                </a:lnTo>
                <a:lnTo>
                  <a:pt x="18" y="10"/>
                </a:lnTo>
                <a:lnTo>
                  <a:pt x="20" y="14"/>
                </a:lnTo>
                <a:lnTo>
                  <a:pt x="20" y="20"/>
                </a:lnTo>
                <a:lnTo>
                  <a:pt x="20" y="26"/>
                </a:lnTo>
                <a:lnTo>
                  <a:pt x="18" y="30"/>
                </a:lnTo>
                <a:lnTo>
                  <a:pt x="18" y="33"/>
                </a:lnTo>
                <a:lnTo>
                  <a:pt x="15" y="36"/>
                </a:lnTo>
                <a:lnTo>
                  <a:pt x="12" y="36"/>
                </a:lnTo>
                <a:lnTo>
                  <a:pt x="10" y="36"/>
                </a:lnTo>
                <a:lnTo>
                  <a:pt x="7" y="33"/>
                </a:lnTo>
                <a:lnTo>
                  <a:pt x="5" y="30"/>
                </a:lnTo>
                <a:lnTo>
                  <a:pt x="5" y="26"/>
                </a:lnTo>
                <a:lnTo>
                  <a:pt x="5" y="20"/>
                </a:lnTo>
                <a:lnTo>
                  <a:pt x="5" y="14"/>
                </a:lnTo>
                <a:lnTo>
                  <a:pt x="5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0" name=""/>
          <p:cNvSpPr/>
          <p:nvPr/>
        </p:nvSpPr>
        <p:spPr>
          <a:xfrm>
            <a:off x="574560" y="3780000"/>
            <a:ext cx="41400" cy="55440"/>
          </a:xfrm>
          <a:custGeom>
            <a:avLst/>
            <a:gdLst/>
            <a:ahLst/>
            <a:rect l="l" t="t" r="r" b="b"/>
            <a:pathLst>
              <a:path w="26" h="35">
                <a:moveTo>
                  <a:pt x="6" y="35"/>
                </a:moveTo>
                <a:lnTo>
                  <a:pt x="6" y="16"/>
                </a:lnTo>
                <a:lnTo>
                  <a:pt x="6" y="12"/>
                </a:lnTo>
                <a:lnTo>
                  <a:pt x="6" y="9"/>
                </a:lnTo>
                <a:lnTo>
                  <a:pt x="7" y="7"/>
                </a:lnTo>
                <a:lnTo>
                  <a:pt x="10" y="6"/>
                </a:lnTo>
                <a:lnTo>
                  <a:pt x="14" y="5"/>
                </a:lnTo>
                <a:lnTo>
                  <a:pt x="16" y="5"/>
                </a:lnTo>
                <a:lnTo>
                  <a:pt x="17" y="6"/>
                </a:lnTo>
                <a:lnTo>
                  <a:pt x="19" y="7"/>
                </a:lnTo>
                <a:lnTo>
                  <a:pt x="20" y="9"/>
                </a:lnTo>
                <a:lnTo>
                  <a:pt x="20" y="10"/>
                </a:lnTo>
                <a:lnTo>
                  <a:pt x="20" y="15"/>
                </a:lnTo>
                <a:lnTo>
                  <a:pt x="20" y="35"/>
                </a:lnTo>
                <a:lnTo>
                  <a:pt x="26" y="35"/>
                </a:lnTo>
                <a:lnTo>
                  <a:pt x="26" y="13"/>
                </a:lnTo>
                <a:lnTo>
                  <a:pt x="26" y="10"/>
                </a:lnTo>
                <a:lnTo>
                  <a:pt x="26" y="9"/>
                </a:lnTo>
                <a:lnTo>
                  <a:pt x="26" y="6"/>
                </a:lnTo>
                <a:lnTo>
                  <a:pt x="24" y="5"/>
                </a:lnTo>
                <a:lnTo>
                  <a:pt x="23" y="2"/>
                </a:lnTo>
                <a:lnTo>
                  <a:pt x="20" y="2"/>
                </a:lnTo>
                <a:lnTo>
                  <a:pt x="17" y="0"/>
                </a:lnTo>
                <a:lnTo>
                  <a:pt x="14" y="0"/>
                </a:lnTo>
                <a:lnTo>
                  <a:pt x="11" y="0"/>
                </a:lnTo>
                <a:lnTo>
                  <a:pt x="7" y="2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lnTo>
                  <a:pt x="0" y="35"/>
                </a:lnTo>
                <a:lnTo>
                  <a:pt x="6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1" name=""/>
          <p:cNvSpPr/>
          <p:nvPr/>
        </p:nvSpPr>
        <p:spPr>
          <a:xfrm>
            <a:off x="754200" y="3646440"/>
            <a:ext cx="3780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4" y="37"/>
                </a:moveTo>
                <a:lnTo>
                  <a:pt x="7" y="38"/>
                </a:lnTo>
                <a:lnTo>
                  <a:pt x="10" y="40"/>
                </a:lnTo>
                <a:lnTo>
                  <a:pt x="13" y="40"/>
                </a:lnTo>
                <a:lnTo>
                  <a:pt x="17" y="40"/>
                </a:lnTo>
                <a:lnTo>
                  <a:pt x="20" y="38"/>
                </a:lnTo>
                <a:lnTo>
                  <a:pt x="21" y="35"/>
                </a:lnTo>
                <a:lnTo>
                  <a:pt x="23" y="31"/>
                </a:lnTo>
                <a:lnTo>
                  <a:pt x="24" y="27"/>
                </a:lnTo>
                <a:lnTo>
                  <a:pt x="24" y="20"/>
                </a:lnTo>
                <a:lnTo>
                  <a:pt x="24" y="15"/>
                </a:lnTo>
                <a:lnTo>
                  <a:pt x="24" y="11"/>
                </a:lnTo>
                <a:lnTo>
                  <a:pt x="23" y="8"/>
                </a:lnTo>
                <a:lnTo>
                  <a:pt x="21" y="5"/>
                </a:lnTo>
                <a:lnTo>
                  <a:pt x="20" y="2"/>
                </a:lnTo>
                <a:lnTo>
                  <a:pt x="18" y="1"/>
                </a:lnTo>
                <a:lnTo>
                  <a:pt x="16" y="1"/>
                </a:lnTo>
                <a:lnTo>
                  <a:pt x="13" y="0"/>
                </a:lnTo>
                <a:lnTo>
                  <a:pt x="8" y="1"/>
                </a:lnTo>
                <a:lnTo>
                  <a:pt x="6" y="2"/>
                </a:lnTo>
                <a:lnTo>
                  <a:pt x="3" y="5"/>
                </a:lnTo>
                <a:lnTo>
                  <a:pt x="1" y="10"/>
                </a:lnTo>
                <a:lnTo>
                  <a:pt x="1" y="14"/>
                </a:lnTo>
                <a:lnTo>
                  <a:pt x="0" y="20"/>
                </a:lnTo>
                <a:lnTo>
                  <a:pt x="1" y="27"/>
                </a:lnTo>
                <a:lnTo>
                  <a:pt x="1" y="33"/>
                </a:lnTo>
                <a:lnTo>
                  <a:pt x="4" y="37"/>
                </a:lnTo>
                <a:close/>
                <a:moveTo>
                  <a:pt x="7" y="7"/>
                </a:moveTo>
                <a:lnTo>
                  <a:pt x="10" y="5"/>
                </a:lnTo>
                <a:lnTo>
                  <a:pt x="13" y="4"/>
                </a:lnTo>
                <a:lnTo>
                  <a:pt x="16" y="5"/>
                </a:lnTo>
                <a:lnTo>
                  <a:pt x="18" y="7"/>
                </a:lnTo>
                <a:lnTo>
                  <a:pt x="18" y="10"/>
                </a:lnTo>
                <a:lnTo>
                  <a:pt x="20" y="14"/>
                </a:lnTo>
                <a:lnTo>
                  <a:pt x="20" y="20"/>
                </a:lnTo>
                <a:lnTo>
                  <a:pt x="20" y="25"/>
                </a:lnTo>
                <a:lnTo>
                  <a:pt x="18" y="30"/>
                </a:lnTo>
                <a:lnTo>
                  <a:pt x="18" y="33"/>
                </a:lnTo>
                <a:lnTo>
                  <a:pt x="16" y="35"/>
                </a:lnTo>
                <a:lnTo>
                  <a:pt x="13" y="37"/>
                </a:lnTo>
                <a:lnTo>
                  <a:pt x="10" y="35"/>
                </a:lnTo>
                <a:lnTo>
                  <a:pt x="7" y="33"/>
                </a:lnTo>
                <a:lnTo>
                  <a:pt x="6" y="30"/>
                </a:lnTo>
                <a:lnTo>
                  <a:pt x="6" y="25"/>
                </a:lnTo>
                <a:lnTo>
                  <a:pt x="6" y="20"/>
                </a:lnTo>
                <a:lnTo>
                  <a:pt x="6" y="14"/>
                </a:lnTo>
                <a:lnTo>
                  <a:pt x="6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2" name=""/>
          <p:cNvSpPr/>
          <p:nvPr/>
        </p:nvSpPr>
        <p:spPr>
          <a:xfrm>
            <a:off x="588960" y="5513400"/>
            <a:ext cx="39600" cy="65160"/>
          </a:xfrm>
          <a:custGeom>
            <a:avLst/>
            <a:gdLst/>
            <a:ahLst/>
            <a:rect l="l" t="t" r="r" b="b"/>
            <a:pathLst>
              <a:path w="25" h="41">
                <a:moveTo>
                  <a:pt x="4" y="38"/>
                </a:moveTo>
                <a:lnTo>
                  <a:pt x="7" y="41"/>
                </a:lnTo>
                <a:lnTo>
                  <a:pt x="12" y="41"/>
                </a:lnTo>
                <a:lnTo>
                  <a:pt x="17" y="39"/>
                </a:lnTo>
                <a:lnTo>
                  <a:pt x="21" y="38"/>
                </a:lnTo>
                <a:lnTo>
                  <a:pt x="24" y="33"/>
                </a:lnTo>
                <a:lnTo>
                  <a:pt x="25" y="28"/>
                </a:lnTo>
                <a:lnTo>
                  <a:pt x="24" y="25"/>
                </a:lnTo>
                <a:lnTo>
                  <a:pt x="22" y="22"/>
                </a:lnTo>
                <a:lnTo>
                  <a:pt x="21" y="21"/>
                </a:lnTo>
                <a:lnTo>
                  <a:pt x="18" y="19"/>
                </a:lnTo>
                <a:lnTo>
                  <a:pt x="20" y="18"/>
                </a:lnTo>
                <a:lnTo>
                  <a:pt x="21" y="15"/>
                </a:lnTo>
                <a:lnTo>
                  <a:pt x="22" y="13"/>
                </a:lnTo>
                <a:lnTo>
                  <a:pt x="22" y="11"/>
                </a:lnTo>
                <a:lnTo>
                  <a:pt x="22" y="8"/>
                </a:lnTo>
                <a:lnTo>
                  <a:pt x="21" y="6"/>
                </a:lnTo>
                <a:lnTo>
                  <a:pt x="20" y="3"/>
                </a:lnTo>
                <a:lnTo>
                  <a:pt x="18" y="2"/>
                </a:lnTo>
                <a:lnTo>
                  <a:pt x="15" y="0"/>
                </a:lnTo>
                <a:lnTo>
                  <a:pt x="12" y="0"/>
                </a:lnTo>
                <a:lnTo>
                  <a:pt x="8" y="0"/>
                </a:lnTo>
                <a:lnTo>
                  <a:pt x="4" y="3"/>
                </a:lnTo>
                <a:lnTo>
                  <a:pt x="2" y="6"/>
                </a:lnTo>
                <a:lnTo>
                  <a:pt x="1" y="11"/>
                </a:lnTo>
                <a:lnTo>
                  <a:pt x="5" y="12"/>
                </a:lnTo>
                <a:lnTo>
                  <a:pt x="5" y="9"/>
                </a:lnTo>
                <a:lnTo>
                  <a:pt x="7" y="6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7" y="6"/>
                </a:lnTo>
                <a:lnTo>
                  <a:pt x="18" y="8"/>
                </a:lnTo>
                <a:lnTo>
                  <a:pt x="18" y="11"/>
                </a:lnTo>
                <a:lnTo>
                  <a:pt x="18" y="13"/>
                </a:lnTo>
                <a:lnTo>
                  <a:pt x="15" y="16"/>
                </a:lnTo>
                <a:lnTo>
                  <a:pt x="14" y="16"/>
                </a:lnTo>
                <a:lnTo>
                  <a:pt x="11" y="18"/>
                </a:lnTo>
                <a:lnTo>
                  <a:pt x="10" y="18"/>
                </a:lnTo>
                <a:lnTo>
                  <a:pt x="10" y="18"/>
                </a:lnTo>
                <a:lnTo>
                  <a:pt x="10" y="22"/>
                </a:lnTo>
                <a:lnTo>
                  <a:pt x="11" y="21"/>
                </a:lnTo>
                <a:lnTo>
                  <a:pt x="12" y="21"/>
                </a:lnTo>
                <a:lnTo>
                  <a:pt x="15" y="22"/>
                </a:lnTo>
                <a:lnTo>
                  <a:pt x="18" y="23"/>
                </a:lnTo>
                <a:lnTo>
                  <a:pt x="20" y="25"/>
                </a:lnTo>
                <a:lnTo>
                  <a:pt x="20" y="29"/>
                </a:lnTo>
                <a:lnTo>
                  <a:pt x="20" y="32"/>
                </a:lnTo>
                <a:lnTo>
                  <a:pt x="18" y="35"/>
                </a:lnTo>
                <a:lnTo>
                  <a:pt x="15" y="36"/>
                </a:lnTo>
                <a:lnTo>
                  <a:pt x="12" y="36"/>
                </a:lnTo>
                <a:lnTo>
                  <a:pt x="10" y="36"/>
                </a:lnTo>
                <a:lnTo>
                  <a:pt x="7" y="35"/>
                </a:lnTo>
                <a:lnTo>
                  <a:pt x="5" y="32"/>
                </a:lnTo>
                <a:lnTo>
                  <a:pt x="5" y="29"/>
                </a:lnTo>
                <a:lnTo>
                  <a:pt x="0" y="29"/>
                </a:lnTo>
                <a:lnTo>
                  <a:pt x="1" y="33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3" name=""/>
          <p:cNvSpPr/>
          <p:nvPr/>
        </p:nvSpPr>
        <p:spPr>
          <a:xfrm>
            <a:off x="638280" y="5568840"/>
            <a:ext cx="936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3" y="6"/>
                </a:moveTo>
                <a:lnTo>
                  <a:pt x="3" y="7"/>
                </a:lnTo>
                <a:lnTo>
                  <a:pt x="3" y="9"/>
                </a:lnTo>
                <a:lnTo>
                  <a:pt x="1" y="10"/>
                </a:lnTo>
                <a:lnTo>
                  <a:pt x="0" y="11"/>
                </a:lnTo>
                <a:lnTo>
                  <a:pt x="1" y="13"/>
                </a:lnTo>
                <a:lnTo>
                  <a:pt x="3" y="11"/>
                </a:lnTo>
                <a:lnTo>
                  <a:pt x="4" y="10"/>
                </a:lnTo>
                <a:lnTo>
                  <a:pt x="6" y="9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4" name=""/>
          <p:cNvSpPr/>
          <p:nvPr/>
        </p:nvSpPr>
        <p:spPr>
          <a:xfrm>
            <a:off x="663480" y="5513400"/>
            <a:ext cx="22320" cy="65160"/>
          </a:xfrm>
          <a:custGeom>
            <a:avLst/>
            <a:gdLst/>
            <a:ahLst/>
            <a:rect l="l" t="t" r="r" b="b"/>
            <a:pathLst>
              <a:path w="14" h="41">
                <a:moveTo>
                  <a:pt x="14" y="0"/>
                </a:moveTo>
                <a:lnTo>
                  <a:pt x="11" y="0"/>
                </a:lnTo>
                <a:lnTo>
                  <a:pt x="10" y="3"/>
                </a:lnTo>
                <a:lnTo>
                  <a:pt x="7" y="6"/>
                </a:lnTo>
                <a:lnTo>
                  <a:pt x="4" y="8"/>
                </a:lnTo>
                <a:lnTo>
                  <a:pt x="0" y="11"/>
                </a:lnTo>
                <a:lnTo>
                  <a:pt x="0" y="15"/>
                </a:lnTo>
                <a:lnTo>
                  <a:pt x="3" y="13"/>
                </a:lnTo>
                <a:lnTo>
                  <a:pt x="5" y="12"/>
                </a:lnTo>
                <a:lnTo>
                  <a:pt x="8" y="11"/>
                </a:lnTo>
                <a:lnTo>
                  <a:pt x="10" y="9"/>
                </a:lnTo>
                <a:lnTo>
                  <a:pt x="10" y="41"/>
                </a:lnTo>
                <a:lnTo>
                  <a:pt x="14" y="41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5" name=""/>
          <p:cNvSpPr/>
          <p:nvPr/>
        </p:nvSpPr>
        <p:spPr>
          <a:xfrm>
            <a:off x="4552920" y="4545000"/>
            <a:ext cx="115920" cy="133200"/>
          </a:xfrm>
          <a:custGeom>
            <a:avLst/>
            <a:gdLst/>
            <a:ahLst/>
            <a:rect l="l" t="t" r="r" b="b"/>
            <a:pathLst>
              <a:path w="73" h="84">
                <a:moveTo>
                  <a:pt x="73" y="84"/>
                </a:moveTo>
                <a:lnTo>
                  <a:pt x="72" y="0"/>
                </a:lnTo>
                <a:lnTo>
                  <a:pt x="0" y="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6" name=""/>
          <p:cNvSpPr/>
          <p:nvPr/>
        </p:nvSpPr>
        <p:spPr>
          <a:xfrm>
            <a:off x="4460760" y="5234040"/>
            <a:ext cx="131760" cy="141120"/>
          </a:xfrm>
          <a:custGeom>
            <a:avLst/>
            <a:gdLst/>
            <a:ahLst/>
            <a:rect l="l" t="t" r="r" b="b"/>
            <a:pathLst>
              <a:path w="83" h="89">
                <a:moveTo>
                  <a:pt x="0" y="33"/>
                </a:moveTo>
                <a:lnTo>
                  <a:pt x="77" y="0"/>
                </a:lnTo>
                <a:lnTo>
                  <a:pt x="83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7" name=""/>
          <p:cNvSpPr/>
          <p:nvPr/>
        </p:nvSpPr>
        <p:spPr>
          <a:xfrm flipH="1">
            <a:off x="4776480" y="2590920"/>
            <a:ext cx="4554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8" name=""/>
          <p:cNvSpPr/>
          <p:nvPr/>
        </p:nvSpPr>
        <p:spPr>
          <a:xfrm flipH="1">
            <a:off x="1166760" y="2606760"/>
            <a:ext cx="4269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9" name=""/>
          <p:cNvSpPr/>
          <p:nvPr/>
        </p:nvSpPr>
        <p:spPr>
          <a:xfrm>
            <a:off x="1160640" y="3753000"/>
            <a:ext cx="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0" name=""/>
          <p:cNvSpPr/>
          <p:nvPr/>
        </p:nvSpPr>
        <p:spPr>
          <a:xfrm flipV="1">
            <a:off x="1166760" y="3714840"/>
            <a:ext cx="433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1" name=""/>
          <p:cNvSpPr/>
          <p:nvPr/>
        </p:nvSpPr>
        <p:spPr>
          <a:xfrm flipH="1">
            <a:off x="1081080" y="5070600"/>
            <a:ext cx="32400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2" name=""/>
          <p:cNvSpPr/>
          <p:nvPr/>
        </p:nvSpPr>
        <p:spPr>
          <a:xfrm>
            <a:off x="3944880" y="5245200"/>
            <a:ext cx="114480" cy="120600"/>
          </a:xfrm>
          <a:custGeom>
            <a:avLst/>
            <a:gdLst/>
            <a:ahLst/>
            <a:rect l="l" t="t" r="r" b="b"/>
            <a:pathLst>
              <a:path w="72" h="76">
                <a:moveTo>
                  <a:pt x="0" y="6"/>
                </a:moveTo>
                <a:lnTo>
                  <a:pt x="66" y="0"/>
                </a:lnTo>
                <a:lnTo>
                  <a:pt x="72" y="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3" name=""/>
          <p:cNvSpPr/>
          <p:nvPr/>
        </p:nvSpPr>
        <p:spPr>
          <a:xfrm>
            <a:off x="1109520" y="3197160"/>
            <a:ext cx="108000" cy="115920"/>
          </a:xfrm>
          <a:custGeom>
            <a:avLst/>
            <a:gdLst/>
            <a:ahLst/>
            <a:rect l="l" t="t" r="r" b="b"/>
            <a:pathLst>
              <a:path w="68" h="73">
                <a:moveTo>
                  <a:pt x="28" y="11"/>
                </a:moveTo>
                <a:lnTo>
                  <a:pt x="22" y="11"/>
                </a:lnTo>
                <a:lnTo>
                  <a:pt x="19" y="13"/>
                </a:lnTo>
                <a:lnTo>
                  <a:pt x="16" y="13"/>
                </a:lnTo>
                <a:lnTo>
                  <a:pt x="12" y="14"/>
                </a:lnTo>
                <a:lnTo>
                  <a:pt x="8" y="16"/>
                </a:lnTo>
                <a:lnTo>
                  <a:pt x="5" y="18"/>
                </a:lnTo>
                <a:lnTo>
                  <a:pt x="2" y="23"/>
                </a:lnTo>
                <a:lnTo>
                  <a:pt x="0" y="26"/>
                </a:lnTo>
                <a:lnTo>
                  <a:pt x="0" y="30"/>
                </a:lnTo>
                <a:lnTo>
                  <a:pt x="0" y="33"/>
                </a:lnTo>
                <a:lnTo>
                  <a:pt x="2" y="34"/>
                </a:lnTo>
                <a:lnTo>
                  <a:pt x="2" y="36"/>
                </a:lnTo>
                <a:lnTo>
                  <a:pt x="5" y="36"/>
                </a:lnTo>
                <a:lnTo>
                  <a:pt x="5" y="36"/>
                </a:lnTo>
                <a:lnTo>
                  <a:pt x="6" y="34"/>
                </a:lnTo>
                <a:lnTo>
                  <a:pt x="8" y="34"/>
                </a:lnTo>
                <a:lnTo>
                  <a:pt x="8" y="33"/>
                </a:lnTo>
                <a:lnTo>
                  <a:pt x="8" y="31"/>
                </a:lnTo>
                <a:lnTo>
                  <a:pt x="6" y="28"/>
                </a:lnTo>
                <a:lnTo>
                  <a:pt x="5" y="27"/>
                </a:lnTo>
                <a:lnTo>
                  <a:pt x="5" y="26"/>
                </a:lnTo>
                <a:lnTo>
                  <a:pt x="5" y="24"/>
                </a:lnTo>
                <a:lnTo>
                  <a:pt x="8" y="21"/>
                </a:lnTo>
                <a:lnTo>
                  <a:pt x="10" y="18"/>
                </a:lnTo>
                <a:lnTo>
                  <a:pt x="13" y="17"/>
                </a:lnTo>
                <a:lnTo>
                  <a:pt x="19" y="16"/>
                </a:lnTo>
                <a:lnTo>
                  <a:pt x="25" y="16"/>
                </a:lnTo>
                <a:lnTo>
                  <a:pt x="19" y="30"/>
                </a:lnTo>
                <a:lnTo>
                  <a:pt x="15" y="41"/>
                </a:lnTo>
                <a:lnTo>
                  <a:pt x="13" y="49"/>
                </a:lnTo>
                <a:lnTo>
                  <a:pt x="13" y="54"/>
                </a:lnTo>
                <a:lnTo>
                  <a:pt x="13" y="60"/>
                </a:lnTo>
                <a:lnTo>
                  <a:pt x="15" y="64"/>
                </a:lnTo>
                <a:lnTo>
                  <a:pt x="16" y="67"/>
                </a:lnTo>
                <a:lnTo>
                  <a:pt x="20" y="70"/>
                </a:lnTo>
                <a:lnTo>
                  <a:pt x="23" y="73"/>
                </a:lnTo>
                <a:lnTo>
                  <a:pt x="29" y="73"/>
                </a:lnTo>
                <a:lnTo>
                  <a:pt x="35" y="73"/>
                </a:lnTo>
                <a:lnTo>
                  <a:pt x="40" y="70"/>
                </a:lnTo>
                <a:lnTo>
                  <a:pt x="46" y="66"/>
                </a:lnTo>
                <a:lnTo>
                  <a:pt x="52" y="62"/>
                </a:lnTo>
                <a:lnTo>
                  <a:pt x="58" y="54"/>
                </a:lnTo>
                <a:lnTo>
                  <a:pt x="62" y="44"/>
                </a:lnTo>
                <a:lnTo>
                  <a:pt x="66" y="28"/>
                </a:lnTo>
                <a:lnTo>
                  <a:pt x="68" y="13"/>
                </a:lnTo>
                <a:lnTo>
                  <a:pt x="68" y="7"/>
                </a:lnTo>
                <a:lnTo>
                  <a:pt x="66" y="3"/>
                </a:lnTo>
                <a:lnTo>
                  <a:pt x="65" y="0"/>
                </a:lnTo>
                <a:lnTo>
                  <a:pt x="63" y="0"/>
                </a:lnTo>
                <a:lnTo>
                  <a:pt x="62" y="0"/>
                </a:lnTo>
                <a:lnTo>
                  <a:pt x="60" y="1"/>
                </a:lnTo>
                <a:lnTo>
                  <a:pt x="60" y="1"/>
                </a:lnTo>
                <a:lnTo>
                  <a:pt x="60" y="3"/>
                </a:lnTo>
                <a:lnTo>
                  <a:pt x="60" y="4"/>
                </a:lnTo>
                <a:lnTo>
                  <a:pt x="60" y="6"/>
                </a:lnTo>
                <a:lnTo>
                  <a:pt x="60" y="6"/>
                </a:lnTo>
                <a:lnTo>
                  <a:pt x="62" y="8"/>
                </a:lnTo>
                <a:lnTo>
                  <a:pt x="63" y="13"/>
                </a:lnTo>
                <a:lnTo>
                  <a:pt x="63" y="18"/>
                </a:lnTo>
                <a:lnTo>
                  <a:pt x="63" y="27"/>
                </a:lnTo>
                <a:lnTo>
                  <a:pt x="60" y="37"/>
                </a:lnTo>
                <a:lnTo>
                  <a:pt x="58" y="46"/>
                </a:lnTo>
                <a:lnTo>
                  <a:pt x="53" y="53"/>
                </a:lnTo>
                <a:lnTo>
                  <a:pt x="48" y="60"/>
                </a:lnTo>
                <a:lnTo>
                  <a:pt x="42" y="64"/>
                </a:lnTo>
                <a:lnTo>
                  <a:pt x="38" y="66"/>
                </a:lnTo>
                <a:lnTo>
                  <a:pt x="33" y="66"/>
                </a:lnTo>
                <a:lnTo>
                  <a:pt x="29" y="66"/>
                </a:lnTo>
                <a:lnTo>
                  <a:pt x="26" y="64"/>
                </a:lnTo>
                <a:lnTo>
                  <a:pt x="25" y="63"/>
                </a:lnTo>
                <a:lnTo>
                  <a:pt x="22" y="59"/>
                </a:lnTo>
                <a:lnTo>
                  <a:pt x="22" y="56"/>
                </a:lnTo>
                <a:lnTo>
                  <a:pt x="20" y="51"/>
                </a:lnTo>
                <a:lnTo>
                  <a:pt x="22" y="46"/>
                </a:lnTo>
                <a:lnTo>
                  <a:pt x="22" y="40"/>
                </a:lnTo>
                <a:lnTo>
                  <a:pt x="25" y="34"/>
                </a:lnTo>
                <a:lnTo>
                  <a:pt x="29" y="21"/>
                </a:lnTo>
                <a:lnTo>
                  <a:pt x="33" y="11"/>
                </a:lnTo>
                <a:lnTo>
                  <a:pt x="32" y="11"/>
                </a:lnTo>
                <a:lnTo>
                  <a:pt x="28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4" name=""/>
          <p:cNvSpPr/>
          <p:nvPr/>
        </p:nvSpPr>
        <p:spPr>
          <a:xfrm>
            <a:off x="1335240" y="3208320"/>
            <a:ext cx="27000" cy="114480"/>
          </a:xfrm>
          <a:custGeom>
            <a:avLst/>
            <a:gdLst/>
            <a:ahLst/>
            <a:rect l="l" t="t" r="r" b="b"/>
            <a:pathLst>
              <a:path w="17" h="72">
                <a:moveTo>
                  <a:pt x="17" y="72"/>
                </a:moveTo>
                <a:lnTo>
                  <a:pt x="9" y="55"/>
                </a:lnTo>
                <a:lnTo>
                  <a:pt x="6" y="36"/>
                </a:lnTo>
                <a:lnTo>
                  <a:pt x="6" y="29"/>
                </a:lnTo>
                <a:lnTo>
                  <a:pt x="7" y="21"/>
                </a:lnTo>
                <a:lnTo>
                  <a:pt x="9" y="16"/>
                </a:lnTo>
                <a:lnTo>
                  <a:pt x="11" y="11"/>
                </a:lnTo>
                <a:lnTo>
                  <a:pt x="13" y="9"/>
                </a:lnTo>
                <a:lnTo>
                  <a:pt x="14" y="4"/>
                </a:lnTo>
                <a:lnTo>
                  <a:pt x="17" y="0"/>
                </a:lnTo>
                <a:lnTo>
                  <a:pt x="13" y="0"/>
                </a:lnTo>
                <a:lnTo>
                  <a:pt x="6" y="10"/>
                </a:lnTo>
                <a:lnTo>
                  <a:pt x="3" y="19"/>
                </a:lnTo>
                <a:lnTo>
                  <a:pt x="0" y="27"/>
                </a:lnTo>
                <a:lnTo>
                  <a:pt x="0" y="36"/>
                </a:lnTo>
                <a:lnTo>
                  <a:pt x="0" y="46"/>
                </a:lnTo>
                <a:lnTo>
                  <a:pt x="3" y="56"/>
                </a:lnTo>
                <a:lnTo>
                  <a:pt x="7" y="65"/>
                </a:lnTo>
                <a:lnTo>
                  <a:pt x="13" y="72"/>
                </a:lnTo>
                <a:lnTo>
                  <a:pt x="17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5" name=""/>
          <p:cNvSpPr/>
          <p:nvPr/>
        </p:nvSpPr>
        <p:spPr>
          <a:xfrm>
            <a:off x="1366920" y="320976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27" y="55"/>
                </a:moveTo>
                <a:lnTo>
                  <a:pt x="49" y="0"/>
                </a:lnTo>
                <a:lnTo>
                  <a:pt x="41" y="0"/>
                </a:lnTo>
                <a:lnTo>
                  <a:pt x="27" y="41"/>
                </a:lnTo>
                <a:lnTo>
                  <a:pt x="26" y="45"/>
                </a:lnTo>
                <a:lnTo>
                  <a:pt x="24" y="49"/>
                </a:lnTo>
                <a:lnTo>
                  <a:pt x="23" y="45"/>
                </a:lnTo>
                <a:lnTo>
                  <a:pt x="21" y="41"/>
                </a:lnTo>
                <a:lnTo>
                  <a:pt x="7" y="0"/>
                </a:lnTo>
                <a:lnTo>
                  <a:pt x="0" y="0"/>
                </a:lnTo>
                <a:lnTo>
                  <a:pt x="20" y="55"/>
                </a:lnTo>
                <a:lnTo>
                  <a:pt x="27" y="5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6" name=""/>
          <p:cNvSpPr/>
          <p:nvPr/>
        </p:nvSpPr>
        <p:spPr>
          <a:xfrm>
            <a:off x="1519200" y="3208320"/>
            <a:ext cx="27000" cy="114480"/>
          </a:xfrm>
          <a:custGeom>
            <a:avLst/>
            <a:gdLst/>
            <a:ahLst/>
            <a:rect l="l" t="t" r="r" b="b"/>
            <a:pathLst>
              <a:path w="17" h="72">
                <a:moveTo>
                  <a:pt x="13" y="56"/>
                </a:moveTo>
                <a:lnTo>
                  <a:pt x="15" y="46"/>
                </a:lnTo>
                <a:lnTo>
                  <a:pt x="17" y="36"/>
                </a:lnTo>
                <a:lnTo>
                  <a:pt x="15" y="27"/>
                </a:lnTo>
                <a:lnTo>
                  <a:pt x="14" y="19"/>
                </a:lnTo>
                <a:lnTo>
                  <a:pt x="10" y="10"/>
                </a:lnTo>
                <a:lnTo>
                  <a:pt x="4" y="0"/>
                </a:lnTo>
                <a:lnTo>
                  <a:pt x="0" y="0"/>
                </a:lnTo>
                <a:lnTo>
                  <a:pt x="3" y="4"/>
                </a:lnTo>
                <a:lnTo>
                  <a:pt x="4" y="9"/>
                </a:lnTo>
                <a:lnTo>
                  <a:pt x="5" y="11"/>
                </a:lnTo>
                <a:lnTo>
                  <a:pt x="7" y="17"/>
                </a:lnTo>
                <a:lnTo>
                  <a:pt x="8" y="21"/>
                </a:lnTo>
                <a:lnTo>
                  <a:pt x="10" y="29"/>
                </a:lnTo>
                <a:lnTo>
                  <a:pt x="10" y="36"/>
                </a:lnTo>
                <a:lnTo>
                  <a:pt x="7" y="55"/>
                </a:lnTo>
                <a:lnTo>
                  <a:pt x="0" y="72"/>
                </a:lnTo>
                <a:lnTo>
                  <a:pt x="4" y="72"/>
                </a:lnTo>
                <a:lnTo>
                  <a:pt x="8" y="65"/>
                </a:lnTo>
                <a:lnTo>
                  <a:pt x="13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7" name=""/>
          <p:cNvSpPr/>
          <p:nvPr/>
        </p:nvSpPr>
        <p:spPr>
          <a:xfrm>
            <a:off x="1268280" y="3160800"/>
            <a:ext cx="39960" cy="63360"/>
          </a:xfrm>
          <a:custGeom>
            <a:avLst/>
            <a:gdLst/>
            <a:ahLst/>
            <a:rect l="l" t="t" r="r" b="b"/>
            <a:pathLst>
              <a:path w="25" h="40">
                <a:moveTo>
                  <a:pt x="3" y="36"/>
                </a:moveTo>
                <a:lnTo>
                  <a:pt x="6" y="39"/>
                </a:lnTo>
                <a:lnTo>
                  <a:pt x="9" y="40"/>
                </a:lnTo>
                <a:lnTo>
                  <a:pt x="12" y="40"/>
                </a:lnTo>
                <a:lnTo>
                  <a:pt x="16" y="40"/>
                </a:lnTo>
                <a:lnTo>
                  <a:pt x="19" y="39"/>
                </a:lnTo>
                <a:lnTo>
                  <a:pt x="22" y="36"/>
                </a:lnTo>
                <a:lnTo>
                  <a:pt x="23" y="31"/>
                </a:lnTo>
                <a:lnTo>
                  <a:pt x="25" y="27"/>
                </a:lnTo>
                <a:lnTo>
                  <a:pt x="25" y="20"/>
                </a:lnTo>
                <a:lnTo>
                  <a:pt x="25" y="16"/>
                </a:lnTo>
                <a:lnTo>
                  <a:pt x="23" y="11"/>
                </a:lnTo>
                <a:lnTo>
                  <a:pt x="23" y="8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0"/>
                </a:lnTo>
                <a:lnTo>
                  <a:pt x="9" y="1"/>
                </a:lnTo>
                <a:lnTo>
                  <a:pt x="6" y="3"/>
                </a:lnTo>
                <a:lnTo>
                  <a:pt x="3" y="6"/>
                </a:lnTo>
                <a:lnTo>
                  <a:pt x="2" y="8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2" y="33"/>
                </a:lnTo>
                <a:lnTo>
                  <a:pt x="3" y="36"/>
                </a:lnTo>
                <a:close/>
                <a:moveTo>
                  <a:pt x="8" y="7"/>
                </a:moveTo>
                <a:lnTo>
                  <a:pt x="9" y="4"/>
                </a:lnTo>
                <a:lnTo>
                  <a:pt x="12" y="4"/>
                </a:lnTo>
                <a:lnTo>
                  <a:pt x="16" y="6"/>
                </a:lnTo>
                <a:lnTo>
                  <a:pt x="18" y="7"/>
                </a:lnTo>
                <a:lnTo>
                  <a:pt x="19" y="10"/>
                </a:lnTo>
                <a:lnTo>
                  <a:pt x="20" y="14"/>
                </a:lnTo>
                <a:lnTo>
                  <a:pt x="20" y="20"/>
                </a:lnTo>
                <a:lnTo>
                  <a:pt x="20" y="26"/>
                </a:lnTo>
                <a:lnTo>
                  <a:pt x="19" y="30"/>
                </a:lnTo>
                <a:lnTo>
                  <a:pt x="18" y="33"/>
                </a:lnTo>
                <a:lnTo>
                  <a:pt x="16" y="36"/>
                </a:lnTo>
                <a:lnTo>
                  <a:pt x="12" y="37"/>
                </a:lnTo>
                <a:lnTo>
                  <a:pt x="9" y="36"/>
                </a:lnTo>
                <a:lnTo>
                  <a:pt x="8" y="33"/>
                </a:lnTo>
                <a:lnTo>
                  <a:pt x="6" y="30"/>
                </a:lnTo>
                <a:lnTo>
                  <a:pt x="5" y="26"/>
                </a:lnTo>
                <a:lnTo>
                  <a:pt x="5" y="20"/>
                </a:lnTo>
                <a:lnTo>
                  <a:pt x="5" y="14"/>
                </a:lnTo>
                <a:lnTo>
                  <a:pt x="6" y="1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8" name=""/>
          <p:cNvSpPr/>
          <p:nvPr/>
        </p:nvSpPr>
        <p:spPr>
          <a:xfrm>
            <a:off x="1450800" y="316548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4" y="36"/>
                </a:moveTo>
                <a:lnTo>
                  <a:pt x="6" y="38"/>
                </a:lnTo>
                <a:lnTo>
                  <a:pt x="8" y="40"/>
                </a:lnTo>
                <a:lnTo>
                  <a:pt x="11" y="40"/>
                </a:lnTo>
                <a:lnTo>
                  <a:pt x="16" y="38"/>
                </a:lnTo>
                <a:lnTo>
                  <a:pt x="18" y="37"/>
                </a:lnTo>
                <a:lnTo>
                  <a:pt x="21" y="34"/>
                </a:lnTo>
                <a:lnTo>
                  <a:pt x="23" y="31"/>
                </a:lnTo>
                <a:lnTo>
                  <a:pt x="24" y="26"/>
                </a:lnTo>
                <a:lnTo>
                  <a:pt x="24" y="20"/>
                </a:lnTo>
                <a:lnTo>
                  <a:pt x="24" y="14"/>
                </a:lnTo>
                <a:lnTo>
                  <a:pt x="23" y="10"/>
                </a:lnTo>
                <a:lnTo>
                  <a:pt x="23" y="7"/>
                </a:lnTo>
                <a:lnTo>
                  <a:pt x="21" y="4"/>
                </a:lnTo>
                <a:lnTo>
                  <a:pt x="20" y="3"/>
                </a:lnTo>
                <a:lnTo>
                  <a:pt x="17" y="1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3" y="4"/>
                </a:lnTo>
                <a:lnTo>
                  <a:pt x="1" y="8"/>
                </a:lnTo>
                <a:lnTo>
                  <a:pt x="0" y="13"/>
                </a:lnTo>
                <a:lnTo>
                  <a:pt x="0" y="20"/>
                </a:lnTo>
                <a:lnTo>
                  <a:pt x="0" y="26"/>
                </a:lnTo>
                <a:lnTo>
                  <a:pt x="1" y="31"/>
                </a:lnTo>
                <a:lnTo>
                  <a:pt x="4" y="36"/>
                </a:lnTo>
                <a:close/>
                <a:moveTo>
                  <a:pt x="7" y="5"/>
                </a:moveTo>
                <a:lnTo>
                  <a:pt x="8" y="4"/>
                </a:lnTo>
                <a:lnTo>
                  <a:pt x="11" y="4"/>
                </a:lnTo>
                <a:lnTo>
                  <a:pt x="16" y="4"/>
                </a:lnTo>
                <a:lnTo>
                  <a:pt x="17" y="7"/>
                </a:lnTo>
                <a:lnTo>
                  <a:pt x="18" y="10"/>
                </a:lnTo>
                <a:lnTo>
                  <a:pt x="20" y="14"/>
                </a:lnTo>
                <a:lnTo>
                  <a:pt x="20" y="20"/>
                </a:lnTo>
                <a:lnTo>
                  <a:pt x="20" y="26"/>
                </a:lnTo>
                <a:lnTo>
                  <a:pt x="18" y="30"/>
                </a:lnTo>
                <a:lnTo>
                  <a:pt x="17" y="33"/>
                </a:lnTo>
                <a:lnTo>
                  <a:pt x="16" y="36"/>
                </a:lnTo>
                <a:lnTo>
                  <a:pt x="11" y="36"/>
                </a:lnTo>
                <a:lnTo>
                  <a:pt x="8" y="36"/>
                </a:lnTo>
                <a:lnTo>
                  <a:pt x="7" y="33"/>
                </a:lnTo>
                <a:lnTo>
                  <a:pt x="6" y="30"/>
                </a:lnTo>
                <a:lnTo>
                  <a:pt x="4" y="26"/>
                </a:lnTo>
                <a:lnTo>
                  <a:pt x="4" y="20"/>
                </a:lnTo>
                <a:lnTo>
                  <a:pt x="4" y="14"/>
                </a:lnTo>
                <a:lnTo>
                  <a:pt x="6" y="10"/>
                </a:lnTo>
                <a:lnTo>
                  <a:pt x="7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9" name=""/>
          <p:cNvSpPr/>
          <p:nvPr/>
        </p:nvSpPr>
        <p:spPr>
          <a:xfrm>
            <a:off x="1260360" y="5381640"/>
            <a:ext cx="38160" cy="63360"/>
          </a:xfrm>
          <a:custGeom>
            <a:avLst/>
            <a:gdLst/>
            <a:ahLst/>
            <a:rect l="l" t="t" r="r" b="b"/>
            <a:pathLst>
              <a:path w="24" h="40">
                <a:moveTo>
                  <a:pt x="4" y="36"/>
                </a:moveTo>
                <a:lnTo>
                  <a:pt x="5" y="39"/>
                </a:lnTo>
                <a:lnTo>
                  <a:pt x="8" y="40"/>
                </a:lnTo>
                <a:lnTo>
                  <a:pt x="13" y="40"/>
                </a:lnTo>
                <a:lnTo>
                  <a:pt x="15" y="39"/>
                </a:lnTo>
                <a:lnTo>
                  <a:pt x="20" y="38"/>
                </a:lnTo>
                <a:lnTo>
                  <a:pt x="21" y="35"/>
                </a:lnTo>
                <a:lnTo>
                  <a:pt x="23" y="32"/>
                </a:lnTo>
                <a:lnTo>
                  <a:pt x="24" y="26"/>
                </a:lnTo>
                <a:lnTo>
                  <a:pt x="24" y="20"/>
                </a:lnTo>
                <a:lnTo>
                  <a:pt x="24" y="15"/>
                </a:lnTo>
                <a:lnTo>
                  <a:pt x="24" y="10"/>
                </a:lnTo>
                <a:lnTo>
                  <a:pt x="23" y="7"/>
                </a:lnTo>
                <a:lnTo>
                  <a:pt x="21" y="5"/>
                </a:lnTo>
                <a:lnTo>
                  <a:pt x="20" y="3"/>
                </a:lnTo>
                <a:lnTo>
                  <a:pt x="18" y="2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2"/>
                </a:lnTo>
                <a:lnTo>
                  <a:pt x="3" y="5"/>
                </a:lnTo>
                <a:lnTo>
                  <a:pt x="1" y="9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1" y="32"/>
                </a:lnTo>
                <a:lnTo>
                  <a:pt x="4" y="36"/>
                </a:lnTo>
                <a:close/>
                <a:moveTo>
                  <a:pt x="7" y="7"/>
                </a:moveTo>
                <a:lnTo>
                  <a:pt x="10" y="5"/>
                </a:lnTo>
                <a:lnTo>
                  <a:pt x="13" y="5"/>
                </a:lnTo>
                <a:lnTo>
                  <a:pt x="15" y="5"/>
                </a:lnTo>
                <a:lnTo>
                  <a:pt x="18" y="7"/>
                </a:lnTo>
                <a:lnTo>
                  <a:pt x="18" y="10"/>
                </a:lnTo>
                <a:lnTo>
                  <a:pt x="20" y="15"/>
                </a:lnTo>
                <a:lnTo>
                  <a:pt x="20" y="20"/>
                </a:lnTo>
                <a:lnTo>
                  <a:pt x="20" y="26"/>
                </a:lnTo>
                <a:lnTo>
                  <a:pt x="18" y="30"/>
                </a:lnTo>
                <a:lnTo>
                  <a:pt x="18" y="33"/>
                </a:lnTo>
                <a:lnTo>
                  <a:pt x="15" y="36"/>
                </a:lnTo>
                <a:lnTo>
                  <a:pt x="13" y="36"/>
                </a:lnTo>
                <a:lnTo>
                  <a:pt x="10" y="36"/>
                </a:lnTo>
                <a:lnTo>
                  <a:pt x="7" y="33"/>
                </a:lnTo>
                <a:lnTo>
                  <a:pt x="5" y="30"/>
                </a:lnTo>
                <a:lnTo>
                  <a:pt x="5" y="26"/>
                </a:lnTo>
                <a:lnTo>
                  <a:pt x="5" y="20"/>
                </a:lnTo>
                <a:lnTo>
                  <a:pt x="5" y="15"/>
                </a:lnTo>
                <a:lnTo>
                  <a:pt x="5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0" name=""/>
          <p:cNvSpPr/>
          <p:nvPr/>
        </p:nvSpPr>
        <p:spPr>
          <a:xfrm>
            <a:off x="457200" y="542304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64" y="63"/>
                </a:moveTo>
                <a:lnTo>
                  <a:pt x="61" y="63"/>
                </a:lnTo>
                <a:lnTo>
                  <a:pt x="58" y="62"/>
                </a:lnTo>
                <a:lnTo>
                  <a:pt x="60" y="40"/>
                </a:lnTo>
                <a:lnTo>
                  <a:pt x="64" y="12"/>
                </a:lnTo>
                <a:lnTo>
                  <a:pt x="64" y="6"/>
                </a:lnTo>
                <a:lnTo>
                  <a:pt x="65" y="0"/>
                </a:lnTo>
                <a:lnTo>
                  <a:pt x="64" y="1"/>
                </a:lnTo>
                <a:lnTo>
                  <a:pt x="61" y="3"/>
                </a:lnTo>
                <a:lnTo>
                  <a:pt x="58" y="3"/>
                </a:lnTo>
                <a:lnTo>
                  <a:pt x="54" y="4"/>
                </a:lnTo>
                <a:lnTo>
                  <a:pt x="48" y="4"/>
                </a:lnTo>
                <a:lnTo>
                  <a:pt x="45" y="4"/>
                </a:lnTo>
                <a:lnTo>
                  <a:pt x="40" y="6"/>
                </a:lnTo>
                <a:lnTo>
                  <a:pt x="37" y="9"/>
                </a:lnTo>
                <a:lnTo>
                  <a:pt x="32" y="12"/>
                </a:lnTo>
                <a:lnTo>
                  <a:pt x="31" y="14"/>
                </a:lnTo>
                <a:lnTo>
                  <a:pt x="30" y="17"/>
                </a:lnTo>
                <a:lnTo>
                  <a:pt x="30" y="22"/>
                </a:lnTo>
                <a:lnTo>
                  <a:pt x="30" y="24"/>
                </a:lnTo>
                <a:lnTo>
                  <a:pt x="30" y="26"/>
                </a:lnTo>
                <a:lnTo>
                  <a:pt x="31" y="26"/>
                </a:lnTo>
                <a:lnTo>
                  <a:pt x="32" y="27"/>
                </a:lnTo>
                <a:lnTo>
                  <a:pt x="34" y="26"/>
                </a:lnTo>
                <a:lnTo>
                  <a:pt x="35" y="26"/>
                </a:lnTo>
                <a:lnTo>
                  <a:pt x="35" y="24"/>
                </a:lnTo>
                <a:lnTo>
                  <a:pt x="35" y="24"/>
                </a:lnTo>
                <a:lnTo>
                  <a:pt x="35" y="23"/>
                </a:lnTo>
                <a:lnTo>
                  <a:pt x="35" y="22"/>
                </a:lnTo>
                <a:lnTo>
                  <a:pt x="34" y="20"/>
                </a:lnTo>
                <a:lnTo>
                  <a:pt x="34" y="19"/>
                </a:lnTo>
                <a:lnTo>
                  <a:pt x="35" y="16"/>
                </a:lnTo>
                <a:lnTo>
                  <a:pt x="37" y="13"/>
                </a:lnTo>
                <a:lnTo>
                  <a:pt x="38" y="10"/>
                </a:lnTo>
                <a:lnTo>
                  <a:pt x="42" y="9"/>
                </a:lnTo>
                <a:lnTo>
                  <a:pt x="45" y="9"/>
                </a:lnTo>
                <a:lnTo>
                  <a:pt x="51" y="7"/>
                </a:lnTo>
                <a:lnTo>
                  <a:pt x="57" y="7"/>
                </a:lnTo>
                <a:lnTo>
                  <a:pt x="47" y="20"/>
                </a:lnTo>
                <a:lnTo>
                  <a:pt x="34" y="40"/>
                </a:lnTo>
                <a:lnTo>
                  <a:pt x="24" y="57"/>
                </a:lnTo>
                <a:lnTo>
                  <a:pt x="15" y="66"/>
                </a:lnTo>
                <a:lnTo>
                  <a:pt x="11" y="70"/>
                </a:lnTo>
                <a:lnTo>
                  <a:pt x="8" y="70"/>
                </a:lnTo>
                <a:lnTo>
                  <a:pt x="7" y="70"/>
                </a:lnTo>
                <a:lnTo>
                  <a:pt x="4" y="70"/>
                </a:lnTo>
                <a:lnTo>
                  <a:pt x="4" y="69"/>
                </a:lnTo>
                <a:lnTo>
                  <a:pt x="2" y="69"/>
                </a:lnTo>
                <a:lnTo>
                  <a:pt x="1" y="70"/>
                </a:lnTo>
                <a:lnTo>
                  <a:pt x="1" y="70"/>
                </a:lnTo>
                <a:lnTo>
                  <a:pt x="0" y="72"/>
                </a:lnTo>
                <a:lnTo>
                  <a:pt x="0" y="73"/>
                </a:lnTo>
                <a:lnTo>
                  <a:pt x="0" y="75"/>
                </a:lnTo>
                <a:lnTo>
                  <a:pt x="1" y="76"/>
                </a:lnTo>
                <a:lnTo>
                  <a:pt x="2" y="76"/>
                </a:lnTo>
                <a:lnTo>
                  <a:pt x="5" y="76"/>
                </a:lnTo>
                <a:lnTo>
                  <a:pt x="8" y="76"/>
                </a:lnTo>
                <a:lnTo>
                  <a:pt x="12" y="75"/>
                </a:lnTo>
                <a:lnTo>
                  <a:pt x="17" y="72"/>
                </a:lnTo>
                <a:lnTo>
                  <a:pt x="24" y="63"/>
                </a:lnTo>
                <a:lnTo>
                  <a:pt x="34" y="46"/>
                </a:lnTo>
                <a:lnTo>
                  <a:pt x="41" y="46"/>
                </a:lnTo>
                <a:lnTo>
                  <a:pt x="48" y="46"/>
                </a:lnTo>
                <a:lnTo>
                  <a:pt x="53" y="46"/>
                </a:lnTo>
                <a:lnTo>
                  <a:pt x="51" y="53"/>
                </a:lnTo>
                <a:lnTo>
                  <a:pt x="51" y="57"/>
                </a:lnTo>
                <a:lnTo>
                  <a:pt x="50" y="62"/>
                </a:lnTo>
                <a:lnTo>
                  <a:pt x="48" y="66"/>
                </a:lnTo>
                <a:lnTo>
                  <a:pt x="51" y="65"/>
                </a:lnTo>
                <a:lnTo>
                  <a:pt x="54" y="65"/>
                </a:lnTo>
                <a:lnTo>
                  <a:pt x="57" y="65"/>
                </a:lnTo>
                <a:lnTo>
                  <a:pt x="60" y="65"/>
                </a:lnTo>
                <a:lnTo>
                  <a:pt x="63" y="66"/>
                </a:lnTo>
                <a:lnTo>
                  <a:pt x="65" y="66"/>
                </a:lnTo>
                <a:lnTo>
                  <a:pt x="67" y="66"/>
                </a:lnTo>
                <a:lnTo>
                  <a:pt x="68" y="66"/>
                </a:lnTo>
                <a:lnTo>
                  <a:pt x="68" y="63"/>
                </a:lnTo>
                <a:lnTo>
                  <a:pt x="67" y="63"/>
                </a:lnTo>
                <a:lnTo>
                  <a:pt x="64" y="63"/>
                </a:lnTo>
                <a:close/>
                <a:moveTo>
                  <a:pt x="48" y="43"/>
                </a:moveTo>
                <a:lnTo>
                  <a:pt x="42" y="43"/>
                </a:lnTo>
                <a:lnTo>
                  <a:pt x="37" y="43"/>
                </a:lnTo>
                <a:lnTo>
                  <a:pt x="50" y="23"/>
                </a:lnTo>
                <a:lnTo>
                  <a:pt x="51" y="22"/>
                </a:lnTo>
                <a:lnTo>
                  <a:pt x="54" y="17"/>
                </a:lnTo>
                <a:lnTo>
                  <a:pt x="57" y="12"/>
                </a:lnTo>
                <a:lnTo>
                  <a:pt x="55" y="24"/>
                </a:lnTo>
                <a:lnTo>
                  <a:pt x="53" y="43"/>
                </a:lnTo>
                <a:lnTo>
                  <a:pt x="51" y="43"/>
                </a:lnTo>
                <a:lnTo>
                  <a:pt x="48" y="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1" name=""/>
          <p:cNvSpPr/>
          <p:nvPr/>
        </p:nvSpPr>
        <p:spPr>
          <a:xfrm>
            <a:off x="723960" y="5405400"/>
            <a:ext cx="36360" cy="154080"/>
          </a:xfrm>
          <a:custGeom>
            <a:avLst/>
            <a:gdLst/>
            <a:ahLst/>
            <a:rect l="l" t="t" r="r" b="b"/>
            <a:pathLst>
              <a:path w="23" h="97">
                <a:moveTo>
                  <a:pt x="23" y="97"/>
                </a:moveTo>
                <a:lnTo>
                  <a:pt x="13" y="73"/>
                </a:lnTo>
                <a:lnTo>
                  <a:pt x="9" y="48"/>
                </a:lnTo>
                <a:lnTo>
                  <a:pt x="9" y="40"/>
                </a:lnTo>
                <a:lnTo>
                  <a:pt x="12" y="30"/>
                </a:lnTo>
                <a:lnTo>
                  <a:pt x="13" y="23"/>
                </a:lnTo>
                <a:lnTo>
                  <a:pt x="16" y="15"/>
                </a:lnTo>
                <a:lnTo>
                  <a:pt x="17" y="11"/>
                </a:lnTo>
                <a:lnTo>
                  <a:pt x="20" y="5"/>
                </a:lnTo>
                <a:lnTo>
                  <a:pt x="23" y="0"/>
                </a:lnTo>
                <a:lnTo>
                  <a:pt x="17" y="0"/>
                </a:lnTo>
                <a:lnTo>
                  <a:pt x="9" y="12"/>
                </a:lnTo>
                <a:lnTo>
                  <a:pt x="3" y="25"/>
                </a:lnTo>
                <a:lnTo>
                  <a:pt x="0" y="37"/>
                </a:lnTo>
                <a:lnTo>
                  <a:pt x="0" y="48"/>
                </a:lnTo>
                <a:lnTo>
                  <a:pt x="2" y="63"/>
                </a:lnTo>
                <a:lnTo>
                  <a:pt x="5" y="76"/>
                </a:lnTo>
                <a:lnTo>
                  <a:pt x="10" y="87"/>
                </a:lnTo>
                <a:lnTo>
                  <a:pt x="17" y="97"/>
                </a:lnTo>
                <a:lnTo>
                  <a:pt x="23" y="9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2" name=""/>
          <p:cNvSpPr/>
          <p:nvPr/>
        </p:nvSpPr>
        <p:spPr>
          <a:xfrm>
            <a:off x="771480" y="5411880"/>
            <a:ext cx="109440" cy="115920"/>
          </a:xfrm>
          <a:custGeom>
            <a:avLst/>
            <a:gdLst/>
            <a:ahLst/>
            <a:rect l="l" t="t" r="r" b="b"/>
            <a:pathLst>
              <a:path w="69" h="73">
                <a:moveTo>
                  <a:pt x="28" y="11"/>
                </a:moveTo>
                <a:lnTo>
                  <a:pt x="23" y="11"/>
                </a:lnTo>
                <a:lnTo>
                  <a:pt x="19" y="11"/>
                </a:lnTo>
                <a:lnTo>
                  <a:pt x="16" y="13"/>
                </a:lnTo>
                <a:lnTo>
                  <a:pt x="12" y="14"/>
                </a:lnTo>
                <a:lnTo>
                  <a:pt x="7" y="16"/>
                </a:lnTo>
                <a:lnTo>
                  <a:pt x="5" y="19"/>
                </a:lnTo>
                <a:lnTo>
                  <a:pt x="2" y="23"/>
                </a:lnTo>
                <a:lnTo>
                  <a:pt x="0" y="26"/>
                </a:lnTo>
                <a:lnTo>
                  <a:pt x="0" y="30"/>
                </a:lnTo>
                <a:lnTo>
                  <a:pt x="0" y="33"/>
                </a:lnTo>
                <a:lnTo>
                  <a:pt x="2" y="34"/>
                </a:lnTo>
                <a:lnTo>
                  <a:pt x="3" y="36"/>
                </a:lnTo>
                <a:lnTo>
                  <a:pt x="5" y="36"/>
                </a:lnTo>
                <a:lnTo>
                  <a:pt x="6" y="36"/>
                </a:lnTo>
                <a:lnTo>
                  <a:pt x="6" y="34"/>
                </a:lnTo>
                <a:lnTo>
                  <a:pt x="7" y="34"/>
                </a:lnTo>
                <a:lnTo>
                  <a:pt x="7" y="33"/>
                </a:lnTo>
                <a:lnTo>
                  <a:pt x="7" y="31"/>
                </a:lnTo>
                <a:lnTo>
                  <a:pt x="6" y="29"/>
                </a:lnTo>
                <a:lnTo>
                  <a:pt x="5" y="27"/>
                </a:lnTo>
                <a:lnTo>
                  <a:pt x="5" y="26"/>
                </a:lnTo>
                <a:lnTo>
                  <a:pt x="6" y="23"/>
                </a:lnTo>
                <a:lnTo>
                  <a:pt x="7" y="21"/>
                </a:lnTo>
                <a:lnTo>
                  <a:pt x="10" y="19"/>
                </a:lnTo>
                <a:lnTo>
                  <a:pt x="15" y="17"/>
                </a:lnTo>
                <a:lnTo>
                  <a:pt x="19" y="16"/>
                </a:lnTo>
                <a:lnTo>
                  <a:pt x="25" y="14"/>
                </a:lnTo>
                <a:lnTo>
                  <a:pt x="19" y="30"/>
                </a:lnTo>
                <a:lnTo>
                  <a:pt x="15" y="42"/>
                </a:lnTo>
                <a:lnTo>
                  <a:pt x="13" y="49"/>
                </a:lnTo>
                <a:lnTo>
                  <a:pt x="13" y="54"/>
                </a:lnTo>
                <a:lnTo>
                  <a:pt x="13" y="60"/>
                </a:lnTo>
                <a:lnTo>
                  <a:pt x="15" y="64"/>
                </a:lnTo>
                <a:lnTo>
                  <a:pt x="18" y="67"/>
                </a:lnTo>
                <a:lnTo>
                  <a:pt x="20" y="70"/>
                </a:lnTo>
                <a:lnTo>
                  <a:pt x="25" y="73"/>
                </a:lnTo>
                <a:lnTo>
                  <a:pt x="29" y="73"/>
                </a:lnTo>
                <a:lnTo>
                  <a:pt x="35" y="72"/>
                </a:lnTo>
                <a:lnTo>
                  <a:pt x="40" y="70"/>
                </a:lnTo>
                <a:lnTo>
                  <a:pt x="46" y="66"/>
                </a:lnTo>
                <a:lnTo>
                  <a:pt x="52" y="62"/>
                </a:lnTo>
                <a:lnTo>
                  <a:pt x="58" y="53"/>
                </a:lnTo>
                <a:lnTo>
                  <a:pt x="62" y="44"/>
                </a:lnTo>
                <a:lnTo>
                  <a:pt x="66" y="29"/>
                </a:lnTo>
                <a:lnTo>
                  <a:pt x="69" y="13"/>
                </a:lnTo>
                <a:lnTo>
                  <a:pt x="68" y="7"/>
                </a:lnTo>
                <a:lnTo>
                  <a:pt x="66" y="3"/>
                </a:lnTo>
                <a:lnTo>
                  <a:pt x="65" y="0"/>
                </a:lnTo>
                <a:lnTo>
                  <a:pt x="63" y="0"/>
                </a:lnTo>
                <a:lnTo>
                  <a:pt x="62" y="0"/>
                </a:lnTo>
                <a:lnTo>
                  <a:pt x="60" y="1"/>
                </a:lnTo>
                <a:lnTo>
                  <a:pt x="60" y="1"/>
                </a:lnTo>
                <a:lnTo>
                  <a:pt x="60" y="3"/>
                </a:lnTo>
                <a:lnTo>
                  <a:pt x="60" y="4"/>
                </a:lnTo>
                <a:lnTo>
                  <a:pt x="60" y="4"/>
                </a:lnTo>
                <a:lnTo>
                  <a:pt x="60" y="6"/>
                </a:lnTo>
                <a:lnTo>
                  <a:pt x="62" y="8"/>
                </a:lnTo>
                <a:lnTo>
                  <a:pt x="63" y="13"/>
                </a:lnTo>
                <a:lnTo>
                  <a:pt x="63" y="19"/>
                </a:lnTo>
                <a:lnTo>
                  <a:pt x="63" y="27"/>
                </a:lnTo>
                <a:lnTo>
                  <a:pt x="60" y="37"/>
                </a:lnTo>
                <a:lnTo>
                  <a:pt x="58" y="46"/>
                </a:lnTo>
                <a:lnTo>
                  <a:pt x="53" y="53"/>
                </a:lnTo>
                <a:lnTo>
                  <a:pt x="48" y="60"/>
                </a:lnTo>
                <a:lnTo>
                  <a:pt x="42" y="64"/>
                </a:lnTo>
                <a:lnTo>
                  <a:pt x="38" y="66"/>
                </a:lnTo>
                <a:lnTo>
                  <a:pt x="33" y="66"/>
                </a:lnTo>
                <a:lnTo>
                  <a:pt x="30" y="66"/>
                </a:lnTo>
                <a:lnTo>
                  <a:pt x="28" y="64"/>
                </a:lnTo>
                <a:lnTo>
                  <a:pt x="25" y="62"/>
                </a:lnTo>
                <a:lnTo>
                  <a:pt x="22" y="59"/>
                </a:lnTo>
                <a:lnTo>
                  <a:pt x="22" y="56"/>
                </a:lnTo>
                <a:lnTo>
                  <a:pt x="20" y="50"/>
                </a:lnTo>
                <a:lnTo>
                  <a:pt x="22" y="46"/>
                </a:lnTo>
                <a:lnTo>
                  <a:pt x="22" y="40"/>
                </a:lnTo>
                <a:lnTo>
                  <a:pt x="25" y="34"/>
                </a:lnTo>
                <a:lnTo>
                  <a:pt x="29" y="21"/>
                </a:lnTo>
                <a:lnTo>
                  <a:pt x="35" y="11"/>
                </a:lnTo>
                <a:lnTo>
                  <a:pt x="32" y="11"/>
                </a:lnTo>
                <a:lnTo>
                  <a:pt x="28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3" name=""/>
          <p:cNvSpPr/>
          <p:nvPr/>
        </p:nvSpPr>
        <p:spPr>
          <a:xfrm>
            <a:off x="990720" y="5424480"/>
            <a:ext cx="2844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18" y="74"/>
                </a:moveTo>
                <a:lnTo>
                  <a:pt x="10" y="55"/>
                </a:lnTo>
                <a:lnTo>
                  <a:pt x="7" y="36"/>
                </a:lnTo>
                <a:lnTo>
                  <a:pt x="7" y="29"/>
                </a:lnTo>
                <a:lnTo>
                  <a:pt x="8" y="23"/>
                </a:lnTo>
                <a:lnTo>
                  <a:pt x="10" y="18"/>
                </a:lnTo>
                <a:lnTo>
                  <a:pt x="12" y="12"/>
                </a:lnTo>
                <a:lnTo>
                  <a:pt x="12" y="9"/>
                </a:lnTo>
                <a:lnTo>
                  <a:pt x="15" y="5"/>
                </a:lnTo>
                <a:lnTo>
                  <a:pt x="18" y="0"/>
                </a:lnTo>
                <a:lnTo>
                  <a:pt x="12" y="0"/>
                </a:lnTo>
                <a:lnTo>
                  <a:pt x="7" y="11"/>
                </a:lnTo>
                <a:lnTo>
                  <a:pt x="2" y="19"/>
                </a:lnTo>
                <a:lnTo>
                  <a:pt x="1" y="28"/>
                </a:lnTo>
                <a:lnTo>
                  <a:pt x="0" y="36"/>
                </a:lnTo>
                <a:lnTo>
                  <a:pt x="1" y="46"/>
                </a:lnTo>
                <a:lnTo>
                  <a:pt x="4" y="56"/>
                </a:lnTo>
                <a:lnTo>
                  <a:pt x="8" y="65"/>
                </a:lnTo>
                <a:lnTo>
                  <a:pt x="12" y="74"/>
                </a:lnTo>
                <a:lnTo>
                  <a:pt x="18" y="7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4" name=""/>
          <p:cNvSpPr/>
          <p:nvPr/>
        </p:nvSpPr>
        <p:spPr>
          <a:xfrm>
            <a:off x="1023840" y="5427720"/>
            <a:ext cx="74880" cy="85680"/>
          </a:xfrm>
          <a:custGeom>
            <a:avLst/>
            <a:gdLst/>
            <a:ahLst/>
            <a:rect l="l" t="t" r="r" b="b"/>
            <a:pathLst>
              <a:path w="47" h="54">
                <a:moveTo>
                  <a:pt x="27" y="54"/>
                </a:moveTo>
                <a:lnTo>
                  <a:pt x="47" y="0"/>
                </a:lnTo>
                <a:lnTo>
                  <a:pt x="40" y="0"/>
                </a:lnTo>
                <a:lnTo>
                  <a:pt x="26" y="40"/>
                </a:lnTo>
                <a:lnTo>
                  <a:pt x="24" y="44"/>
                </a:lnTo>
                <a:lnTo>
                  <a:pt x="23" y="49"/>
                </a:lnTo>
                <a:lnTo>
                  <a:pt x="23" y="44"/>
                </a:lnTo>
                <a:lnTo>
                  <a:pt x="22" y="40"/>
                </a:lnTo>
                <a:lnTo>
                  <a:pt x="7" y="0"/>
                </a:lnTo>
                <a:lnTo>
                  <a:pt x="0" y="0"/>
                </a:lnTo>
                <a:lnTo>
                  <a:pt x="20" y="54"/>
                </a:lnTo>
                <a:lnTo>
                  <a:pt x="27" y="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5" name=""/>
          <p:cNvSpPr/>
          <p:nvPr/>
        </p:nvSpPr>
        <p:spPr>
          <a:xfrm>
            <a:off x="1146240" y="5429160"/>
            <a:ext cx="31680" cy="112680"/>
          </a:xfrm>
          <a:custGeom>
            <a:avLst/>
            <a:gdLst/>
            <a:ahLst/>
            <a:rect l="l" t="t" r="r" b="b"/>
            <a:pathLst>
              <a:path w="20" h="71">
                <a:moveTo>
                  <a:pt x="12" y="61"/>
                </a:moveTo>
                <a:lnTo>
                  <a:pt x="10" y="56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8"/>
                </a:lnTo>
                <a:lnTo>
                  <a:pt x="9" y="20"/>
                </a:lnTo>
                <a:lnTo>
                  <a:pt x="10" y="13"/>
                </a:lnTo>
                <a:lnTo>
                  <a:pt x="13" y="9"/>
                </a:lnTo>
                <a:lnTo>
                  <a:pt x="16" y="5"/>
                </a:lnTo>
                <a:lnTo>
                  <a:pt x="20" y="2"/>
                </a:lnTo>
                <a:lnTo>
                  <a:pt x="20" y="0"/>
                </a:lnTo>
                <a:lnTo>
                  <a:pt x="15" y="3"/>
                </a:lnTo>
                <a:lnTo>
                  <a:pt x="9" y="8"/>
                </a:lnTo>
                <a:lnTo>
                  <a:pt x="6" y="15"/>
                </a:lnTo>
                <a:lnTo>
                  <a:pt x="2" y="20"/>
                </a:lnTo>
                <a:lnTo>
                  <a:pt x="0" y="28"/>
                </a:lnTo>
                <a:lnTo>
                  <a:pt x="0" y="35"/>
                </a:lnTo>
                <a:lnTo>
                  <a:pt x="0" y="43"/>
                </a:lnTo>
                <a:lnTo>
                  <a:pt x="2" y="49"/>
                </a:lnTo>
                <a:lnTo>
                  <a:pt x="5" y="56"/>
                </a:lnTo>
                <a:lnTo>
                  <a:pt x="9" y="62"/>
                </a:lnTo>
                <a:lnTo>
                  <a:pt x="15" y="66"/>
                </a:lnTo>
                <a:lnTo>
                  <a:pt x="20" y="71"/>
                </a:lnTo>
                <a:lnTo>
                  <a:pt x="20" y="69"/>
                </a:lnTo>
                <a:lnTo>
                  <a:pt x="16" y="65"/>
                </a:lnTo>
                <a:lnTo>
                  <a:pt x="12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6" name=""/>
          <p:cNvSpPr/>
          <p:nvPr/>
        </p:nvSpPr>
        <p:spPr>
          <a:xfrm>
            <a:off x="1181160" y="5432400"/>
            <a:ext cx="69840" cy="81000"/>
          </a:xfrm>
          <a:custGeom>
            <a:avLst/>
            <a:gdLst/>
            <a:ahLst/>
            <a:rect l="l" t="t" r="r" b="b"/>
            <a:pathLst>
              <a:path w="44" h="51">
                <a:moveTo>
                  <a:pt x="23" y="0"/>
                </a:moveTo>
                <a:lnTo>
                  <a:pt x="0" y="51"/>
                </a:lnTo>
                <a:lnTo>
                  <a:pt x="44" y="51"/>
                </a:lnTo>
                <a:lnTo>
                  <a:pt x="23" y="0"/>
                </a:lnTo>
                <a:close/>
                <a:moveTo>
                  <a:pt x="5" y="49"/>
                </a:moveTo>
                <a:lnTo>
                  <a:pt x="21" y="13"/>
                </a:lnTo>
                <a:lnTo>
                  <a:pt x="35" y="49"/>
                </a:lnTo>
                <a:lnTo>
                  <a:pt x="5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7" name=""/>
          <p:cNvSpPr/>
          <p:nvPr/>
        </p:nvSpPr>
        <p:spPr>
          <a:xfrm>
            <a:off x="1341360" y="5429160"/>
            <a:ext cx="31680" cy="112680"/>
          </a:xfrm>
          <a:custGeom>
            <a:avLst/>
            <a:gdLst/>
            <a:ahLst/>
            <a:rect l="l" t="t" r="r" b="b"/>
            <a:pathLst>
              <a:path w="20" h="71">
                <a:moveTo>
                  <a:pt x="9" y="10"/>
                </a:moveTo>
                <a:lnTo>
                  <a:pt x="10" y="15"/>
                </a:lnTo>
                <a:lnTo>
                  <a:pt x="12" y="22"/>
                </a:lnTo>
                <a:lnTo>
                  <a:pt x="13" y="29"/>
                </a:lnTo>
                <a:lnTo>
                  <a:pt x="13" y="36"/>
                </a:lnTo>
                <a:lnTo>
                  <a:pt x="13" y="43"/>
                </a:lnTo>
                <a:lnTo>
                  <a:pt x="12" y="51"/>
                </a:lnTo>
                <a:lnTo>
                  <a:pt x="10" y="56"/>
                </a:lnTo>
                <a:lnTo>
                  <a:pt x="7" y="62"/>
                </a:lnTo>
                <a:lnTo>
                  <a:pt x="5" y="66"/>
                </a:lnTo>
                <a:lnTo>
                  <a:pt x="0" y="69"/>
                </a:lnTo>
                <a:lnTo>
                  <a:pt x="0" y="71"/>
                </a:lnTo>
                <a:lnTo>
                  <a:pt x="6" y="68"/>
                </a:lnTo>
                <a:lnTo>
                  <a:pt x="10" y="62"/>
                </a:lnTo>
                <a:lnTo>
                  <a:pt x="15" y="56"/>
                </a:lnTo>
                <a:lnTo>
                  <a:pt x="17" y="51"/>
                </a:lnTo>
                <a:lnTo>
                  <a:pt x="20" y="43"/>
                </a:lnTo>
                <a:lnTo>
                  <a:pt x="20" y="35"/>
                </a:lnTo>
                <a:lnTo>
                  <a:pt x="20" y="28"/>
                </a:lnTo>
                <a:lnTo>
                  <a:pt x="17" y="20"/>
                </a:lnTo>
                <a:lnTo>
                  <a:pt x="15" y="15"/>
                </a:lnTo>
                <a:lnTo>
                  <a:pt x="12" y="9"/>
                </a:lnTo>
                <a:lnTo>
                  <a:pt x="6" y="5"/>
                </a:lnTo>
                <a:lnTo>
                  <a:pt x="0" y="0"/>
                </a:lnTo>
                <a:lnTo>
                  <a:pt x="0" y="2"/>
                </a:lnTo>
                <a:lnTo>
                  <a:pt x="5" y="6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1397160" y="5424480"/>
            <a:ext cx="27000" cy="117360"/>
          </a:xfrm>
          <a:custGeom>
            <a:avLst/>
            <a:gdLst/>
            <a:ahLst/>
            <a:rect l="l" t="t" r="r" b="b"/>
            <a:pathLst>
              <a:path w="17" h="74">
                <a:moveTo>
                  <a:pt x="14" y="56"/>
                </a:moveTo>
                <a:lnTo>
                  <a:pt x="17" y="46"/>
                </a:lnTo>
                <a:lnTo>
                  <a:pt x="17" y="36"/>
                </a:lnTo>
                <a:lnTo>
                  <a:pt x="17" y="28"/>
                </a:lnTo>
                <a:lnTo>
                  <a:pt x="14" y="19"/>
                </a:lnTo>
                <a:lnTo>
                  <a:pt x="11" y="11"/>
                </a:lnTo>
                <a:lnTo>
                  <a:pt x="4" y="0"/>
                </a:lnTo>
                <a:lnTo>
                  <a:pt x="0" y="0"/>
                </a:lnTo>
                <a:lnTo>
                  <a:pt x="2" y="5"/>
                </a:lnTo>
                <a:lnTo>
                  <a:pt x="4" y="9"/>
                </a:lnTo>
                <a:lnTo>
                  <a:pt x="5" y="12"/>
                </a:lnTo>
                <a:lnTo>
                  <a:pt x="8" y="18"/>
                </a:lnTo>
                <a:lnTo>
                  <a:pt x="10" y="23"/>
                </a:lnTo>
                <a:lnTo>
                  <a:pt x="10" y="29"/>
                </a:lnTo>
                <a:lnTo>
                  <a:pt x="11" y="36"/>
                </a:lnTo>
                <a:lnTo>
                  <a:pt x="8" y="55"/>
                </a:lnTo>
                <a:lnTo>
                  <a:pt x="0" y="74"/>
                </a:lnTo>
                <a:lnTo>
                  <a:pt x="4" y="74"/>
                </a:lnTo>
                <a:lnTo>
                  <a:pt x="10" y="65"/>
                </a:lnTo>
                <a:lnTo>
                  <a:pt x="14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9" name=""/>
          <p:cNvSpPr/>
          <p:nvPr/>
        </p:nvSpPr>
        <p:spPr>
          <a:xfrm>
            <a:off x="1262160" y="5526000"/>
            <a:ext cx="4104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6" y="34"/>
                </a:moveTo>
                <a:lnTo>
                  <a:pt x="6" y="15"/>
                </a:lnTo>
                <a:lnTo>
                  <a:pt x="6" y="11"/>
                </a:lnTo>
                <a:lnTo>
                  <a:pt x="6" y="8"/>
                </a:lnTo>
                <a:lnTo>
                  <a:pt x="7" y="7"/>
                </a:lnTo>
                <a:lnTo>
                  <a:pt x="10" y="5"/>
                </a:lnTo>
                <a:lnTo>
                  <a:pt x="14" y="4"/>
                </a:lnTo>
                <a:lnTo>
                  <a:pt x="16" y="4"/>
                </a:lnTo>
                <a:lnTo>
                  <a:pt x="17" y="5"/>
                </a:lnTo>
                <a:lnTo>
                  <a:pt x="19" y="7"/>
                </a:lnTo>
                <a:lnTo>
                  <a:pt x="20" y="8"/>
                </a:lnTo>
                <a:lnTo>
                  <a:pt x="20" y="10"/>
                </a:lnTo>
                <a:lnTo>
                  <a:pt x="20" y="14"/>
                </a:lnTo>
                <a:lnTo>
                  <a:pt x="20" y="34"/>
                </a:lnTo>
                <a:lnTo>
                  <a:pt x="26" y="34"/>
                </a:lnTo>
                <a:lnTo>
                  <a:pt x="26" y="13"/>
                </a:lnTo>
                <a:lnTo>
                  <a:pt x="26" y="10"/>
                </a:lnTo>
                <a:lnTo>
                  <a:pt x="26" y="8"/>
                </a:lnTo>
                <a:lnTo>
                  <a:pt x="26" y="5"/>
                </a:lnTo>
                <a:lnTo>
                  <a:pt x="24" y="4"/>
                </a:lnTo>
                <a:lnTo>
                  <a:pt x="23" y="1"/>
                </a:lnTo>
                <a:lnTo>
                  <a:pt x="20" y="1"/>
                </a:lnTo>
                <a:lnTo>
                  <a:pt x="17" y="0"/>
                </a:lnTo>
                <a:lnTo>
                  <a:pt x="14" y="0"/>
                </a:lnTo>
                <a:lnTo>
                  <a:pt x="10" y="0"/>
                </a:lnTo>
                <a:lnTo>
                  <a:pt x="7" y="1"/>
                </a:lnTo>
                <a:lnTo>
                  <a:pt x="4" y="5"/>
                </a:lnTo>
                <a:lnTo>
                  <a:pt x="4" y="0"/>
                </a:lnTo>
                <a:lnTo>
                  <a:pt x="0" y="0"/>
                </a:lnTo>
                <a:lnTo>
                  <a:pt x="0" y="34"/>
                </a:lnTo>
                <a:lnTo>
                  <a:pt x="6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0" name=""/>
          <p:cNvSpPr/>
          <p:nvPr/>
        </p:nvSpPr>
        <p:spPr>
          <a:xfrm>
            <a:off x="933480" y="5376960"/>
            <a:ext cx="41400" cy="66600"/>
          </a:xfrm>
          <a:custGeom>
            <a:avLst/>
            <a:gdLst/>
            <a:ahLst/>
            <a:rect l="l" t="t" r="r" b="b"/>
            <a:pathLst>
              <a:path w="26" h="42">
                <a:moveTo>
                  <a:pt x="4" y="38"/>
                </a:moveTo>
                <a:lnTo>
                  <a:pt x="7" y="39"/>
                </a:lnTo>
                <a:lnTo>
                  <a:pt x="10" y="41"/>
                </a:lnTo>
                <a:lnTo>
                  <a:pt x="13" y="42"/>
                </a:lnTo>
                <a:lnTo>
                  <a:pt x="17" y="41"/>
                </a:lnTo>
                <a:lnTo>
                  <a:pt x="20" y="39"/>
                </a:lnTo>
                <a:lnTo>
                  <a:pt x="21" y="36"/>
                </a:lnTo>
                <a:lnTo>
                  <a:pt x="24" y="32"/>
                </a:lnTo>
                <a:lnTo>
                  <a:pt x="24" y="28"/>
                </a:lnTo>
                <a:lnTo>
                  <a:pt x="26" y="20"/>
                </a:lnTo>
                <a:lnTo>
                  <a:pt x="24" y="16"/>
                </a:lnTo>
                <a:lnTo>
                  <a:pt x="24" y="12"/>
                </a:lnTo>
                <a:lnTo>
                  <a:pt x="23" y="9"/>
                </a:lnTo>
                <a:lnTo>
                  <a:pt x="21" y="6"/>
                </a:lnTo>
                <a:lnTo>
                  <a:pt x="20" y="3"/>
                </a:lnTo>
                <a:lnTo>
                  <a:pt x="18" y="2"/>
                </a:lnTo>
                <a:lnTo>
                  <a:pt x="16" y="2"/>
                </a:lnTo>
                <a:lnTo>
                  <a:pt x="13" y="0"/>
                </a:lnTo>
                <a:lnTo>
                  <a:pt x="8" y="2"/>
                </a:lnTo>
                <a:lnTo>
                  <a:pt x="6" y="3"/>
                </a:lnTo>
                <a:lnTo>
                  <a:pt x="4" y="6"/>
                </a:lnTo>
                <a:lnTo>
                  <a:pt x="1" y="10"/>
                </a:lnTo>
                <a:lnTo>
                  <a:pt x="1" y="15"/>
                </a:lnTo>
                <a:lnTo>
                  <a:pt x="0" y="20"/>
                </a:lnTo>
                <a:lnTo>
                  <a:pt x="1" y="28"/>
                </a:lnTo>
                <a:lnTo>
                  <a:pt x="3" y="33"/>
                </a:lnTo>
                <a:lnTo>
                  <a:pt x="4" y="38"/>
                </a:lnTo>
                <a:close/>
                <a:moveTo>
                  <a:pt x="7" y="8"/>
                </a:moveTo>
                <a:lnTo>
                  <a:pt x="10" y="6"/>
                </a:lnTo>
                <a:lnTo>
                  <a:pt x="13" y="5"/>
                </a:lnTo>
                <a:lnTo>
                  <a:pt x="16" y="6"/>
                </a:lnTo>
                <a:lnTo>
                  <a:pt x="18" y="8"/>
                </a:lnTo>
                <a:lnTo>
                  <a:pt x="20" y="10"/>
                </a:lnTo>
                <a:lnTo>
                  <a:pt x="20" y="15"/>
                </a:lnTo>
                <a:lnTo>
                  <a:pt x="20" y="20"/>
                </a:lnTo>
                <a:lnTo>
                  <a:pt x="20" y="28"/>
                </a:lnTo>
                <a:lnTo>
                  <a:pt x="20" y="32"/>
                </a:lnTo>
                <a:lnTo>
                  <a:pt x="18" y="35"/>
                </a:lnTo>
                <a:lnTo>
                  <a:pt x="16" y="36"/>
                </a:lnTo>
                <a:lnTo>
                  <a:pt x="13" y="38"/>
                </a:lnTo>
                <a:lnTo>
                  <a:pt x="10" y="36"/>
                </a:lnTo>
                <a:lnTo>
                  <a:pt x="7" y="35"/>
                </a:lnTo>
                <a:lnTo>
                  <a:pt x="6" y="32"/>
                </a:lnTo>
                <a:lnTo>
                  <a:pt x="6" y="28"/>
                </a:lnTo>
                <a:lnTo>
                  <a:pt x="6" y="20"/>
                </a:lnTo>
                <a:lnTo>
                  <a:pt x="6" y="15"/>
                </a:lnTo>
                <a:lnTo>
                  <a:pt x="6" y="10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1" name=""/>
          <p:cNvSpPr/>
          <p:nvPr/>
        </p:nvSpPr>
        <p:spPr>
          <a:xfrm>
            <a:off x="934920" y="5513400"/>
            <a:ext cx="4140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6" y="36"/>
                </a:moveTo>
                <a:lnTo>
                  <a:pt x="6" y="18"/>
                </a:lnTo>
                <a:lnTo>
                  <a:pt x="6" y="13"/>
                </a:lnTo>
                <a:lnTo>
                  <a:pt x="7" y="11"/>
                </a:lnTo>
                <a:lnTo>
                  <a:pt x="9" y="8"/>
                </a:lnTo>
                <a:lnTo>
                  <a:pt x="10" y="6"/>
                </a:lnTo>
                <a:lnTo>
                  <a:pt x="15" y="6"/>
                </a:lnTo>
                <a:lnTo>
                  <a:pt x="16" y="6"/>
                </a:lnTo>
                <a:lnTo>
                  <a:pt x="17" y="8"/>
                </a:lnTo>
                <a:lnTo>
                  <a:pt x="19" y="8"/>
                </a:lnTo>
                <a:lnTo>
                  <a:pt x="20" y="9"/>
                </a:lnTo>
                <a:lnTo>
                  <a:pt x="20" y="12"/>
                </a:lnTo>
                <a:lnTo>
                  <a:pt x="22" y="15"/>
                </a:lnTo>
                <a:lnTo>
                  <a:pt x="22" y="36"/>
                </a:lnTo>
                <a:lnTo>
                  <a:pt x="26" y="36"/>
                </a:lnTo>
                <a:lnTo>
                  <a:pt x="26" y="15"/>
                </a:lnTo>
                <a:lnTo>
                  <a:pt x="26" y="12"/>
                </a:lnTo>
                <a:lnTo>
                  <a:pt x="26" y="9"/>
                </a:lnTo>
                <a:lnTo>
                  <a:pt x="26" y="6"/>
                </a:lnTo>
                <a:lnTo>
                  <a:pt x="25" y="5"/>
                </a:lnTo>
                <a:lnTo>
                  <a:pt x="23" y="3"/>
                </a:lnTo>
                <a:lnTo>
                  <a:pt x="20" y="2"/>
                </a:lnTo>
                <a:lnTo>
                  <a:pt x="19" y="2"/>
                </a:lnTo>
                <a:lnTo>
                  <a:pt x="16" y="0"/>
                </a:lnTo>
                <a:lnTo>
                  <a:pt x="12" y="2"/>
                </a:lnTo>
                <a:lnTo>
                  <a:pt x="7" y="3"/>
                </a:lnTo>
                <a:lnTo>
                  <a:pt x="5" y="6"/>
                </a:lnTo>
                <a:lnTo>
                  <a:pt x="5" y="2"/>
                </a:lnTo>
                <a:lnTo>
                  <a:pt x="0" y="2"/>
                </a:lnTo>
                <a:lnTo>
                  <a:pt x="0" y="36"/>
                </a:lnTo>
                <a:lnTo>
                  <a:pt x="6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2" name=""/>
          <p:cNvSpPr/>
          <p:nvPr/>
        </p:nvSpPr>
        <p:spPr>
          <a:xfrm>
            <a:off x="1114560" y="5381640"/>
            <a:ext cx="41040" cy="63360"/>
          </a:xfrm>
          <a:custGeom>
            <a:avLst/>
            <a:gdLst/>
            <a:ahLst/>
            <a:rect l="l" t="t" r="r" b="b"/>
            <a:pathLst>
              <a:path w="26" h="40">
                <a:moveTo>
                  <a:pt x="5" y="36"/>
                </a:moveTo>
                <a:lnTo>
                  <a:pt x="7" y="39"/>
                </a:lnTo>
                <a:lnTo>
                  <a:pt x="10" y="40"/>
                </a:lnTo>
                <a:lnTo>
                  <a:pt x="13" y="40"/>
                </a:lnTo>
                <a:lnTo>
                  <a:pt x="17" y="40"/>
                </a:lnTo>
                <a:lnTo>
                  <a:pt x="20" y="38"/>
                </a:lnTo>
                <a:lnTo>
                  <a:pt x="22" y="35"/>
                </a:lnTo>
                <a:lnTo>
                  <a:pt x="25" y="32"/>
                </a:lnTo>
                <a:lnTo>
                  <a:pt x="25" y="26"/>
                </a:lnTo>
                <a:lnTo>
                  <a:pt x="26" y="20"/>
                </a:lnTo>
                <a:lnTo>
                  <a:pt x="25" y="15"/>
                </a:lnTo>
                <a:lnTo>
                  <a:pt x="25" y="12"/>
                </a:lnTo>
                <a:lnTo>
                  <a:pt x="23" y="7"/>
                </a:lnTo>
                <a:lnTo>
                  <a:pt x="22" y="5"/>
                </a:lnTo>
                <a:lnTo>
                  <a:pt x="20" y="3"/>
                </a:lnTo>
                <a:lnTo>
                  <a:pt x="19" y="2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6" y="3"/>
                </a:lnTo>
                <a:lnTo>
                  <a:pt x="5" y="6"/>
                </a:lnTo>
                <a:lnTo>
                  <a:pt x="2" y="9"/>
                </a:lnTo>
                <a:lnTo>
                  <a:pt x="2" y="15"/>
                </a:lnTo>
                <a:lnTo>
                  <a:pt x="0" y="20"/>
                </a:lnTo>
                <a:lnTo>
                  <a:pt x="2" y="27"/>
                </a:lnTo>
                <a:lnTo>
                  <a:pt x="3" y="32"/>
                </a:lnTo>
                <a:lnTo>
                  <a:pt x="5" y="36"/>
                </a:lnTo>
                <a:close/>
                <a:moveTo>
                  <a:pt x="7" y="7"/>
                </a:move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7"/>
                </a:lnTo>
                <a:lnTo>
                  <a:pt x="20" y="10"/>
                </a:lnTo>
                <a:lnTo>
                  <a:pt x="20" y="15"/>
                </a:lnTo>
                <a:lnTo>
                  <a:pt x="20" y="20"/>
                </a:lnTo>
                <a:lnTo>
                  <a:pt x="20" y="26"/>
                </a:lnTo>
                <a:lnTo>
                  <a:pt x="20" y="30"/>
                </a:lnTo>
                <a:lnTo>
                  <a:pt x="19" y="33"/>
                </a:lnTo>
                <a:lnTo>
                  <a:pt x="16" y="36"/>
                </a:lnTo>
                <a:lnTo>
                  <a:pt x="13" y="36"/>
                </a:lnTo>
                <a:lnTo>
                  <a:pt x="10" y="36"/>
                </a:lnTo>
                <a:lnTo>
                  <a:pt x="7" y="33"/>
                </a:lnTo>
                <a:lnTo>
                  <a:pt x="6" y="30"/>
                </a:lnTo>
                <a:lnTo>
                  <a:pt x="6" y="26"/>
                </a:lnTo>
                <a:lnTo>
                  <a:pt x="6" y="20"/>
                </a:lnTo>
                <a:lnTo>
                  <a:pt x="6" y="15"/>
                </a:lnTo>
                <a:lnTo>
                  <a:pt x="6" y="10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3" name=""/>
          <p:cNvSpPr/>
          <p:nvPr/>
        </p:nvSpPr>
        <p:spPr>
          <a:xfrm>
            <a:off x="1460520" y="5407200"/>
            <a:ext cx="34920" cy="155520"/>
          </a:xfrm>
          <a:custGeom>
            <a:avLst/>
            <a:gdLst/>
            <a:ahLst/>
            <a:rect l="l" t="t" r="r" b="b"/>
            <a:pathLst>
              <a:path w="22" h="98">
                <a:moveTo>
                  <a:pt x="18" y="76"/>
                </a:moveTo>
                <a:lnTo>
                  <a:pt x="22" y="63"/>
                </a:lnTo>
                <a:lnTo>
                  <a:pt x="22" y="49"/>
                </a:lnTo>
                <a:lnTo>
                  <a:pt x="22" y="37"/>
                </a:lnTo>
                <a:lnTo>
                  <a:pt x="20" y="26"/>
                </a:lnTo>
                <a:lnTo>
                  <a:pt x="14" y="13"/>
                </a:lnTo>
                <a:lnTo>
                  <a:pt x="5" y="0"/>
                </a:lnTo>
                <a:lnTo>
                  <a:pt x="0" y="0"/>
                </a:lnTo>
                <a:lnTo>
                  <a:pt x="2" y="6"/>
                </a:lnTo>
                <a:lnTo>
                  <a:pt x="5" y="11"/>
                </a:lnTo>
                <a:lnTo>
                  <a:pt x="7" y="16"/>
                </a:lnTo>
                <a:lnTo>
                  <a:pt x="10" y="23"/>
                </a:lnTo>
                <a:lnTo>
                  <a:pt x="12" y="30"/>
                </a:lnTo>
                <a:lnTo>
                  <a:pt x="14" y="40"/>
                </a:lnTo>
                <a:lnTo>
                  <a:pt x="14" y="49"/>
                </a:lnTo>
                <a:lnTo>
                  <a:pt x="11" y="73"/>
                </a:lnTo>
                <a:lnTo>
                  <a:pt x="0" y="98"/>
                </a:lnTo>
                <a:lnTo>
                  <a:pt x="5" y="98"/>
                </a:lnTo>
                <a:lnTo>
                  <a:pt x="12" y="88"/>
                </a:lnTo>
                <a:lnTo>
                  <a:pt x="18" y="7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4" name=""/>
          <p:cNvSpPr/>
          <p:nvPr/>
        </p:nvSpPr>
        <p:spPr>
          <a:xfrm>
            <a:off x="4576680" y="5554800"/>
            <a:ext cx="79560" cy="107640"/>
          </a:xfrm>
          <a:custGeom>
            <a:avLst/>
            <a:gdLst/>
            <a:ahLst/>
            <a:rect l="l" t="t" r="r" b="b"/>
            <a:pathLst>
              <a:path w="50" h="68">
                <a:moveTo>
                  <a:pt x="8" y="68"/>
                </a:moveTo>
                <a:lnTo>
                  <a:pt x="8" y="39"/>
                </a:lnTo>
                <a:lnTo>
                  <a:pt x="25" y="39"/>
                </a:lnTo>
                <a:lnTo>
                  <a:pt x="31" y="39"/>
                </a:lnTo>
                <a:lnTo>
                  <a:pt x="37" y="38"/>
                </a:lnTo>
                <a:lnTo>
                  <a:pt x="41" y="36"/>
                </a:lnTo>
                <a:lnTo>
                  <a:pt x="44" y="33"/>
                </a:lnTo>
                <a:lnTo>
                  <a:pt x="47" y="29"/>
                </a:lnTo>
                <a:lnTo>
                  <a:pt x="48" y="25"/>
                </a:lnTo>
                <a:lnTo>
                  <a:pt x="50" y="19"/>
                </a:lnTo>
                <a:lnTo>
                  <a:pt x="48" y="15"/>
                </a:lnTo>
                <a:lnTo>
                  <a:pt x="47" y="10"/>
                </a:lnTo>
                <a:lnTo>
                  <a:pt x="45" y="6"/>
                </a:lnTo>
                <a:lnTo>
                  <a:pt x="43" y="3"/>
                </a:lnTo>
                <a:lnTo>
                  <a:pt x="38" y="2"/>
                </a:lnTo>
                <a:lnTo>
                  <a:pt x="34" y="0"/>
                </a:lnTo>
                <a:lnTo>
                  <a:pt x="30" y="0"/>
                </a:lnTo>
                <a:lnTo>
                  <a:pt x="24" y="0"/>
                </a:lnTo>
                <a:lnTo>
                  <a:pt x="0" y="0"/>
                </a:lnTo>
                <a:lnTo>
                  <a:pt x="0" y="68"/>
                </a:lnTo>
                <a:lnTo>
                  <a:pt x="8" y="68"/>
                </a:lnTo>
                <a:close/>
                <a:moveTo>
                  <a:pt x="8" y="7"/>
                </a:moveTo>
                <a:lnTo>
                  <a:pt x="25" y="7"/>
                </a:lnTo>
                <a:lnTo>
                  <a:pt x="30" y="7"/>
                </a:lnTo>
                <a:lnTo>
                  <a:pt x="33" y="9"/>
                </a:lnTo>
                <a:lnTo>
                  <a:pt x="35" y="10"/>
                </a:lnTo>
                <a:lnTo>
                  <a:pt x="38" y="12"/>
                </a:lnTo>
                <a:lnTo>
                  <a:pt x="40" y="16"/>
                </a:lnTo>
                <a:lnTo>
                  <a:pt x="40" y="19"/>
                </a:lnTo>
                <a:lnTo>
                  <a:pt x="40" y="23"/>
                </a:lnTo>
                <a:lnTo>
                  <a:pt x="38" y="26"/>
                </a:lnTo>
                <a:lnTo>
                  <a:pt x="37" y="29"/>
                </a:lnTo>
                <a:lnTo>
                  <a:pt x="34" y="30"/>
                </a:lnTo>
                <a:lnTo>
                  <a:pt x="30" y="32"/>
                </a:lnTo>
                <a:lnTo>
                  <a:pt x="25" y="32"/>
                </a:lnTo>
                <a:lnTo>
                  <a:pt x="8" y="32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5" name=""/>
          <p:cNvSpPr/>
          <p:nvPr/>
        </p:nvSpPr>
        <p:spPr>
          <a:xfrm>
            <a:off x="4667400" y="5583240"/>
            <a:ext cx="68040" cy="79200"/>
          </a:xfrm>
          <a:custGeom>
            <a:avLst/>
            <a:gdLst/>
            <a:ahLst/>
            <a:rect l="l" t="t" r="r" b="b"/>
            <a:pathLst>
              <a:path w="43" h="50">
                <a:moveTo>
                  <a:pt x="6" y="44"/>
                </a:moveTo>
                <a:lnTo>
                  <a:pt x="10" y="47"/>
                </a:lnTo>
                <a:lnTo>
                  <a:pt x="16" y="50"/>
                </a:lnTo>
                <a:lnTo>
                  <a:pt x="21" y="50"/>
                </a:lnTo>
                <a:lnTo>
                  <a:pt x="27" y="50"/>
                </a:lnTo>
                <a:lnTo>
                  <a:pt x="33" y="47"/>
                </a:lnTo>
                <a:lnTo>
                  <a:pt x="37" y="44"/>
                </a:lnTo>
                <a:lnTo>
                  <a:pt x="40" y="38"/>
                </a:lnTo>
                <a:lnTo>
                  <a:pt x="41" y="35"/>
                </a:lnTo>
                <a:lnTo>
                  <a:pt x="43" y="30"/>
                </a:lnTo>
                <a:lnTo>
                  <a:pt x="43" y="24"/>
                </a:lnTo>
                <a:lnTo>
                  <a:pt x="41" y="17"/>
                </a:lnTo>
                <a:lnTo>
                  <a:pt x="40" y="11"/>
                </a:lnTo>
                <a:lnTo>
                  <a:pt x="37" y="5"/>
                </a:lnTo>
                <a:lnTo>
                  <a:pt x="33" y="2"/>
                </a:lnTo>
                <a:lnTo>
                  <a:pt x="27" y="0"/>
                </a:lnTo>
                <a:lnTo>
                  <a:pt x="21" y="0"/>
                </a:lnTo>
                <a:lnTo>
                  <a:pt x="16" y="0"/>
                </a:lnTo>
                <a:lnTo>
                  <a:pt x="11" y="2"/>
                </a:lnTo>
                <a:lnTo>
                  <a:pt x="7" y="5"/>
                </a:lnTo>
                <a:lnTo>
                  <a:pt x="3" y="8"/>
                </a:lnTo>
                <a:lnTo>
                  <a:pt x="1" y="12"/>
                </a:lnTo>
                <a:lnTo>
                  <a:pt x="0" y="18"/>
                </a:lnTo>
                <a:lnTo>
                  <a:pt x="0" y="25"/>
                </a:lnTo>
                <a:lnTo>
                  <a:pt x="0" y="33"/>
                </a:lnTo>
                <a:lnTo>
                  <a:pt x="1" y="38"/>
                </a:lnTo>
                <a:lnTo>
                  <a:pt x="6" y="44"/>
                </a:lnTo>
                <a:close/>
                <a:moveTo>
                  <a:pt x="11" y="11"/>
                </a:moveTo>
                <a:lnTo>
                  <a:pt x="14" y="8"/>
                </a:lnTo>
                <a:lnTo>
                  <a:pt x="17" y="7"/>
                </a:lnTo>
                <a:lnTo>
                  <a:pt x="21" y="7"/>
                </a:lnTo>
                <a:lnTo>
                  <a:pt x="24" y="7"/>
                </a:lnTo>
                <a:lnTo>
                  <a:pt x="28" y="8"/>
                </a:lnTo>
                <a:lnTo>
                  <a:pt x="31" y="11"/>
                </a:lnTo>
                <a:lnTo>
                  <a:pt x="33" y="14"/>
                </a:lnTo>
                <a:lnTo>
                  <a:pt x="34" y="20"/>
                </a:lnTo>
                <a:lnTo>
                  <a:pt x="34" y="24"/>
                </a:lnTo>
                <a:lnTo>
                  <a:pt x="34" y="30"/>
                </a:lnTo>
                <a:lnTo>
                  <a:pt x="33" y="35"/>
                </a:lnTo>
                <a:lnTo>
                  <a:pt x="31" y="38"/>
                </a:lnTo>
                <a:lnTo>
                  <a:pt x="28" y="41"/>
                </a:lnTo>
                <a:lnTo>
                  <a:pt x="24" y="43"/>
                </a:lnTo>
                <a:lnTo>
                  <a:pt x="21" y="44"/>
                </a:lnTo>
                <a:lnTo>
                  <a:pt x="17" y="43"/>
                </a:lnTo>
                <a:lnTo>
                  <a:pt x="14" y="41"/>
                </a:lnTo>
                <a:lnTo>
                  <a:pt x="11" y="38"/>
                </a:lnTo>
                <a:lnTo>
                  <a:pt x="8" y="35"/>
                </a:lnTo>
                <a:lnTo>
                  <a:pt x="7" y="31"/>
                </a:lnTo>
                <a:lnTo>
                  <a:pt x="7" y="25"/>
                </a:lnTo>
                <a:lnTo>
                  <a:pt x="7" y="20"/>
                </a:lnTo>
                <a:lnTo>
                  <a:pt x="8" y="14"/>
                </a:lnTo>
                <a:lnTo>
                  <a:pt x="11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6" name=""/>
          <p:cNvSpPr/>
          <p:nvPr/>
        </p:nvSpPr>
        <p:spPr>
          <a:xfrm>
            <a:off x="4748040" y="5554800"/>
            <a:ext cx="14400" cy="107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7" name=""/>
          <p:cNvSpPr/>
          <p:nvPr/>
        </p:nvSpPr>
        <p:spPr>
          <a:xfrm>
            <a:off x="4782960" y="5554800"/>
            <a:ext cx="11160" cy="107640"/>
          </a:xfrm>
          <a:custGeom>
            <a:avLst/>
            <a:gdLst/>
            <a:ahLst/>
            <a:rect l="l" t="t" r="r" b="b"/>
            <a:pathLst>
              <a:path w="7" h="68">
                <a:moveTo>
                  <a:pt x="7" y="9"/>
                </a:moveTo>
                <a:lnTo>
                  <a:pt x="7" y="0"/>
                </a:lnTo>
                <a:lnTo>
                  <a:pt x="0" y="0"/>
                </a:lnTo>
                <a:lnTo>
                  <a:pt x="0" y="9"/>
                </a:lnTo>
                <a:lnTo>
                  <a:pt x="7" y="9"/>
                </a:lnTo>
                <a:close/>
                <a:moveTo>
                  <a:pt x="7" y="68"/>
                </a:moveTo>
                <a:lnTo>
                  <a:pt x="7" y="19"/>
                </a:lnTo>
                <a:lnTo>
                  <a:pt x="0" y="19"/>
                </a:lnTo>
                <a:lnTo>
                  <a:pt x="0" y="68"/>
                </a:lnTo>
                <a:lnTo>
                  <a:pt x="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8" name=""/>
          <p:cNvSpPr/>
          <p:nvPr/>
        </p:nvSpPr>
        <p:spPr>
          <a:xfrm>
            <a:off x="4809960" y="5583240"/>
            <a:ext cx="63720" cy="79200"/>
          </a:xfrm>
          <a:custGeom>
            <a:avLst/>
            <a:gdLst/>
            <a:ahLst/>
            <a:rect l="l" t="t" r="r" b="b"/>
            <a:pathLst>
              <a:path w="40" h="50">
                <a:moveTo>
                  <a:pt x="29" y="40"/>
                </a:moveTo>
                <a:lnTo>
                  <a:pt x="26" y="43"/>
                </a:lnTo>
                <a:lnTo>
                  <a:pt x="21" y="44"/>
                </a:lnTo>
                <a:lnTo>
                  <a:pt x="17" y="43"/>
                </a:lnTo>
                <a:lnTo>
                  <a:pt x="14" y="41"/>
                </a:lnTo>
                <a:lnTo>
                  <a:pt x="11" y="38"/>
                </a:lnTo>
                <a:lnTo>
                  <a:pt x="10" y="35"/>
                </a:lnTo>
                <a:lnTo>
                  <a:pt x="9" y="31"/>
                </a:lnTo>
                <a:lnTo>
                  <a:pt x="9" y="25"/>
                </a:lnTo>
                <a:lnTo>
                  <a:pt x="9" y="18"/>
                </a:lnTo>
                <a:lnTo>
                  <a:pt x="10" y="14"/>
                </a:lnTo>
                <a:lnTo>
                  <a:pt x="11" y="11"/>
                </a:lnTo>
                <a:lnTo>
                  <a:pt x="14" y="8"/>
                </a:lnTo>
                <a:lnTo>
                  <a:pt x="17" y="7"/>
                </a:lnTo>
                <a:lnTo>
                  <a:pt x="21" y="7"/>
                </a:lnTo>
                <a:lnTo>
                  <a:pt x="26" y="7"/>
                </a:lnTo>
                <a:lnTo>
                  <a:pt x="29" y="8"/>
                </a:lnTo>
                <a:lnTo>
                  <a:pt x="30" y="11"/>
                </a:lnTo>
                <a:lnTo>
                  <a:pt x="31" y="15"/>
                </a:lnTo>
                <a:lnTo>
                  <a:pt x="40" y="15"/>
                </a:lnTo>
                <a:lnTo>
                  <a:pt x="39" y="10"/>
                </a:lnTo>
                <a:lnTo>
                  <a:pt x="36" y="7"/>
                </a:lnTo>
                <a:lnTo>
                  <a:pt x="33" y="4"/>
                </a:lnTo>
                <a:lnTo>
                  <a:pt x="30" y="1"/>
                </a:lnTo>
                <a:lnTo>
                  <a:pt x="26" y="0"/>
                </a:lnTo>
                <a:lnTo>
                  <a:pt x="21" y="0"/>
                </a:lnTo>
                <a:lnTo>
                  <a:pt x="16" y="0"/>
                </a:lnTo>
                <a:lnTo>
                  <a:pt x="10" y="2"/>
                </a:lnTo>
                <a:lnTo>
                  <a:pt x="7" y="5"/>
                </a:lnTo>
                <a:lnTo>
                  <a:pt x="4" y="8"/>
                </a:lnTo>
                <a:lnTo>
                  <a:pt x="3" y="11"/>
                </a:lnTo>
                <a:lnTo>
                  <a:pt x="0" y="18"/>
                </a:lnTo>
                <a:lnTo>
                  <a:pt x="0" y="25"/>
                </a:lnTo>
                <a:lnTo>
                  <a:pt x="0" y="33"/>
                </a:lnTo>
                <a:lnTo>
                  <a:pt x="3" y="38"/>
                </a:lnTo>
                <a:lnTo>
                  <a:pt x="6" y="44"/>
                </a:lnTo>
                <a:lnTo>
                  <a:pt x="10" y="47"/>
                </a:lnTo>
                <a:lnTo>
                  <a:pt x="16" y="50"/>
                </a:lnTo>
                <a:lnTo>
                  <a:pt x="21" y="50"/>
                </a:lnTo>
                <a:lnTo>
                  <a:pt x="26" y="50"/>
                </a:lnTo>
                <a:lnTo>
                  <a:pt x="30" y="48"/>
                </a:lnTo>
                <a:lnTo>
                  <a:pt x="34" y="45"/>
                </a:lnTo>
                <a:lnTo>
                  <a:pt x="37" y="43"/>
                </a:lnTo>
                <a:lnTo>
                  <a:pt x="39" y="37"/>
                </a:lnTo>
                <a:lnTo>
                  <a:pt x="40" y="33"/>
                </a:lnTo>
                <a:lnTo>
                  <a:pt x="33" y="31"/>
                </a:lnTo>
                <a:lnTo>
                  <a:pt x="31" y="35"/>
                </a:lnTo>
                <a:lnTo>
                  <a:pt x="30" y="38"/>
                </a:lnTo>
                <a:lnTo>
                  <a:pt x="29" y="4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9" name=""/>
          <p:cNvSpPr/>
          <p:nvPr/>
        </p:nvSpPr>
        <p:spPr>
          <a:xfrm>
            <a:off x="4878360" y="5584680"/>
            <a:ext cx="65160" cy="106560"/>
          </a:xfrm>
          <a:custGeom>
            <a:avLst/>
            <a:gdLst/>
            <a:ahLst/>
            <a:rect l="l" t="t" r="r" b="b"/>
            <a:pathLst>
              <a:path w="41" h="67">
                <a:moveTo>
                  <a:pt x="8" y="67"/>
                </a:moveTo>
                <a:lnTo>
                  <a:pt x="11" y="67"/>
                </a:lnTo>
                <a:lnTo>
                  <a:pt x="16" y="66"/>
                </a:lnTo>
                <a:lnTo>
                  <a:pt x="17" y="63"/>
                </a:lnTo>
                <a:lnTo>
                  <a:pt x="20" y="60"/>
                </a:lnTo>
                <a:lnTo>
                  <a:pt x="21" y="57"/>
                </a:lnTo>
                <a:lnTo>
                  <a:pt x="23" y="53"/>
                </a:lnTo>
                <a:lnTo>
                  <a:pt x="24" y="49"/>
                </a:lnTo>
                <a:lnTo>
                  <a:pt x="41" y="0"/>
                </a:lnTo>
                <a:lnTo>
                  <a:pt x="34" y="0"/>
                </a:lnTo>
                <a:lnTo>
                  <a:pt x="24" y="27"/>
                </a:lnTo>
                <a:lnTo>
                  <a:pt x="23" y="33"/>
                </a:lnTo>
                <a:lnTo>
                  <a:pt x="21" y="39"/>
                </a:lnTo>
                <a:lnTo>
                  <a:pt x="20" y="33"/>
                </a:lnTo>
                <a:lnTo>
                  <a:pt x="17" y="27"/>
                </a:lnTo>
                <a:lnTo>
                  <a:pt x="7" y="0"/>
                </a:lnTo>
                <a:lnTo>
                  <a:pt x="0" y="0"/>
                </a:lnTo>
                <a:lnTo>
                  <a:pt x="17" y="49"/>
                </a:lnTo>
                <a:lnTo>
                  <a:pt x="17" y="49"/>
                </a:lnTo>
                <a:lnTo>
                  <a:pt x="16" y="50"/>
                </a:lnTo>
                <a:lnTo>
                  <a:pt x="14" y="55"/>
                </a:lnTo>
                <a:lnTo>
                  <a:pt x="14" y="56"/>
                </a:lnTo>
                <a:lnTo>
                  <a:pt x="13" y="57"/>
                </a:lnTo>
                <a:lnTo>
                  <a:pt x="11" y="59"/>
                </a:lnTo>
                <a:lnTo>
                  <a:pt x="10" y="60"/>
                </a:lnTo>
                <a:lnTo>
                  <a:pt x="7" y="60"/>
                </a:lnTo>
                <a:lnTo>
                  <a:pt x="6" y="60"/>
                </a:lnTo>
                <a:lnTo>
                  <a:pt x="3" y="59"/>
                </a:lnTo>
                <a:lnTo>
                  <a:pt x="3" y="67"/>
                </a:lnTo>
                <a:lnTo>
                  <a:pt x="6" y="67"/>
                </a:lnTo>
                <a:lnTo>
                  <a:pt x="8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0" name=""/>
          <p:cNvSpPr/>
          <p:nvPr/>
        </p:nvSpPr>
        <p:spPr>
          <a:xfrm>
            <a:off x="4587840" y="5735520"/>
            <a:ext cx="42840" cy="109800"/>
          </a:xfrm>
          <a:custGeom>
            <a:avLst/>
            <a:gdLst/>
            <a:ahLst/>
            <a:rect l="l" t="t" r="r" b="b"/>
            <a:pathLst>
              <a:path w="27" h="69">
                <a:moveTo>
                  <a:pt x="14" y="69"/>
                </a:moveTo>
                <a:lnTo>
                  <a:pt x="14" y="26"/>
                </a:lnTo>
                <a:lnTo>
                  <a:pt x="23" y="26"/>
                </a:lnTo>
                <a:lnTo>
                  <a:pt x="23" y="20"/>
                </a:lnTo>
                <a:lnTo>
                  <a:pt x="14" y="20"/>
                </a:lnTo>
                <a:lnTo>
                  <a:pt x="14" y="14"/>
                </a:lnTo>
                <a:lnTo>
                  <a:pt x="14" y="11"/>
                </a:lnTo>
                <a:lnTo>
                  <a:pt x="16" y="8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6" y="8"/>
                </a:lnTo>
                <a:lnTo>
                  <a:pt x="27" y="1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11" y="1"/>
                </a:lnTo>
                <a:lnTo>
                  <a:pt x="8" y="4"/>
                </a:lnTo>
                <a:lnTo>
                  <a:pt x="7" y="7"/>
                </a:lnTo>
                <a:lnTo>
                  <a:pt x="7" y="10"/>
                </a:lnTo>
                <a:lnTo>
                  <a:pt x="6" y="14"/>
                </a:lnTo>
                <a:lnTo>
                  <a:pt x="6" y="20"/>
                </a:lnTo>
                <a:lnTo>
                  <a:pt x="0" y="20"/>
                </a:lnTo>
                <a:lnTo>
                  <a:pt x="0" y="26"/>
                </a:lnTo>
                <a:lnTo>
                  <a:pt x="6" y="26"/>
                </a:lnTo>
                <a:lnTo>
                  <a:pt x="6" y="69"/>
                </a:lnTo>
                <a:lnTo>
                  <a:pt x="14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1" name=""/>
          <p:cNvSpPr/>
          <p:nvPr/>
        </p:nvSpPr>
        <p:spPr>
          <a:xfrm>
            <a:off x="4656240" y="5816520"/>
            <a:ext cx="4428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20" y="29"/>
                </a:moveTo>
                <a:lnTo>
                  <a:pt x="18" y="31"/>
                </a:lnTo>
                <a:lnTo>
                  <a:pt x="15" y="32"/>
                </a:lnTo>
                <a:lnTo>
                  <a:pt x="11" y="31"/>
                </a:lnTo>
                <a:lnTo>
                  <a:pt x="8" y="28"/>
                </a:lnTo>
                <a:lnTo>
                  <a:pt x="7" y="26"/>
                </a:lnTo>
                <a:lnTo>
                  <a:pt x="5" y="22"/>
                </a:lnTo>
                <a:lnTo>
                  <a:pt x="5" y="18"/>
                </a:lnTo>
                <a:lnTo>
                  <a:pt x="5" y="15"/>
                </a:lnTo>
                <a:lnTo>
                  <a:pt x="7" y="10"/>
                </a:lnTo>
                <a:lnTo>
                  <a:pt x="8" y="8"/>
                </a:lnTo>
                <a:lnTo>
                  <a:pt x="11" y="6"/>
                </a:lnTo>
                <a:lnTo>
                  <a:pt x="15" y="5"/>
                </a:lnTo>
                <a:lnTo>
                  <a:pt x="18" y="6"/>
                </a:lnTo>
                <a:lnTo>
                  <a:pt x="20" y="6"/>
                </a:lnTo>
                <a:lnTo>
                  <a:pt x="21" y="9"/>
                </a:lnTo>
                <a:lnTo>
                  <a:pt x="23" y="12"/>
                </a:lnTo>
                <a:lnTo>
                  <a:pt x="28" y="12"/>
                </a:lnTo>
                <a:lnTo>
                  <a:pt x="27" y="6"/>
                </a:lnTo>
                <a:lnTo>
                  <a:pt x="24" y="3"/>
                </a:lnTo>
                <a:lnTo>
                  <a:pt x="20" y="0"/>
                </a:lnTo>
                <a:lnTo>
                  <a:pt x="15" y="0"/>
                </a:lnTo>
                <a:lnTo>
                  <a:pt x="11" y="0"/>
                </a:lnTo>
                <a:lnTo>
                  <a:pt x="7" y="2"/>
                </a:lnTo>
                <a:lnTo>
                  <a:pt x="4" y="5"/>
                </a:lnTo>
                <a:lnTo>
                  <a:pt x="1" y="9"/>
                </a:lnTo>
                <a:lnTo>
                  <a:pt x="1" y="13"/>
                </a:lnTo>
                <a:lnTo>
                  <a:pt x="0" y="18"/>
                </a:lnTo>
                <a:lnTo>
                  <a:pt x="1" y="23"/>
                </a:lnTo>
                <a:lnTo>
                  <a:pt x="3" y="28"/>
                </a:lnTo>
                <a:lnTo>
                  <a:pt x="4" y="32"/>
                </a:lnTo>
                <a:lnTo>
                  <a:pt x="7" y="33"/>
                </a:lnTo>
                <a:lnTo>
                  <a:pt x="11" y="36"/>
                </a:lnTo>
                <a:lnTo>
                  <a:pt x="15" y="36"/>
                </a:lnTo>
                <a:lnTo>
                  <a:pt x="20" y="35"/>
                </a:lnTo>
                <a:lnTo>
                  <a:pt x="24" y="33"/>
                </a:lnTo>
                <a:lnTo>
                  <a:pt x="27" y="29"/>
                </a:lnTo>
                <a:lnTo>
                  <a:pt x="28" y="23"/>
                </a:lnTo>
                <a:lnTo>
                  <a:pt x="23" y="23"/>
                </a:lnTo>
                <a:lnTo>
                  <a:pt x="23" y="26"/>
                </a:lnTo>
                <a:lnTo>
                  <a:pt x="20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2" name=""/>
          <p:cNvSpPr/>
          <p:nvPr/>
        </p:nvSpPr>
        <p:spPr>
          <a:xfrm>
            <a:off x="4708440" y="5796000"/>
            <a:ext cx="42840" cy="76320"/>
          </a:xfrm>
          <a:custGeom>
            <a:avLst/>
            <a:gdLst/>
            <a:ahLst/>
            <a:rect l="l" t="t" r="r" b="b"/>
            <a:pathLst>
              <a:path w="27" h="48">
                <a:moveTo>
                  <a:pt x="5" y="48"/>
                </a:moveTo>
                <a:lnTo>
                  <a:pt x="5" y="29"/>
                </a:lnTo>
                <a:lnTo>
                  <a:pt x="7" y="26"/>
                </a:lnTo>
                <a:lnTo>
                  <a:pt x="7" y="23"/>
                </a:lnTo>
                <a:lnTo>
                  <a:pt x="8" y="21"/>
                </a:lnTo>
                <a:lnTo>
                  <a:pt x="10" y="19"/>
                </a:lnTo>
                <a:lnTo>
                  <a:pt x="13" y="19"/>
                </a:lnTo>
                <a:lnTo>
                  <a:pt x="14" y="18"/>
                </a:lnTo>
                <a:lnTo>
                  <a:pt x="17" y="19"/>
                </a:lnTo>
                <a:lnTo>
                  <a:pt x="20" y="21"/>
                </a:lnTo>
                <a:lnTo>
                  <a:pt x="21" y="23"/>
                </a:lnTo>
                <a:lnTo>
                  <a:pt x="21" y="26"/>
                </a:lnTo>
                <a:lnTo>
                  <a:pt x="21" y="48"/>
                </a:lnTo>
                <a:lnTo>
                  <a:pt x="27" y="48"/>
                </a:lnTo>
                <a:lnTo>
                  <a:pt x="27" y="26"/>
                </a:lnTo>
                <a:lnTo>
                  <a:pt x="27" y="22"/>
                </a:lnTo>
                <a:lnTo>
                  <a:pt x="25" y="19"/>
                </a:lnTo>
                <a:lnTo>
                  <a:pt x="24" y="16"/>
                </a:lnTo>
                <a:lnTo>
                  <a:pt x="23" y="15"/>
                </a:lnTo>
                <a:lnTo>
                  <a:pt x="20" y="13"/>
                </a:lnTo>
                <a:lnTo>
                  <a:pt x="15" y="13"/>
                </a:lnTo>
                <a:lnTo>
                  <a:pt x="13" y="13"/>
                </a:lnTo>
                <a:lnTo>
                  <a:pt x="8" y="15"/>
                </a:lnTo>
                <a:lnTo>
                  <a:pt x="5" y="18"/>
                </a:lnTo>
                <a:lnTo>
                  <a:pt x="5" y="0"/>
                </a:lnTo>
                <a:lnTo>
                  <a:pt x="0" y="0"/>
                </a:lnTo>
                <a:lnTo>
                  <a:pt x="0" y="48"/>
                </a:lnTo>
                <a:lnTo>
                  <a:pt x="5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3" name=""/>
          <p:cNvSpPr/>
          <p:nvPr/>
        </p:nvSpPr>
        <p:spPr>
          <a:xfrm>
            <a:off x="4762440" y="581652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4" y="32"/>
                </a:moveTo>
                <a:lnTo>
                  <a:pt x="7" y="33"/>
                </a:lnTo>
                <a:lnTo>
                  <a:pt x="10" y="36"/>
                </a:lnTo>
                <a:lnTo>
                  <a:pt x="14" y="36"/>
                </a:lnTo>
                <a:lnTo>
                  <a:pt x="19" y="36"/>
                </a:lnTo>
                <a:lnTo>
                  <a:pt x="23" y="33"/>
                </a:lnTo>
                <a:lnTo>
                  <a:pt x="26" y="32"/>
                </a:lnTo>
                <a:lnTo>
                  <a:pt x="29" y="28"/>
                </a:lnTo>
                <a:lnTo>
                  <a:pt x="30" y="23"/>
                </a:lnTo>
                <a:lnTo>
                  <a:pt x="30" y="18"/>
                </a:lnTo>
                <a:lnTo>
                  <a:pt x="30" y="13"/>
                </a:lnTo>
                <a:lnTo>
                  <a:pt x="29" y="9"/>
                </a:lnTo>
                <a:lnTo>
                  <a:pt x="26" y="5"/>
                </a:lnTo>
                <a:lnTo>
                  <a:pt x="23" y="2"/>
                </a:lnTo>
                <a:lnTo>
                  <a:pt x="19" y="0"/>
                </a:lnTo>
                <a:lnTo>
                  <a:pt x="14" y="0"/>
                </a:lnTo>
                <a:lnTo>
                  <a:pt x="9" y="2"/>
                </a:lnTo>
                <a:lnTo>
                  <a:pt x="4" y="5"/>
                </a:lnTo>
                <a:lnTo>
                  <a:pt x="1" y="8"/>
                </a:lnTo>
                <a:lnTo>
                  <a:pt x="0" y="12"/>
                </a:lnTo>
                <a:lnTo>
                  <a:pt x="0" y="18"/>
                </a:lnTo>
                <a:lnTo>
                  <a:pt x="0" y="23"/>
                </a:lnTo>
                <a:lnTo>
                  <a:pt x="1" y="28"/>
                </a:lnTo>
                <a:lnTo>
                  <a:pt x="4" y="32"/>
                </a:lnTo>
                <a:close/>
                <a:moveTo>
                  <a:pt x="9" y="9"/>
                </a:moveTo>
                <a:lnTo>
                  <a:pt x="11" y="6"/>
                </a:lnTo>
                <a:lnTo>
                  <a:pt x="14" y="5"/>
                </a:lnTo>
                <a:lnTo>
                  <a:pt x="19" y="6"/>
                </a:lnTo>
                <a:lnTo>
                  <a:pt x="21" y="9"/>
                </a:lnTo>
                <a:lnTo>
                  <a:pt x="23" y="10"/>
                </a:lnTo>
                <a:lnTo>
                  <a:pt x="24" y="15"/>
                </a:lnTo>
                <a:lnTo>
                  <a:pt x="24" y="18"/>
                </a:lnTo>
                <a:lnTo>
                  <a:pt x="24" y="22"/>
                </a:lnTo>
                <a:lnTo>
                  <a:pt x="23" y="25"/>
                </a:lnTo>
                <a:lnTo>
                  <a:pt x="21" y="28"/>
                </a:lnTo>
                <a:lnTo>
                  <a:pt x="19" y="31"/>
                </a:lnTo>
                <a:lnTo>
                  <a:pt x="14" y="32"/>
                </a:lnTo>
                <a:lnTo>
                  <a:pt x="11" y="31"/>
                </a:lnTo>
                <a:lnTo>
                  <a:pt x="9" y="28"/>
                </a:lnTo>
                <a:lnTo>
                  <a:pt x="6" y="26"/>
                </a:lnTo>
                <a:lnTo>
                  <a:pt x="6" y="22"/>
                </a:lnTo>
                <a:lnTo>
                  <a:pt x="6" y="18"/>
                </a:lnTo>
                <a:lnTo>
                  <a:pt x="6" y="15"/>
                </a:lnTo>
                <a:lnTo>
                  <a:pt x="6" y="10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4" name=""/>
          <p:cNvSpPr/>
          <p:nvPr/>
        </p:nvSpPr>
        <p:spPr>
          <a:xfrm>
            <a:off x="4821120" y="5796000"/>
            <a:ext cx="9720" cy="76320"/>
          </a:xfrm>
          <a:custGeom>
            <a:avLst/>
            <a:gdLst/>
            <a:ahLst/>
            <a:rect l="l" t="t" r="r" b="b"/>
            <a:pathLst>
              <a:path w="6" h="48">
                <a:moveTo>
                  <a:pt x="6" y="8"/>
                </a:moveTo>
                <a:lnTo>
                  <a:pt x="6" y="0"/>
                </a:lnTo>
                <a:lnTo>
                  <a:pt x="0" y="0"/>
                </a:lnTo>
                <a:lnTo>
                  <a:pt x="0" y="8"/>
                </a:lnTo>
                <a:lnTo>
                  <a:pt x="6" y="8"/>
                </a:lnTo>
                <a:close/>
                <a:moveTo>
                  <a:pt x="6" y="48"/>
                </a:moveTo>
                <a:lnTo>
                  <a:pt x="6" y="13"/>
                </a:lnTo>
                <a:lnTo>
                  <a:pt x="0" y="13"/>
                </a:lnTo>
                <a:lnTo>
                  <a:pt x="0" y="48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5" name=""/>
          <p:cNvSpPr/>
          <p:nvPr/>
        </p:nvSpPr>
        <p:spPr>
          <a:xfrm>
            <a:off x="4840200" y="5816520"/>
            <a:ext cx="4464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20" y="29"/>
                </a:moveTo>
                <a:lnTo>
                  <a:pt x="18" y="31"/>
                </a:lnTo>
                <a:lnTo>
                  <a:pt x="15" y="32"/>
                </a:lnTo>
                <a:lnTo>
                  <a:pt x="11" y="31"/>
                </a:lnTo>
                <a:lnTo>
                  <a:pt x="8" y="28"/>
                </a:lnTo>
                <a:lnTo>
                  <a:pt x="7" y="26"/>
                </a:lnTo>
                <a:lnTo>
                  <a:pt x="5" y="22"/>
                </a:lnTo>
                <a:lnTo>
                  <a:pt x="5" y="18"/>
                </a:lnTo>
                <a:lnTo>
                  <a:pt x="5" y="15"/>
                </a:lnTo>
                <a:lnTo>
                  <a:pt x="7" y="10"/>
                </a:lnTo>
                <a:lnTo>
                  <a:pt x="8" y="8"/>
                </a:lnTo>
                <a:lnTo>
                  <a:pt x="11" y="6"/>
                </a:lnTo>
                <a:lnTo>
                  <a:pt x="15" y="5"/>
                </a:lnTo>
                <a:lnTo>
                  <a:pt x="18" y="6"/>
                </a:lnTo>
                <a:lnTo>
                  <a:pt x="20" y="6"/>
                </a:lnTo>
                <a:lnTo>
                  <a:pt x="21" y="9"/>
                </a:lnTo>
                <a:lnTo>
                  <a:pt x="22" y="12"/>
                </a:lnTo>
                <a:lnTo>
                  <a:pt x="28" y="12"/>
                </a:lnTo>
                <a:lnTo>
                  <a:pt x="27" y="6"/>
                </a:lnTo>
                <a:lnTo>
                  <a:pt x="24" y="3"/>
                </a:lnTo>
                <a:lnTo>
                  <a:pt x="20" y="0"/>
                </a:lnTo>
                <a:lnTo>
                  <a:pt x="15" y="0"/>
                </a:lnTo>
                <a:lnTo>
                  <a:pt x="11" y="0"/>
                </a:lnTo>
                <a:lnTo>
                  <a:pt x="7" y="2"/>
                </a:lnTo>
                <a:lnTo>
                  <a:pt x="4" y="5"/>
                </a:lnTo>
                <a:lnTo>
                  <a:pt x="1" y="9"/>
                </a:lnTo>
                <a:lnTo>
                  <a:pt x="1" y="13"/>
                </a:lnTo>
                <a:lnTo>
                  <a:pt x="0" y="18"/>
                </a:lnTo>
                <a:lnTo>
                  <a:pt x="1" y="23"/>
                </a:lnTo>
                <a:lnTo>
                  <a:pt x="2" y="28"/>
                </a:lnTo>
                <a:lnTo>
                  <a:pt x="4" y="32"/>
                </a:lnTo>
                <a:lnTo>
                  <a:pt x="7" y="33"/>
                </a:lnTo>
                <a:lnTo>
                  <a:pt x="11" y="36"/>
                </a:lnTo>
                <a:lnTo>
                  <a:pt x="15" y="36"/>
                </a:lnTo>
                <a:lnTo>
                  <a:pt x="20" y="35"/>
                </a:lnTo>
                <a:lnTo>
                  <a:pt x="24" y="33"/>
                </a:lnTo>
                <a:lnTo>
                  <a:pt x="27" y="29"/>
                </a:lnTo>
                <a:lnTo>
                  <a:pt x="28" y="23"/>
                </a:lnTo>
                <a:lnTo>
                  <a:pt x="22" y="23"/>
                </a:lnTo>
                <a:lnTo>
                  <a:pt x="22" y="26"/>
                </a:lnTo>
                <a:lnTo>
                  <a:pt x="20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6" name=""/>
          <p:cNvSpPr/>
          <p:nvPr/>
        </p:nvSpPr>
        <p:spPr>
          <a:xfrm>
            <a:off x="4889520" y="581652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21" y="29"/>
                </a:moveTo>
                <a:lnTo>
                  <a:pt x="19" y="31"/>
                </a:lnTo>
                <a:lnTo>
                  <a:pt x="16" y="32"/>
                </a:lnTo>
                <a:lnTo>
                  <a:pt x="11" y="31"/>
                </a:lnTo>
                <a:lnTo>
                  <a:pt x="9" y="29"/>
                </a:lnTo>
                <a:lnTo>
                  <a:pt x="7" y="25"/>
                </a:lnTo>
                <a:lnTo>
                  <a:pt x="6" y="19"/>
                </a:lnTo>
                <a:lnTo>
                  <a:pt x="30" y="19"/>
                </a:lnTo>
                <a:lnTo>
                  <a:pt x="30" y="19"/>
                </a:lnTo>
                <a:lnTo>
                  <a:pt x="30" y="18"/>
                </a:lnTo>
                <a:lnTo>
                  <a:pt x="30" y="13"/>
                </a:lnTo>
                <a:lnTo>
                  <a:pt x="29" y="9"/>
                </a:lnTo>
                <a:lnTo>
                  <a:pt x="26" y="5"/>
                </a:lnTo>
                <a:lnTo>
                  <a:pt x="23" y="2"/>
                </a:lnTo>
                <a:lnTo>
                  <a:pt x="20" y="0"/>
                </a:lnTo>
                <a:lnTo>
                  <a:pt x="16" y="0"/>
                </a:lnTo>
                <a:lnTo>
                  <a:pt x="11" y="0"/>
                </a:lnTo>
                <a:lnTo>
                  <a:pt x="7" y="2"/>
                </a:lnTo>
                <a:lnTo>
                  <a:pt x="4" y="5"/>
                </a:lnTo>
                <a:lnTo>
                  <a:pt x="1" y="9"/>
                </a:lnTo>
                <a:lnTo>
                  <a:pt x="1" y="13"/>
                </a:lnTo>
                <a:lnTo>
                  <a:pt x="0" y="19"/>
                </a:lnTo>
                <a:lnTo>
                  <a:pt x="1" y="23"/>
                </a:lnTo>
                <a:lnTo>
                  <a:pt x="1" y="28"/>
                </a:lnTo>
                <a:lnTo>
                  <a:pt x="4" y="32"/>
                </a:lnTo>
                <a:lnTo>
                  <a:pt x="7" y="33"/>
                </a:lnTo>
                <a:lnTo>
                  <a:pt x="11" y="36"/>
                </a:lnTo>
                <a:lnTo>
                  <a:pt x="16" y="36"/>
                </a:lnTo>
                <a:lnTo>
                  <a:pt x="21" y="35"/>
                </a:lnTo>
                <a:lnTo>
                  <a:pt x="26" y="33"/>
                </a:lnTo>
                <a:lnTo>
                  <a:pt x="29" y="29"/>
                </a:lnTo>
                <a:lnTo>
                  <a:pt x="30" y="25"/>
                </a:lnTo>
                <a:lnTo>
                  <a:pt x="24" y="25"/>
                </a:lnTo>
                <a:lnTo>
                  <a:pt x="23" y="28"/>
                </a:lnTo>
                <a:lnTo>
                  <a:pt x="21" y="29"/>
                </a:lnTo>
                <a:close/>
                <a:moveTo>
                  <a:pt x="9" y="8"/>
                </a:moveTo>
                <a:lnTo>
                  <a:pt x="11" y="6"/>
                </a:lnTo>
                <a:lnTo>
                  <a:pt x="16" y="5"/>
                </a:lnTo>
                <a:lnTo>
                  <a:pt x="20" y="6"/>
                </a:lnTo>
                <a:lnTo>
                  <a:pt x="23" y="9"/>
                </a:lnTo>
                <a:lnTo>
                  <a:pt x="24" y="10"/>
                </a:lnTo>
                <a:lnTo>
                  <a:pt x="24" y="15"/>
                </a:lnTo>
                <a:lnTo>
                  <a:pt x="6" y="15"/>
                </a:lnTo>
                <a:lnTo>
                  <a:pt x="7" y="10"/>
                </a:lnTo>
                <a:lnTo>
                  <a:pt x="9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7" name=""/>
          <p:cNvSpPr/>
          <p:nvPr/>
        </p:nvSpPr>
        <p:spPr>
          <a:xfrm>
            <a:off x="3019320" y="2152800"/>
            <a:ext cx="9720" cy="12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8" name=""/>
          <p:cNvSpPr/>
          <p:nvPr/>
        </p:nvSpPr>
        <p:spPr>
          <a:xfrm>
            <a:off x="3046320" y="2152800"/>
            <a:ext cx="9720" cy="12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9" name=""/>
          <p:cNvSpPr/>
          <p:nvPr/>
        </p:nvSpPr>
        <p:spPr>
          <a:xfrm>
            <a:off x="3073320" y="2152800"/>
            <a:ext cx="11160" cy="12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0" name=""/>
          <p:cNvSpPr/>
          <p:nvPr/>
        </p:nvSpPr>
        <p:spPr>
          <a:xfrm>
            <a:off x="467640" y="123336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Zanuttigh, Brusco, Taubman &amp; Cortelazzo – ICIP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D128-42D5-4726-98ED-B33AA843BC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9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9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9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9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9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9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9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9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9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9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9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9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Initial steps 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– distortion sensitive blending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pic>
        <p:nvPicPr>
          <p:cNvPr id="9472" name="" descr=""/>
          <p:cNvPicPr/>
          <p:nvPr/>
        </p:nvPicPr>
        <p:blipFill>
          <a:blip r:embed="rId1"/>
          <a:srcRect l="0" t="20585" r="0" b="17542"/>
          <a:stretch/>
        </p:blipFill>
        <p:spPr>
          <a:xfrm>
            <a:off x="403200" y="2343240"/>
            <a:ext cx="8435880" cy="633240"/>
          </a:xfrm>
          <a:prstGeom prst="rect">
            <a:avLst/>
          </a:prstGeom>
          <a:ln w="0">
            <a:noFill/>
          </a:ln>
        </p:spPr>
      </p:pic>
      <p:sp>
        <p:nvSpPr>
          <p:cNvPr id="9473" name=""/>
          <p:cNvSpPr/>
          <p:nvPr/>
        </p:nvSpPr>
        <p:spPr>
          <a:xfrm>
            <a:off x="270360" y="1263600"/>
            <a:ext cx="54154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alable image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4" name=""/>
          <p:cNvSpPr/>
          <p:nvPr/>
        </p:nvSpPr>
        <p:spPr>
          <a:xfrm>
            <a:off x="1692360" y="3639960"/>
            <a:ext cx="425448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ometry compression and model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5" name=""/>
          <p:cNvSpPr/>
          <p:nvPr/>
        </p:nvSpPr>
        <p:spPr>
          <a:xfrm>
            <a:off x="6033240" y="3763800"/>
            <a:ext cx="21114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6" name=""/>
          <p:cNvSpPr/>
          <p:nvPr/>
        </p:nvSpPr>
        <p:spPr>
          <a:xfrm>
            <a:off x="1227240" y="2343240"/>
            <a:ext cx="216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7" name=""/>
          <p:cNvSpPr/>
          <p:nvPr/>
        </p:nvSpPr>
        <p:spPr>
          <a:xfrm>
            <a:off x="3492360" y="2343240"/>
            <a:ext cx="2374920" cy="6476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8" name=""/>
          <p:cNvSpPr/>
          <p:nvPr/>
        </p:nvSpPr>
        <p:spPr>
          <a:xfrm>
            <a:off x="6012000" y="2343240"/>
            <a:ext cx="2808000" cy="64764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9" name=""/>
          <p:cNvSpPr/>
          <p:nvPr/>
        </p:nvSpPr>
        <p:spPr>
          <a:xfrm>
            <a:off x="2050920" y="1839960"/>
            <a:ext cx="576360" cy="431640"/>
          </a:xfrm>
          <a:prstGeom prst="downArrow">
            <a:avLst>
              <a:gd name="adj1" fmla="val 36093"/>
              <a:gd name="adj2" fmla="val 463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0" name=""/>
          <p:cNvSpPr/>
          <p:nvPr/>
        </p:nvSpPr>
        <p:spPr>
          <a:xfrm flipV="1">
            <a:off x="4284720" y="3063960"/>
            <a:ext cx="576360" cy="503280"/>
          </a:xfrm>
          <a:prstGeom prst="downArrow">
            <a:avLst>
              <a:gd name="adj1" fmla="val 36093"/>
              <a:gd name="adj2" fmla="val 463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6877080" y="3063240"/>
            <a:ext cx="576360" cy="649080"/>
          </a:xfrm>
          <a:prstGeom prst="downArrow">
            <a:avLst>
              <a:gd name="adj1" fmla="val 36093"/>
              <a:gd name="adj2" fmla="val 5222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2" name=""/>
          <p:cNvSpPr/>
          <p:nvPr/>
        </p:nvSpPr>
        <p:spPr>
          <a:xfrm>
            <a:off x="250920" y="4875120"/>
            <a:ext cx="8713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imation of distortion for each sample in the sourc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ccounting for different sources of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amples are chosen in order to minim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3" name=""/>
              <p:cNvSpPr txBox="1"/>
              <p:nvPr/>
            </p:nvSpPr>
            <p:spPr>
              <a:xfrm>
                <a:off x="6340320" y="5789520"/>
                <a:ext cx="1127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CE02-81B9-4612-AC62-92A6E38CEC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9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9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9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9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9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9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9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9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Initial steps 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– server optimization problem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48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total distortion D* in the render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ing choices depend on the received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rangian optimization subject to bandwidth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6" name="" descr=""/>
          <p:cNvPicPr/>
          <p:nvPr/>
        </p:nvPicPr>
        <p:blipFill>
          <a:blip r:embed="rId1"/>
          <a:stretch/>
        </p:blipFill>
        <p:spPr>
          <a:xfrm>
            <a:off x="698400" y="2655720"/>
            <a:ext cx="7143840" cy="663840"/>
          </a:xfrm>
          <a:prstGeom prst="rect">
            <a:avLst/>
          </a:prstGeom>
          <a:ln w="0">
            <a:noFill/>
          </a:ln>
        </p:spPr>
      </p:pic>
      <p:sp>
        <p:nvSpPr>
          <p:cNvPr id="9487" name=""/>
          <p:cNvSpPr/>
          <p:nvPr/>
        </p:nvSpPr>
        <p:spPr>
          <a:xfrm>
            <a:off x="4370400" y="2584440"/>
            <a:ext cx="316872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8" name=""/>
          <p:cNvSpPr/>
          <p:nvPr/>
        </p:nvSpPr>
        <p:spPr>
          <a:xfrm>
            <a:off x="2354400" y="2584440"/>
            <a:ext cx="863640" cy="79200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9" name=""/>
          <p:cNvSpPr/>
          <p:nvPr/>
        </p:nvSpPr>
        <p:spPr>
          <a:xfrm>
            <a:off x="3290760" y="2584440"/>
            <a:ext cx="792360" cy="792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0" name=""/>
          <p:cNvSpPr/>
          <p:nvPr/>
        </p:nvSpPr>
        <p:spPr>
          <a:xfrm>
            <a:off x="3173400" y="1720800"/>
            <a:ext cx="5808600" cy="433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stortion due to image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1" name=""/>
          <p:cNvSpPr/>
          <p:nvPr/>
        </p:nvSpPr>
        <p:spPr>
          <a:xfrm>
            <a:off x="3290760" y="3952800"/>
            <a:ext cx="5472360" cy="43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stortion due to geometry and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2" name=""/>
          <p:cNvSpPr/>
          <p:nvPr/>
        </p:nvSpPr>
        <p:spPr>
          <a:xfrm>
            <a:off x="225360" y="3952800"/>
            <a:ext cx="3162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Blending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3" name=""/>
          <p:cNvSpPr/>
          <p:nvPr/>
        </p:nvSpPr>
        <p:spPr>
          <a:xfrm>
            <a:off x="5522760" y="2224080"/>
            <a:ext cx="576360" cy="289080"/>
          </a:xfrm>
          <a:prstGeom prst="downArrow">
            <a:avLst>
              <a:gd name="adj1" fmla="val 36093"/>
              <a:gd name="adj2" fmla="val 463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4" name=""/>
          <p:cNvSpPr/>
          <p:nvPr/>
        </p:nvSpPr>
        <p:spPr>
          <a:xfrm flipV="1">
            <a:off x="3433680" y="3448080"/>
            <a:ext cx="576360" cy="433440"/>
          </a:xfrm>
          <a:prstGeom prst="downArrow">
            <a:avLst>
              <a:gd name="adj1" fmla="val 36093"/>
              <a:gd name="adj2" fmla="val 463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5" name=""/>
          <p:cNvSpPr/>
          <p:nvPr/>
        </p:nvSpPr>
        <p:spPr>
          <a:xfrm flipV="1">
            <a:off x="2498760" y="3447360"/>
            <a:ext cx="576360" cy="431640"/>
          </a:xfrm>
          <a:prstGeom prst="downArrow">
            <a:avLst>
              <a:gd name="adj1" fmla="val 36093"/>
              <a:gd name="adj2" fmla="val 4637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6" name=""/>
          <p:cNvSpPr/>
          <p:nvPr/>
        </p:nvSpPr>
        <p:spPr>
          <a:xfrm>
            <a:off x="531360" y="1233360"/>
            <a:ext cx="60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(Zanuttigh, Brusco, Taubman &amp; Cortelazzo – MMSP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341B-E6C5-4AE1-B4DA-1BDDB62D78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9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9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9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9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9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9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9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9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9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Disruptive refinement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498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irst lower distortion achieved by exploiting existing cach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may choose to refine this data, rather than sending closer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switching penalty associated with new (closer)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disruptive refinement becomes favo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penalty changes effective R-D characteristic for new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9" name=""/>
          <p:cNvSpPr/>
          <p:nvPr/>
        </p:nvSpPr>
        <p:spPr>
          <a:xfrm>
            <a:off x="2878200" y="1751040"/>
            <a:ext cx="3863880" cy="2503440"/>
          </a:xfrm>
          <a:custGeom>
            <a:avLst/>
            <a:gdLst/>
            <a:ahLst/>
            <a:rect l="l" t="t" r="r" b="b"/>
            <a:pathLst>
              <a:path w="2592" h="1549">
                <a:moveTo>
                  <a:pt x="0" y="0"/>
                </a:moveTo>
                <a:lnTo>
                  <a:pt x="0" y="787"/>
                </a:lnTo>
                <a:lnTo>
                  <a:pt x="1283" y="1465"/>
                </a:lnTo>
                <a:lnTo>
                  <a:pt x="2592" y="1549"/>
                </a:lnTo>
                <a:lnTo>
                  <a:pt x="2592" y="733"/>
                </a:lnTo>
                <a:lnTo>
                  <a:pt x="13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0" name=""/>
          <p:cNvSpPr/>
          <p:nvPr/>
        </p:nvSpPr>
        <p:spPr>
          <a:xfrm>
            <a:off x="4776840" y="4113360"/>
            <a:ext cx="1967040" cy="133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1" name=""/>
          <p:cNvSpPr/>
          <p:nvPr/>
        </p:nvSpPr>
        <p:spPr>
          <a:xfrm>
            <a:off x="2884320" y="3013200"/>
            <a:ext cx="1892520" cy="1100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2" name=""/>
          <p:cNvSpPr/>
          <p:nvPr/>
        </p:nvSpPr>
        <p:spPr>
          <a:xfrm>
            <a:off x="2878200" y="1822320"/>
            <a:ext cx="3859200" cy="2416320"/>
          </a:xfrm>
          <a:custGeom>
            <a:avLst/>
            <a:gdLst/>
            <a:ahLst/>
            <a:rect l="l" t="t" r="r" b="b"/>
            <a:pathLst>
              <a:path w="2589" h="1495">
                <a:moveTo>
                  <a:pt x="0" y="0"/>
                </a:moveTo>
                <a:lnTo>
                  <a:pt x="240" y="641"/>
                </a:lnTo>
                <a:lnTo>
                  <a:pt x="752" y="1082"/>
                </a:lnTo>
                <a:lnTo>
                  <a:pt x="1277" y="1412"/>
                </a:lnTo>
                <a:lnTo>
                  <a:pt x="2589" y="149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3" name=""/>
          <p:cNvSpPr/>
          <p:nvPr/>
        </p:nvSpPr>
        <p:spPr>
          <a:xfrm>
            <a:off x="2878200" y="4370400"/>
            <a:ext cx="3997440" cy="74520"/>
          </a:xfrm>
          <a:custGeom>
            <a:avLst/>
            <a:gdLst/>
            <a:ahLst/>
            <a:rect l="l" t="t" r="r" b="b"/>
            <a:pathLst>
              <a:path w="2947" h="1">
                <a:moveTo>
                  <a:pt x="0" y="0"/>
                </a:moveTo>
                <a:lnTo>
                  <a:pt x="294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4" name=""/>
              <p:cNvSpPr txBox="1"/>
              <p:nvPr/>
            </p:nvSpPr>
            <p:spPr>
              <a:xfrm>
                <a:off x="6926400" y="4202280"/>
                <a:ext cx="365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505" name=""/>
          <p:cNvSpPr/>
          <p:nvPr/>
        </p:nvSpPr>
        <p:spPr>
          <a:xfrm>
            <a:off x="2876400" y="1109520"/>
            <a:ext cx="73080" cy="3257640"/>
          </a:xfrm>
          <a:custGeom>
            <a:avLst/>
            <a:gdLst/>
            <a:ahLst/>
            <a:rect l="l" t="t" r="r" b="b"/>
            <a:pathLst>
              <a:path w="1" h="1973">
                <a:moveTo>
                  <a:pt x="0" y="197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6" name=""/>
              <p:cNvSpPr txBox="1"/>
              <p:nvPr/>
            </p:nvSpPr>
            <p:spPr>
              <a:xfrm>
                <a:off x="2440080" y="1160640"/>
                <a:ext cx="398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507" name=""/>
          <p:cNvSpPr/>
          <p:nvPr/>
        </p:nvSpPr>
        <p:spPr>
          <a:xfrm>
            <a:off x="3629160" y="3106800"/>
            <a:ext cx="71280" cy="77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6067440" y="4041720"/>
            <a:ext cx="71280" cy="777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9" name=""/>
          <p:cNvSpPr/>
          <p:nvPr/>
        </p:nvSpPr>
        <p:spPr>
          <a:xfrm>
            <a:off x="3967200" y="3527280"/>
            <a:ext cx="71280" cy="777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0" name=""/>
          <p:cNvSpPr/>
          <p:nvPr/>
        </p:nvSpPr>
        <p:spPr>
          <a:xfrm>
            <a:off x="3200400" y="2816280"/>
            <a:ext cx="71280" cy="777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1" name=""/>
          <p:cNvSpPr/>
          <p:nvPr/>
        </p:nvSpPr>
        <p:spPr>
          <a:xfrm>
            <a:off x="4748040" y="4068720"/>
            <a:ext cx="71640" cy="777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2" name=""/>
          <p:cNvSpPr/>
          <p:nvPr/>
        </p:nvSpPr>
        <p:spPr>
          <a:xfrm>
            <a:off x="6702480" y="4206960"/>
            <a:ext cx="71280" cy="777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3" name=""/>
          <p:cNvSpPr/>
          <p:nvPr/>
        </p:nvSpPr>
        <p:spPr>
          <a:xfrm>
            <a:off x="2841480" y="1808280"/>
            <a:ext cx="71640" cy="777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4" name=""/>
          <p:cNvSpPr/>
          <p:nvPr/>
        </p:nvSpPr>
        <p:spPr>
          <a:xfrm>
            <a:off x="2835360" y="2965320"/>
            <a:ext cx="83880" cy="92160"/>
          </a:xfrm>
          <a:prstGeom prst="flowChartConnector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5" name=""/>
          <p:cNvSpPr/>
          <p:nvPr/>
        </p:nvSpPr>
        <p:spPr>
          <a:xfrm flipH="1">
            <a:off x="3707640" y="1841400"/>
            <a:ext cx="142920" cy="1171800"/>
          </a:xfrm>
          <a:custGeom>
            <a:avLst/>
            <a:gdLst>
              <a:gd name="textAreaLeft" fmla="*/ 91080 w 142920"/>
              <a:gd name="textAreaRight" fmla="*/ 142920 w 142920"/>
              <a:gd name="textAreaTop" fmla="*/ 30240 h 1171800"/>
              <a:gd name="textAreaBottom" fmla="*/ 1141560 h 11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6" name=""/>
          <p:cNvGrpSpPr/>
          <p:nvPr/>
        </p:nvGrpSpPr>
        <p:grpSpPr>
          <a:xfrm>
            <a:off x="2952720" y="1841400"/>
            <a:ext cx="755640" cy="1171440"/>
            <a:chOff x="2952720" y="1841400"/>
            <a:chExt cx="755640" cy="1171440"/>
          </a:xfrm>
        </p:grpSpPr>
        <p:sp>
          <p:nvSpPr>
            <p:cNvPr id="9517" name=""/>
            <p:cNvSpPr/>
            <p:nvPr/>
          </p:nvSpPr>
          <p:spPr>
            <a:xfrm>
              <a:off x="2952720" y="18414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3040200" y="30128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3668760" y="32130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0" name=""/>
          <p:cNvSpPr/>
          <p:nvPr/>
        </p:nvSpPr>
        <p:spPr>
          <a:xfrm flipH="1" rot="5400000">
            <a:off x="3196440" y="3160080"/>
            <a:ext cx="155520" cy="744480"/>
          </a:xfrm>
          <a:custGeom>
            <a:avLst/>
            <a:gdLst>
              <a:gd name="textAreaLeft" fmla="*/ 99360 w 155520"/>
              <a:gd name="textAreaRight" fmla="*/ 155520 w 15552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1" name=""/>
          <p:cNvGrpSpPr/>
          <p:nvPr/>
        </p:nvGrpSpPr>
        <p:grpSpPr>
          <a:xfrm>
            <a:off x="4038480" y="2057400"/>
            <a:ext cx="1298520" cy="498600"/>
            <a:chOff x="4038480" y="2057400"/>
            <a:chExt cx="1298520" cy="498600"/>
          </a:xfrm>
        </p:grpSpPr>
        <p:sp>
          <p:nvSpPr>
            <p:cNvPr id="9522" name=""/>
            <p:cNvSpPr/>
            <p:nvPr/>
          </p:nvSpPr>
          <p:spPr>
            <a:xfrm>
              <a:off x="4038480" y="2057400"/>
              <a:ext cx="1298520" cy="49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policy switching</a:t>
              </a:r>
              <a:br>
                <a:rPr sz="1400"/>
              </a:br>
              <a:r>
                <a:rPr b="0" lang="en-AU" sz="1400" spc="-1" strike="noStrike">
                  <a:solidFill>
                    <a:srgbClr val="000000"/>
                  </a:solidFill>
                  <a:latin typeface="Times New Roman"/>
                </a:rPr>
                <a:t>penalt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3" name=""/>
                <p:cNvSpPr txBox="1"/>
                <p:nvPr/>
              </p:nvSpPr>
              <p:spPr>
                <a:xfrm>
                  <a:off x="4668480" y="2266920"/>
                  <a:ext cx="23364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π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9524" name=""/>
          <p:cNvCxnSpPr>
            <a:stCxn id="9522" idx="1"/>
            <a:endCxn id="9515" idx="1"/>
          </p:cNvCxnSpPr>
          <p:nvPr/>
        </p:nvCxnSpPr>
        <p:spPr>
          <a:xfrm flipV="1" rot="10800000">
            <a:off x="3850560" y="2305440"/>
            <a:ext cx="187920" cy="121320"/>
          </a:xfrm>
          <a:prstGeom prst="curvedConnector5">
            <a:avLst>
              <a:gd name="adj1" fmla="val 49904"/>
              <a:gd name="adj2" fmla="val 50000"/>
              <a:gd name="adj3" fmla="val 49904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525" name=""/>
          <p:cNvSpPr/>
          <p:nvPr/>
        </p:nvSpPr>
        <p:spPr>
          <a:xfrm>
            <a:off x="2438280" y="218124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6" name=""/>
          <p:cNvSpPr/>
          <p:nvPr/>
        </p:nvSpPr>
        <p:spPr>
          <a:xfrm>
            <a:off x="572040" y="1849320"/>
            <a:ext cx="1872360" cy="998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-D curve ign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he client’s abil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 exploit near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ews in its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7" name=""/>
          <p:cNvSpPr/>
          <p:nvPr/>
        </p:nvSpPr>
        <p:spPr>
          <a:xfrm>
            <a:off x="307800" y="3657600"/>
            <a:ext cx="2306880" cy="7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fective R-D cur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ccounting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icy switching pen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8" name=""/>
          <p:cNvSpPr/>
          <p:nvPr/>
        </p:nvSpPr>
        <p:spPr>
          <a:xfrm>
            <a:off x="7086600" y="2722680"/>
            <a:ext cx="1584360" cy="7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rst R-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m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witch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9" name=""/>
          <p:cNvSpPr/>
          <p:nvPr/>
        </p:nvSpPr>
        <p:spPr>
          <a:xfrm flipV="1">
            <a:off x="1905120" y="3171600"/>
            <a:ext cx="1218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0" name=""/>
          <p:cNvSpPr/>
          <p:nvPr/>
        </p:nvSpPr>
        <p:spPr>
          <a:xfrm flipH="1">
            <a:off x="4787640" y="3048120"/>
            <a:ext cx="2298600" cy="10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1" name=""/>
          <p:cNvSpPr/>
          <p:nvPr/>
        </p:nvSpPr>
        <p:spPr>
          <a:xfrm flipH="1">
            <a:off x="3733920" y="2362320"/>
            <a:ext cx="25905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2" name=""/>
          <p:cNvSpPr/>
          <p:nvPr/>
        </p:nvSpPr>
        <p:spPr>
          <a:xfrm>
            <a:off x="6172200" y="1828800"/>
            <a:ext cx="1584360" cy="546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rst fea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witch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8B34-C11F-466A-BCFC-0E73F87F8B3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9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9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9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9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9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One implication </a:t>
            </a:r>
            <a:r>
              <a:rPr b="0" lang="en-AU" sz="3200" spc="-1" strike="noStrike">
                <a:solidFill>
                  <a:srgbClr val="808080"/>
                </a:solidFill>
                <a:latin typeface="Arial"/>
              </a:rPr>
              <a:t>– loss of embedding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5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scalable representations, lower qualities are always embedded within higher 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y constrast,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redundancy exploitation is based at the cli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-D optimal delivery involves both enhancing and disruptive (policy switching) refin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Arial"/>
              </a:rPr>
              <a:t>Lower bit-rate services are not generally embedded inside higher bit-rat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1050-497C-434F-90E9-B51D664BD4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Connections to distributed video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53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distributed video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me redundancy is exploited at th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.g., motion-induced inter-frame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ewed as a side-channel, available only at the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ncoder indirectly exploits the sid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808080"/>
                </a:solidFill>
                <a:latin typeface="Arial"/>
              </a:rPr>
              <a:t>(Wyner-Ziv 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ach 1: send coset indices of a suitable lattice quantizer</a:t>
            </a:r>
            <a:br>
              <a:rPr sz="2000"/>
            </a:b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Puri &amp; Ramchandran [PRISM] – Allerton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ach 2: send bits from a suitably punctured channel code</a:t>
            </a:r>
            <a:br>
              <a:rPr sz="2000"/>
            </a:b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Aaron, Zhang &amp; Girod – Asilomar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vocated for low complexity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 at decoder; encoder guesses side channe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se difficulties go away in the client/server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tion/geometry produced and stored during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e (1</a:t>
            </a:r>
            <a:r>
              <a:rPr b="0" lang="en-AU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?) example of this: </a:t>
            </a:r>
            <a:r>
              <a:rPr b="0" lang="en-AU" sz="1800" spc="-1" strike="noStrike">
                <a:solidFill>
                  <a:srgbClr val="808080"/>
                </a:solidFill>
                <a:latin typeface="Arial"/>
              </a:rPr>
              <a:t>(Cheung, Wang &amp; Ortega – VCIP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CF73-92C1-4603-814B-1A6A170928D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 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– degre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resolution (frame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resolution (frame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mb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arser approximations within fin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F013-F94D-4DFF-A583-3D83886B4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e5aa8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95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ening the loop in MC video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ables efficient scalabl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diction alone is sub-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t prediction alone has been sufficient for current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fting steps can build reversible transforms along motion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rrent and emerging work on new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tion/geometry adaptive, multi-resolution embedd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fficient structures for protecting scalabl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ET, LR-PET, …  (hypotheses on future policy are the ke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essibility is critical for interacting with massiv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ent side exploitation of redundancy may make the most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rict embedding no longer holds in R-D optim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tributed coding principles apply at the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AD8D-55A0-4AEB-90A0-8EC70BEC94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9" name="" descr=""/>
          <p:cNvPicPr/>
          <p:nvPr/>
        </p:nvPicPr>
        <p:blipFill>
          <a:blip r:embed="rId1"/>
          <a:stretch/>
        </p:blipFill>
        <p:spPr>
          <a:xfrm>
            <a:off x="324000" y="352440"/>
            <a:ext cx="8534160" cy="6019920"/>
          </a:xfrm>
          <a:prstGeom prst="rect">
            <a:avLst/>
          </a:prstGeom>
          <a:ln w="0">
            <a:noFill/>
          </a:ln>
        </p:spPr>
      </p:pic>
      <p:sp>
        <p:nvSpPr>
          <p:cNvPr id="9540" name=""/>
          <p:cNvSpPr/>
          <p:nvPr/>
        </p:nvSpPr>
        <p:spPr>
          <a:xfrm>
            <a:off x="6626880" y="544680"/>
            <a:ext cx="195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gee Beach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inutes from UN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B1F3-D690-4648-9296-E9CAE63D9E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Other objectives</a:t>
            </a:r>
            <a:endParaRPr b="0" lang="en-US" sz="36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</a:t>
            </a: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– to transmiss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facilitated by accessibility (decoupling) and scalability (embed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t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ver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recover original at sufficiently high bit-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y with some purely numerical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y for som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oving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, scalable complexity is 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C183-7F22-4A33-982F-5C0AD0033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JPEG2000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more than compression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ing and em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9480" y="1706400"/>
            <a:ext cx="4908600" cy="46594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15960" y="1712880"/>
            <a:ext cx="4897080" cy="4650480"/>
            <a:chOff x="615960" y="1712880"/>
            <a:chExt cx="4897080" cy="4650480"/>
          </a:xfrm>
        </p:grpSpPr>
        <p:grpSp>
          <p:nvGrpSpPr>
            <p:cNvPr id="91" name=""/>
            <p:cNvGrpSpPr/>
            <p:nvPr/>
          </p:nvGrpSpPr>
          <p:grpSpPr>
            <a:xfrm>
              <a:off x="3095280" y="1712880"/>
              <a:ext cx="2417760" cy="2287080"/>
              <a:chOff x="3095280" y="1712880"/>
              <a:chExt cx="2417760" cy="2287080"/>
            </a:xfrm>
          </p:grpSpPr>
          <p:sp>
            <p:nvSpPr>
              <p:cNvPr id="92" name=""/>
              <p:cNvSpPr/>
              <p:nvPr/>
            </p:nvSpPr>
            <p:spPr>
              <a:xfrm>
                <a:off x="309528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9732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9972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0212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416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656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0896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100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9528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9732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9972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00212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0416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0656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896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1100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9528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9732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9972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0212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0416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0656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0896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11000" y="22845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9528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9732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9972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0212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0416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0656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0896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11000" y="25704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9528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9732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9972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0212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0416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656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0896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11000" y="28562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9528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9732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9972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0212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0416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656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0896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11000" y="31424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9528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9732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9972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0212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0416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0656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0896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11000" y="34282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9528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9732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9972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0212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0416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0656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0896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11000" y="3714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093840" y="4071960"/>
              <a:ext cx="2415960" cy="2287080"/>
              <a:chOff x="3093840" y="4071960"/>
              <a:chExt cx="2415960" cy="228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093840" y="40719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95520" y="40719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7560" y="40719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99960" y="40719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01640" y="40719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03680" y="40719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6080" y="40719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07760" y="40719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93840" y="43578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95520" y="43578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97560" y="43578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99960" y="43578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01640" y="43578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3680" y="43578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06080" y="43578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07760" y="43578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3840" y="46436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95520" y="46436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97560" y="46436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99960" y="46436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01640" y="46436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03680" y="46436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06080" y="46436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07760" y="464364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93840" y="4929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95520" y="49294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97560" y="49294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99960" y="4929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01640" y="49294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3680" y="49294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06080" y="4929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7760" y="49294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93840" y="52153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95520" y="52153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97560" y="52153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99960" y="52153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301640" y="52153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03680" y="52153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06080" y="52153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07760" y="52153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93840" y="5501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95520" y="55015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97560" y="55015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99960" y="5501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01640" y="55015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3680" y="55015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06080" y="5501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7760" y="55015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93840" y="57873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95520" y="57873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97560" y="57873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99960" y="57873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01640" y="57873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03680" y="57873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06080" y="578736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7760" y="578736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93840" y="60732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95520" y="60732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97560" y="60732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99960" y="60732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1640" y="60732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60732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06080" y="607320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07760" y="607320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15960" y="4074840"/>
              <a:ext cx="2412360" cy="2288520"/>
              <a:chOff x="615960" y="4074840"/>
              <a:chExt cx="2412360" cy="2288520"/>
            </a:xfrm>
          </p:grpSpPr>
          <p:sp>
            <p:nvSpPr>
              <p:cNvPr id="222" name=""/>
              <p:cNvSpPr/>
              <p:nvPr/>
            </p:nvSpPr>
            <p:spPr>
              <a:xfrm>
                <a:off x="615960" y="407484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17280" y="40748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18960" y="40748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20640" y="407484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21960" y="40748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23640" y="40748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25320" y="407484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26640" y="407484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5960" y="4360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17280" y="4360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18960" y="4360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20640" y="4360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1960" y="4360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23640" y="4360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25320" y="4360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26640" y="4360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5960" y="46468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17280" y="4646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18960" y="4646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0640" y="46468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1960" y="4646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23640" y="4646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25320" y="46468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26640" y="4646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5960" y="49330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17280" y="49330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18960" y="49330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0640" y="49330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21960" y="49330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3640" y="49330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25320" y="49330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26640" y="49330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5960" y="52192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17280" y="52192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18960" y="52192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20640" y="52192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1960" y="52192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23640" y="52192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25320" y="52192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26640" y="52192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5960" y="55054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17280" y="5505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18960" y="5505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20640" y="55054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21960" y="5505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23640" y="5505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25320" y="55054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26640" y="55054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5960" y="5791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17280" y="5791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18960" y="5791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20640" y="5791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21960" y="5791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23640" y="5791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25320" y="57916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26640" y="57916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5960" y="60775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17280" y="6077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8960" y="6077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20640" y="60775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1960" y="6077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23640" y="6077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25320" y="60775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26640" y="60775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849320" y="1712880"/>
              <a:ext cx="1209240" cy="1144080"/>
              <a:chOff x="1849320" y="1712880"/>
              <a:chExt cx="1209240" cy="1144080"/>
            </a:xfrm>
          </p:grpSpPr>
          <p:sp>
            <p:nvSpPr>
              <p:cNvPr id="287" name=""/>
              <p:cNvSpPr/>
              <p:nvPr/>
            </p:nvSpPr>
            <p:spPr>
              <a:xfrm>
                <a:off x="184932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51360" y="171288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54120" y="171288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56520" y="171288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4932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51360" y="19987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54120" y="19987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56520" y="19987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49320" y="22849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51360" y="22849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54120" y="22849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56520" y="22849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49320" y="2571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51360" y="25711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54120" y="2571120"/>
                <a:ext cx="30240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56520" y="2571120"/>
                <a:ext cx="302040" cy="28584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849320" y="2887560"/>
              <a:ext cx="1209240" cy="1141200"/>
              <a:chOff x="1849320" y="2887560"/>
              <a:chExt cx="1209240" cy="1141200"/>
            </a:xfrm>
          </p:grpSpPr>
          <p:sp>
            <p:nvSpPr>
              <p:cNvPr id="304" name=""/>
              <p:cNvSpPr/>
              <p:nvPr/>
            </p:nvSpPr>
            <p:spPr>
              <a:xfrm>
                <a:off x="1849320" y="288756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51360" y="288756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454120" y="288756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56520" y="288756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49320" y="317268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51360" y="317268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54120" y="317268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56520" y="317268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49320" y="345816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51360" y="345816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54120" y="345816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56520" y="345816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49320" y="374364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51360" y="374364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54120" y="3743640"/>
                <a:ext cx="3024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56520" y="3743640"/>
                <a:ext cx="3020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17400" y="2887560"/>
              <a:ext cx="1206000" cy="1141200"/>
              <a:chOff x="617400" y="2887560"/>
              <a:chExt cx="1206000" cy="1141200"/>
            </a:xfrm>
          </p:grpSpPr>
          <p:sp>
            <p:nvSpPr>
              <p:cNvPr id="321" name=""/>
              <p:cNvSpPr/>
              <p:nvPr/>
            </p:nvSpPr>
            <p:spPr>
              <a:xfrm>
                <a:off x="617400" y="288756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18720" y="288756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20400" y="288756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22080" y="288756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400" y="317268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18720" y="317268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220400" y="317268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080" y="317268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7400" y="345816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18720" y="345816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20400" y="345816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22080" y="345816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400" y="374364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18720" y="374364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400" y="3743640"/>
                <a:ext cx="30168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22080" y="3743640"/>
                <a:ext cx="30132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7400" y="1712880"/>
              <a:ext cx="1206000" cy="1144080"/>
              <a:chOff x="617400" y="1712880"/>
              <a:chExt cx="1206000" cy="1144080"/>
            </a:xfrm>
          </p:grpSpPr>
          <p:sp>
            <p:nvSpPr>
              <p:cNvPr id="338" name=""/>
              <p:cNvSpPr/>
              <p:nvPr/>
            </p:nvSpPr>
            <p:spPr>
              <a:xfrm>
                <a:off x="617400" y="17128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18720" y="1712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20400" y="171288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22080" y="171288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7400" y="19987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18720" y="19987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20400" y="19987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22080" y="19987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7400" y="22849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18720" y="22849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20400" y="22849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22080" y="22849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7400" y="25711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18720" y="25711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20400" y="2571120"/>
                <a:ext cx="30168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080" y="2571120"/>
                <a:ext cx="301320" cy="285840"/>
              </a:xfrm>
              <a:prstGeom prst="rect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 rot="16200000">
            <a:off x="6232320" y="3646080"/>
            <a:ext cx="142920" cy="107928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64320" y="4038480"/>
            <a:ext cx="1079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6473880" y="4071960"/>
            <a:ext cx="139680" cy="107640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05520" y="4464000"/>
            <a:ext cx="1076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6712920" y="4494960"/>
            <a:ext cx="141120" cy="107640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45280" y="4886280"/>
            <a:ext cx="1076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endCxn id="354" idx="0"/>
          </p:cNvCxnSpPr>
          <p:nvPr/>
        </p:nvCxnSpPr>
        <p:spPr>
          <a:xfrm flipV="1">
            <a:off x="5361120" y="4185360"/>
            <a:ext cx="403920" cy="27720"/>
          </a:xfrm>
          <a:prstGeom prst="curvedConnector5">
            <a:avLst>
              <a:gd name="adj1" fmla="val 50223"/>
              <a:gd name="adj2" fmla="val 50000"/>
              <a:gd name="adj3" fmla="val 50223"/>
            </a:avLst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361" name=""/>
          <p:cNvCxnSpPr>
            <a:endCxn id="356" idx="0"/>
          </p:cNvCxnSpPr>
          <p:nvPr/>
        </p:nvCxnSpPr>
        <p:spPr>
          <a:xfrm flipH="1" rot="16200000">
            <a:off x="5331600" y="3935880"/>
            <a:ext cx="394560" cy="9547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362" name=""/>
          <p:cNvCxnSpPr>
            <a:endCxn id="358" idx="0"/>
          </p:cNvCxnSpPr>
          <p:nvPr/>
        </p:nvCxnSpPr>
        <p:spPr>
          <a:xfrm flipH="1" rot="16200000">
            <a:off x="5086080" y="3873960"/>
            <a:ext cx="819720" cy="150084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sp>
        <p:nvSpPr>
          <p:cNvPr id="363" name=""/>
          <p:cNvSpPr/>
          <p:nvPr/>
        </p:nvSpPr>
        <p:spPr>
          <a:xfrm>
            <a:off x="5340240" y="4192560"/>
            <a:ext cx="3204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35680" y="4192560"/>
            <a:ext cx="3168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27520" y="4192560"/>
            <a:ext cx="3024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6233400" y="1293120"/>
            <a:ext cx="141120" cy="107928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64320" y="1685880"/>
            <a:ext cx="1079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6473160" y="1716840"/>
            <a:ext cx="141120" cy="107640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05520" y="2108160"/>
            <a:ext cx="1076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6712920" y="2142360"/>
            <a:ext cx="141120" cy="107640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5280" y="2533680"/>
            <a:ext cx="1076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/>
          <p:nvPr/>
        </p:nvCxnSpPr>
        <p:spPr>
          <a:xfrm flipV="1">
            <a:off x="5364000" y="1824840"/>
            <a:ext cx="401040" cy="27720"/>
          </a:xfrm>
          <a:prstGeom prst="curvedConnector5">
            <a:avLst>
              <a:gd name="adj1" fmla="val 50224"/>
              <a:gd name="adj2" fmla="val 50000"/>
              <a:gd name="adj3" fmla="val 50224"/>
            </a:avLst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373" name=""/>
          <p:cNvCxnSpPr/>
          <p:nvPr/>
        </p:nvCxnSpPr>
        <p:spPr>
          <a:xfrm flipH="1" rot="16200000">
            <a:off x="5330880" y="1576080"/>
            <a:ext cx="396000" cy="9547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374" name=""/>
          <p:cNvCxnSpPr/>
          <p:nvPr/>
        </p:nvCxnSpPr>
        <p:spPr>
          <a:xfrm flipH="1" rot="16200000">
            <a:off x="5083920" y="1513080"/>
            <a:ext cx="819720" cy="150408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sp>
        <p:nvSpPr>
          <p:cNvPr id="375" name=""/>
          <p:cNvSpPr/>
          <p:nvPr/>
        </p:nvSpPr>
        <p:spPr>
          <a:xfrm>
            <a:off x="5340240" y="1839960"/>
            <a:ext cx="32040" cy="33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35680" y="1839960"/>
            <a:ext cx="31680" cy="33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27520" y="1839960"/>
            <a:ext cx="30240" cy="33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53240" y="2844720"/>
            <a:ext cx="328680" cy="582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53240" y="5210280"/>
            <a:ext cx="328680" cy="58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47000" y="3998880"/>
            <a:ext cx="1698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code-block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bit-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31160" y="1676520"/>
            <a:ext cx="1714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code-block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bit-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7400" y="1940040"/>
            <a:ext cx="11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Bookman Old Style"/>
              </a:rPr>
              <a:t>LL</a:t>
            </a:r>
            <a:r>
              <a:rPr b="1" i="1" lang="en-US" sz="1800" spc="-1" strike="noStrike" baseline="-25000">
                <a:solidFill>
                  <a:srgbClr val="008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34640" y="310680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Bookman Old Style"/>
              </a:rPr>
              <a:t>LH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50000" y="30686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Bookman Old Style"/>
              </a:rPr>
              <a:t>HH</a:t>
            </a:r>
            <a:r>
              <a:rPr b="1" i="1" lang="en-US" sz="1800" spc="-1" strike="noStrike" baseline="-25000">
                <a:solidFill>
                  <a:srgbClr val="bbe0e3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71600" y="19400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Bookman Old Style"/>
              </a:rPr>
              <a:t>HL</a:t>
            </a:r>
            <a:r>
              <a:rPr b="1" i="1" lang="en-US" sz="1800" spc="-1" strike="noStrike" baseline="-25000">
                <a:solidFill>
                  <a:srgbClr val="ff9933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21640" y="25052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Bookman Old Style"/>
              </a:rPr>
              <a:t>HL</a:t>
            </a:r>
            <a:r>
              <a:rPr b="1" i="1" lang="en-US" sz="1800" spc="-1" strike="noStrike" baseline="-25000">
                <a:solidFill>
                  <a:srgbClr val="ff9933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04360" y="48751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Bookman Old Style"/>
              </a:rPr>
              <a:t>HH</a:t>
            </a:r>
            <a:r>
              <a:rPr b="1" i="1" lang="en-US" sz="1800" spc="-1" strike="noStrike" baseline="-25000">
                <a:solidFill>
                  <a:srgbClr val="bbe0e3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31520" y="487512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Bookman Old Style"/>
              </a:rPr>
              <a:t>LH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D9A1-426C-4CC5-AA2E-E08AF82AF9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JPEG2000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more than compression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random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lum contrast="32000"/>
          </a:blip>
          <a:stretch/>
        </p:blipFill>
        <p:spPr>
          <a:xfrm>
            <a:off x="2932200" y="1690560"/>
            <a:ext cx="2282760" cy="22892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932200" y="4043520"/>
            <a:ext cx="2282760" cy="2300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577800" y="4052880"/>
            <a:ext cx="2295720" cy="2290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1751040" y="2862360"/>
            <a:ext cx="1144440" cy="11476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577800" y="2859120"/>
            <a:ext cx="1158840" cy="1155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6">
            <a:lum contrast="4000"/>
          </a:blip>
          <a:stretch/>
        </p:blipFill>
        <p:spPr>
          <a:xfrm>
            <a:off x="1746360" y="1685880"/>
            <a:ext cx="1149120" cy="1133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7"/>
          <a:stretch/>
        </p:blipFill>
        <p:spPr>
          <a:xfrm>
            <a:off x="577800" y="1681200"/>
            <a:ext cx="1141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932200" y="1689120"/>
            <a:ext cx="2290320" cy="2287080"/>
            <a:chOff x="2932200" y="1689120"/>
            <a:chExt cx="2290320" cy="2287080"/>
          </a:xfrm>
        </p:grpSpPr>
        <p:sp>
          <p:nvSpPr>
            <p:cNvPr id="399" name=""/>
            <p:cNvSpPr/>
            <p:nvPr/>
          </p:nvSpPr>
          <p:spPr>
            <a:xfrm>
              <a:off x="2932200" y="16891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18040" y="16891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4600" y="16891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91160" y="16891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77360" y="16891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560" y="16891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50120" y="16891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36320" y="16891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32200" y="19749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18040" y="19749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4600" y="19749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91160" y="19749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7360" y="19749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63560" y="19749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50120" y="19749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36320" y="19749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32200" y="226080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8040" y="226080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4600" y="226080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91160" y="226080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77360" y="226080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63560" y="226080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50120" y="226080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6320" y="226080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32200" y="254664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18040" y="254664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4600" y="254664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91160" y="254664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77360" y="254664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63560" y="254664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50120" y="254664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36320" y="254664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32200" y="28324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8040" y="28324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4600" y="28324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1160" y="28324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7360" y="28324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63560" y="28324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50120" y="28324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36320" y="28324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32200" y="31186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18040" y="31186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4600" y="31186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91160" y="31186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77360" y="31186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63560" y="31186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50120" y="311868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36320" y="311868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32200" y="34045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18040" y="34045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4600" y="34045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91160" y="34045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77360" y="34045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63560" y="34045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50120" y="340452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36320" y="340452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32200" y="36903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18040" y="36903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04600" y="36903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91160" y="36903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7360" y="36903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3560" y="36903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50120" y="3690360"/>
              <a:ext cx="2858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6320" y="3690360"/>
              <a:ext cx="2862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30400" y="4048200"/>
            <a:ext cx="2288880" cy="2287080"/>
            <a:chOff x="2930400" y="4048200"/>
            <a:chExt cx="2288880" cy="2287080"/>
          </a:xfrm>
        </p:grpSpPr>
        <p:sp>
          <p:nvSpPr>
            <p:cNvPr id="464" name=""/>
            <p:cNvSpPr/>
            <p:nvPr/>
          </p:nvSpPr>
          <p:spPr>
            <a:xfrm>
              <a:off x="2930400" y="40482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16240" y="40482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2440" y="40482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88640" y="40482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74840" y="40482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61040" y="40482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7240" y="40482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33080" y="40482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30400" y="43340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16240" y="43340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02440" y="43340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8640" y="43340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74840" y="43340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61040" y="43340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47240" y="43340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33080" y="43340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30400" y="461988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16240" y="461988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2440" y="461988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88640" y="461988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4840" y="461988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61040" y="461988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47240" y="461988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3080" y="461988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30400" y="490572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16240" y="490572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2440" y="490572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88640" y="490572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4840" y="490572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61040" y="490572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47240" y="490572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33080" y="490572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30400" y="51915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16240" y="51915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2440" y="51915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88640" y="51915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74840" y="51915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1040" y="51915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7240" y="51915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3080" y="51915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30400" y="54777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16240" y="54777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2440" y="54777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88640" y="54777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74840" y="54777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1040" y="54777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47240" y="547776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33080" y="547776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30400" y="57636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16240" y="57636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2440" y="57636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88640" y="57636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74840" y="57636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61040" y="57636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7240" y="576360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33080" y="576360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0400" y="60494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16240" y="60494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02440" y="60494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88640" y="60494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74840" y="60494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61040" y="60494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7240" y="6049440"/>
              <a:ext cx="2858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33080" y="6049440"/>
              <a:ext cx="28620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84280" y="4051440"/>
            <a:ext cx="2283840" cy="2288520"/>
            <a:chOff x="584280" y="4051440"/>
            <a:chExt cx="2283840" cy="2288520"/>
          </a:xfrm>
        </p:grpSpPr>
        <p:sp>
          <p:nvSpPr>
            <p:cNvPr id="529" name=""/>
            <p:cNvSpPr/>
            <p:nvPr/>
          </p:nvSpPr>
          <p:spPr>
            <a:xfrm>
              <a:off x="584280" y="405144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69400" y="405144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55240" y="405144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40720" y="405144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26200" y="405144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11680" y="405144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97520" y="405144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82640" y="405144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4280" y="43372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9400" y="43372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55240" y="43372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0720" y="43372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26200" y="43372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11680" y="43372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97520" y="43372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82640" y="43372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4280" y="46234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9400" y="46234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55240" y="46234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0720" y="46234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26200" y="46234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11680" y="46234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97520" y="46234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82640" y="46234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4280" y="49096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9400" y="49096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55240" y="49096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720" y="49096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26200" y="49096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11680" y="49096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97520" y="490968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82640" y="490968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4280" y="51955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9400" y="51955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55240" y="51955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720" y="51955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26200" y="51955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11680" y="51955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97520" y="51955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82640" y="51955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4280" y="54817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69400" y="54817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55240" y="54817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40720" y="54817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26200" y="54817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11680" y="54817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7520" y="54817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82640" y="54817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4280" y="57679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69400" y="57679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55240" y="57679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0720" y="57679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26200" y="57679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11680" y="57679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97520" y="57679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82640" y="57679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4280" y="60541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9400" y="60541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240" y="60541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40720" y="60541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26200" y="60541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11680" y="60541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97520" y="6054120"/>
              <a:ext cx="2851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82640" y="6054120"/>
              <a:ext cx="2854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751040" y="2857680"/>
            <a:ext cx="1145520" cy="1146960"/>
            <a:chOff x="1751040" y="2857680"/>
            <a:chExt cx="1145520" cy="1146960"/>
          </a:xfrm>
        </p:grpSpPr>
        <p:grpSp>
          <p:nvGrpSpPr>
            <p:cNvPr id="594" name=""/>
            <p:cNvGrpSpPr/>
            <p:nvPr/>
          </p:nvGrpSpPr>
          <p:grpSpPr>
            <a:xfrm>
              <a:off x="1752480" y="2863800"/>
              <a:ext cx="1144080" cy="1140840"/>
              <a:chOff x="1752480" y="2863800"/>
              <a:chExt cx="1144080" cy="1140840"/>
            </a:xfrm>
          </p:grpSpPr>
          <p:sp>
            <p:nvSpPr>
              <p:cNvPr id="595" name=""/>
              <p:cNvSpPr/>
              <p:nvPr/>
            </p:nvSpPr>
            <p:spPr>
              <a:xfrm>
                <a:off x="1752480" y="286380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38320" y="286380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24520" y="286380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10720" y="286380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52480" y="31489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38320" y="31489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24520" y="31489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10720" y="31489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52480" y="34340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38320" y="34340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24520" y="34340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10720" y="34340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2480" y="37195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038320" y="37195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24520" y="37195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610720" y="37195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1751040" y="3006720"/>
              <a:ext cx="1144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1040" y="3290760"/>
              <a:ext cx="1144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51040" y="3575160"/>
              <a:ext cx="1144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51040" y="3859200"/>
              <a:ext cx="114480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904040" y="2857680"/>
              <a:ext cx="0" cy="11426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181960" y="2857680"/>
              <a:ext cx="0" cy="11426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468880" y="2857680"/>
              <a:ext cx="0" cy="11426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746800" y="2857680"/>
              <a:ext cx="0" cy="11426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751040" y="1676160"/>
            <a:ext cx="1145520" cy="1147680"/>
            <a:chOff x="1751040" y="1676160"/>
            <a:chExt cx="1145520" cy="1147680"/>
          </a:xfrm>
        </p:grpSpPr>
        <p:grpSp>
          <p:nvGrpSpPr>
            <p:cNvPr id="620" name=""/>
            <p:cNvGrpSpPr/>
            <p:nvPr/>
          </p:nvGrpSpPr>
          <p:grpSpPr>
            <a:xfrm>
              <a:off x="1752480" y="1682640"/>
              <a:ext cx="1144080" cy="1141200"/>
              <a:chOff x="1752480" y="1682640"/>
              <a:chExt cx="1144080" cy="1141200"/>
            </a:xfrm>
          </p:grpSpPr>
          <p:sp>
            <p:nvSpPr>
              <p:cNvPr id="621" name=""/>
              <p:cNvSpPr/>
              <p:nvPr/>
            </p:nvSpPr>
            <p:spPr>
              <a:xfrm>
                <a:off x="1752480" y="16826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038320" y="16826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324520" y="16826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610720" y="16826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52480" y="196776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038320" y="196776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24520" y="196776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610720" y="196776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52480" y="22532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038320" y="22532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324520" y="22532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10720" y="225324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52480" y="25387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038320" y="25387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324520" y="25387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10720" y="2538720"/>
                <a:ext cx="285840" cy="28512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751040" y="1825560"/>
              <a:ext cx="11448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51040" y="2109600"/>
              <a:ext cx="11448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51040" y="2394000"/>
              <a:ext cx="11448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1040" y="2678040"/>
              <a:ext cx="11448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904040" y="1676160"/>
              <a:ext cx="0" cy="1143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81960" y="1676160"/>
              <a:ext cx="0" cy="1143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468880" y="1676160"/>
              <a:ext cx="0" cy="1143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746800" y="1676160"/>
              <a:ext cx="0" cy="1143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77800" y="2857680"/>
            <a:ext cx="1146960" cy="1146960"/>
            <a:chOff x="577800" y="2857680"/>
            <a:chExt cx="1146960" cy="1146960"/>
          </a:xfrm>
        </p:grpSpPr>
        <p:grpSp>
          <p:nvGrpSpPr>
            <p:cNvPr id="646" name=""/>
            <p:cNvGrpSpPr/>
            <p:nvPr/>
          </p:nvGrpSpPr>
          <p:grpSpPr>
            <a:xfrm>
              <a:off x="578880" y="2863800"/>
              <a:ext cx="1145880" cy="1140840"/>
              <a:chOff x="578880" y="2863800"/>
              <a:chExt cx="1145880" cy="1140840"/>
            </a:xfrm>
          </p:grpSpPr>
          <p:sp>
            <p:nvSpPr>
              <p:cNvPr id="647" name=""/>
              <p:cNvSpPr/>
              <p:nvPr/>
            </p:nvSpPr>
            <p:spPr>
              <a:xfrm>
                <a:off x="578880" y="286380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65080" y="286380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52000" y="286380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438560" y="286380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8880" y="31489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65080" y="314892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52000" y="314892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38560" y="31489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78880" y="34340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65080" y="343404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52000" y="343404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38560" y="343404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8880" y="37195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65080" y="371952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152000" y="3719520"/>
                <a:ext cx="28656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438560" y="3719520"/>
                <a:ext cx="286200" cy="285120"/>
              </a:xfrm>
              <a:prstGeom prst="rect">
                <a:avLst/>
              </a:prstGeom>
              <a:noFill/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77800" y="3006720"/>
              <a:ext cx="114624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7800" y="3290760"/>
              <a:ext cx="114624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7800" y="3575160"/>
              <a:ext cx="114624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7800" y="3859200"/>
              <a:ext cx="114624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31160" y="2857680"/>
              <a:ext cx="0" cy="11426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009080" y="2857680"/>
              <a:ext cx="0" cy="11426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296720" y="2857680"/>
              <a:ext cx="0" cy="11426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575360" y="2857680"/>
              <a:ext cx="0" cy="11426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79600" y="1687680"/>
            <a:ext cx="1145520" cy="1140840"/>
            <a:chOff x="579600" y="1687680"/>
            <a:chExt cx="1145520" cy="1140840"/>
          </a:xfrm>
        </p:grpSpPr>
        <p:sp>
          <p:nvSpPr>
            <p:cNvPr id="672" name=""/>
            <p:cNvSpPr/>
            <p:nvPr/>
          </p:nvSpPr>
          <p:spPr>
            <a:xfrm>
              <a:off x="579600" y="168768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5800" y="168768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52360" y="168768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38920" y="168768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9600" y="197280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5800" y="197280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52360" y="197280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38920" y="197280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9600" y="225792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5800" y="225792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52360" y="225792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38920" y="225792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600" y="254340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5800" y="254340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52360" y="2543400"/>
              <a:ext cx="28656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38920" y="2543400"/>
              <a:ext cx="286200" cy="285120"/>
            </a:xfrm>
            <a:prstGeom prst="rect">
              <a:avLst/>
            </a:prstGeom>
            <a:noFill/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77800" y="1830240"/>
            <a:ext cx="114624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7800" y="2114640"/>
            <a:ext cx="114624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7800" y="2398680"/>
            <a:ext cx="114624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7800" y="2682720"/>
            <a:ext cx="114624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31880" y="1680840"/>
            <a:ext cx="0" cy="11430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009800" y="1680840"/>
            <a:ext cx="0" cy="11430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297080" y="1680840"/>
            <a:ext cx="0" cy="11430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574640" y="1680840"/>
            <a:ext cx="0" cy="11430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009800" y="2114640"/>
            <a:ext cx="142560" cy="14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09800" y="3294000"/>
            <a:ext cx="142560" cy="14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78000" y="3294000"/>
            <a:ext cx="142920" cy="14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90800" y="2546280"/>
            <a:ext cx="287640" cy="287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790800" y="4905360"/>
            <a:ext cx="287640" cy="287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38200" y="4908600"/>
            <a:ext cx="287280" cy="287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78000" y="2114640"/>
            <a:ext cx="142920" cy="14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8"/>
          <a:stretch/>
        </p:blipFill>
        <p:spPr>
          <a:xfrm>
            <a:off x="5829480" y="2454120"/>
            <a:ext cx="2933640" cy="3097440"/>
          </a:xfrm>
          <a:prstGeom prst="rect">
            <a:avLst/>
          </a:prstGeom>
          <a:ln w="0">
            <a:noFill/>
          </a:ln>
        </p:spPr>
      </p:pic>
      <p:cxnSp>
        <p:nvCxnSpPr>
          <p:cNvPr id="704" name=""/>
          <p:cNvCxnSpPr>
            <a:stCxn id="427" idx="1"/>
            <a:endCxn id="705" idx="1"/>
          </p:cNvCxnSpPr>
          <p:nvPr/>
        </p:nvCxnSpPr>
        <p:spPr>
          <a:xfrm>
            <a:off x="4078440" y="2689560"/>
            <a:ext cx="2488320" cy="1288440"/>
          </a:xfrm>
          <a:prstGeom prst="curvedConnector5">
            <a:avLst>
              <a:gd name="adj1" fmla="val 21501"/>
              <a:gd name="adj2" fmla="val 50000"/>
              <a:gd name="adj3" fmla="val 21501"/>
            </a:avLst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cxnSp>
        <p:nvCxnSpPr>
          <p:cNvPr id="706" name=""/>
          <p:cNvCxnSpPr>
            <a:stCxn id="700" idx="3"/>
            <a:endCxn id="705" idx="2"/>
          </p:cNvCxnSpPr>
          <p:nvPr/>
        </p:nvCxnSpPr>
        <p:spPr>
          <a:xfrm flipV="1">
            <a:off x="4092120" y="4656960"/>
            <a:ext cx="3135960" cy="392760"/>
          </a:xfrm>
          <a:prstGeom prst="curvedConnector2">
            <a:avLst/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cxnSp>
        <p:nvCxnSpPr>
          <p:cNvPr id="707" name=""/>
          <p:cNvCxnSpPr>
            <a:stCxn id="564" idx="0"/>
            <a:endCxn id="705" idx="2"/>
          </p:cNvCxnSpPr>
          <p:nvPr/>
        </p:nvCxnSpPr>
        <p:spPr>
          <a:xfrm flipH="1" flipV="1" rot="5400000">
            <a:off x="4136760" y="2104560"/>
            <a:ext cx="538920" cy="5644080"/>
          </a:xfrm>
          <a:prstGeom prst="curvedConnector5">
            <a:avLst>
              <a:gd name="adj1" fmla="val -76938"/>
              <a:gd name="adj2" fmla="val 49996"/>
              <a:gd name="adj3" fmla="val -76938"/>
            </a:avLst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cxnSp>
        <p:nvCxnSpPr>
          <p:cNvPr id="708" name=""/>
          <p:cNvCxnSpPr>
            <a:stCxn id="698" idx="0"/>
            <a:endCxn id="705" idx="1"/>
          </p:cNvCxnSpPr>
          <p:nvPr/>
        </p:nvCxnSpPr>
        <p:spPr>
          <a:xfrm flipH="1" rot="16200000">
            <a:off x="4058280" y="1469520"/>
            <a:ext cx="699480" cy="4317120"/>
          </a:xfrm>
          <a:prstGeom prst="curvedConnector5">
            <a:avLst>
              <a:gd name="adj1" fmla="val -30638"/>
              <a:gd name="adj2" fmla="val 25485"/>
              <a:gd name="adj3" fmla="val -30638"/>
            </a:avLst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sp>
        <p:nvSpPr>
          <p:cNvPr id="705" name=""/>
          <p:cNvSpPr/>
          <p:nvPr/>
        </p:nvSpPr>
        <p:spPr>
          <a:xfrm>
            <a:off x="6580080" y="3313080"/>
            <a:ext cx="1295640" cy="1330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9" name=""/>
          <p:cNvCxnSpPr>
            <a:stCxn id="697" idx="2"/>
            <a:endCxn id="705" idx="1"/>
          </p:cNvCxnSpPr>
          <p:nvPr/>
        </p:nvCxnSpPr>
        <p:spPr>
          <a:xfrm flipH="1" rot="16200000">
            <a:off x="3560760" y="972720"/>
            <a:ext cx="526320" cy="5485680"/>
          </a:xfrm>
          <a:prstGeom prst="curvedConnector2">
            <a:avLst/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cxnSp>
        <p:nvCxnSpPr>
          <p:cNvPr id="710" name=""/>
          <p:cNvCxnSpPr>
            <a:stCxn id="696" idx="0"/>
            <a:endCxn id="705" idx="0"/>
          </p:cNvCxnSpPr>
          <p:nvPr/>
        </p:nvCxnSpPr>
        <p:spPr>
          <a:xfrm flipH="1" rot="16200000">
            <a:off x="3555000" y="-375120"/>
            <a:ext cx="1199160" cy="6147360"/>
          </a:xfrm>
          <a:prstGeom prst="curvedConnector5">
            <a:avLst>
              <a:gd name="adj1" fmla="val -17867"/>
              <a:gd name="adj2" fmla="val 49997"/>
              <a:gd name="adj3" fmla="val -17867"/>
            </a:avLst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cxnSp>
        <p:nvCxnSpPr>
          <p:cNvPr id="711" name=""/>
          <p:cNvCxnSpPr>
            <a:stCxn id="702" idx="3"/>
            <a:endCxn id="705" idx="0"/>
          </p:cNvCxnSpPr>
          <p:nvPr/>
        </p:nvCxnSpPr>
        <p:spPr>
          <a:xfrm>
            <a:off x="2335320" y="2187720"/>
            <a:ext cx="4892760" cy="1111680"/>
          </a:xfrm>
          <a:prstGeom prst="curvedConnector2">
            <a:avLst/>
          </a:prstGeom>
          <a:ln w="19080">
            <a:solidFill>
              <a:srgbClr val="ffff00"/>
            </a:solidFill>
            <a:prstDash val="dash"/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3DBE-995A-4C7B-97E2-553FF1CC9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fce"/>
            </a:gs>
            <a:gs pos="100000">
              <a:srgbClr val="dc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aa8"/>
                </a:solidFill>
                <a:latin typeface="Arial"/>
              </a:rPr>
              <a:t>JPEG2000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– more than compression</a:t>
            </a:r>
            <a:endParaRPr b="0" lang="en-US" sz="3200" spc="-1" strike="noStrike">
              <a:solidFill>
                <a:srgbClr val="3e5aa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nd resolution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9480" y="1706400"/>
            <a:ext cx="4908600" cy="465948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3095640" y="1712880"/>
            <a:ext cx="2417400" cy="2287440"/>
            <a:chOff x="3095640" y="1712880"/>
            <a:chExt cx="2417400" cy="2287440"/>
          </a:xfrm>
        </p:grpSpPr>
        <p:sp>
          <p:nvSpPr>
            <p:cNvPr id="716" name=""/>
            <p:cNvSpPr/>
            <p:nvPr/>
          </p:nvSpPr>
          <p:spPr>
            <a:xfrm>
              <a:off x="3095640" y="17128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9732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9972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02120" y="17128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0416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0656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08960" y="17128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1100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95640" y="199872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9732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9972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02120" y="199872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0416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0656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08960" y="199872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1100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95640" y="22845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97320" y="22845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99720" y="22845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02120" y="22845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04160" y="22845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06560" y="22845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08960" y="22845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11000" y="22845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95640" y="25707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97320" y="25707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99720" y="25707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02120" y="25707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04160" y="25707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06560" y="25707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08960" y="257076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11000" y="257076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95640" y="285660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97320" y="285660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99720" y="285660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02120" y="285660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04160" y="285660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06560" y="285660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08960" y="285660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11000" y="285660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95640" y="31424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97320" y="31424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99720" y="31424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02120" y="31424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04160" y="31424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06560" y="31424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08960" y="31424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11000" y="31424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95640" y="34286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7320" y="34286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99720" y="34286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02120" y="34286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04160" y="34286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06560" y="34286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08960" y="342864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11000" y="342864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95640" y="37144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97320" y="37144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99720" y="37144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02120" y="37144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04160" y="37144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06560" y="37144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08960" y="3714480"/>
              <a:ext cx="30168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11000" y="37144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094200" y="4071960"/>
            <a:ext cx="2415600" cy="2287080"/>
            <a:chOff x="3094200" y="4071960"/>
            <a:chExt cx="2415600" cy="2287080"/>
          </a:xfrm>
        </p:grpSpPr>
        <p:sp>
          <p:nvSpPr>
            <p:cNvPr id="781" name=""/>
            <p:cNvSpPr/>
            <p:nvPr/>
          </p:nvSpPr>
          <p:spPr>
            <a:xfrm>
              <a:off x="3094200" y="40719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5880" y="40719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97920" y="40719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99960" y="40719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02000" y="40719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04040" y="40719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06080" y="40719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07760" y="40719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94200" y="43578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95880" y="43578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97920" y="43578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99960" y="43578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02000" y="43578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04040" y="43578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080" y="43578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207760" y="43578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94200" y="464364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95880" y="464364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97920" y="464364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99960" y="464364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02000" y="464364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04040" y="464364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6080" y="464364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07760" y="464364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4200" y="492948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95880" y="492948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97920" y="492948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99960" y="492948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02000" y="492948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04040" y="492948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06080" y="492948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7760" y="492948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94200" y="52153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95880" y="52153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97920" y="52153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99960" y="52153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02000" y="52153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04040" y="52153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06080" y="52153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07760" y="52153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4200" y="55015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95880" y="55015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97920" y="55015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999960" y="55015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02000" y="55015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04040" y="55015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06080" y="550152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07760" y="550152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94200" y="57873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95880" y="57873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97920" y="57873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99960" y="57873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02000" y="57873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604040" y="57873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06080" y="578736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07760" y="578736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94200" y="60732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95880" y="60732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97920" y="60732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99960" y="60732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02000" y="60732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04040" y="60732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06080" y="6073200"/>
              <a:ext cx="30168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07760" y="6073200"/>
              <a:ext cx="302040" cy="28584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15960" y="4075200"/>
            <a:ext cx="2412720" cy="2288520"/>
            <a:chOff x="615960" y="4075200"/>
            <a:chExt cx="2412720" cy="2288520"/>
          </a:xfrm>
        </p:grpSpPr>
        <p:sp>
          <p:nvSpPr>
            <p:cNvPr id="846" name=""/>
            <p:cNvSpPr/>
            <p:nvPr/>
          </p:nvSpPr>
          <p:spPr>
            <a:xfrm>
              <a:off x="615960" y="407520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17280" y="407520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18960" y="407520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20640" y="407520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22320" y="407520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24000" y="407520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5680" y="407520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27000" y="407520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5960" y="4361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7280" y="4361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18960" y="4361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20640" y="4361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22320" y="4361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24000" y="4361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25680" y="4361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27000" y="4361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960" y="46472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17280" y="46472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18960" y="46472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20640" y="46472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22320" y="46472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124000" y="46472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25680" y="46472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27000" y="46472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5960" y="49334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7280" y="49334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18960" y="49334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20640" y="49334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22320" y="49334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24000" y="49334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25680" y="49334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27000" y="49334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5960" y="52196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17280" y="52196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18960" y="52196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0640" y="52196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22320" y="52196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24000" y="52196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25680" y="52196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27000" y="52196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5960" y="55058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17280" y="55058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218960" y="55058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0640" y="55058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22320" y="55058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24000" y="55058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25680" y="55058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27000" y="55058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5960" y="5792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17280" y="5792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18960" y="5792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0640" y="5792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2320" y="5792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24000" y="5792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25680" y="579204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27000" y="579204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5960" y="607788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17280" y="607788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18960" y="607788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20640" y="607788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22320" y="607788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24000" y="607788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25680" y="6077880"/>
              <a:ext cx="30132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7000" y="6077880"/>
              <a:ext cx="301680" cy="28584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849320" y="1712880"/>
            <a:ext cx="1209600" cy="1144080"/>
            <a:chOff x="1849320" y="1712880"/>
            <a:chExt cx="1209600" cy="1144080"/>
          </a:xfrm>
        </p:grpSpPr>
        <p:sp>
          <p:nvSpPr>
            <p:cNvPr id="911" name=""/>
            <p:cNvSpPr/>
            <p:nvPr/>
          </p:nvSpPr>
          <p:spPr>
            <a:xfrm>
              <a:off x="184932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51360" y="171288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54120" y="171288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56880" y="171288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4932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51360" y="19987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54120" y="19987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56880" y="19987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49320" y="22849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51360" y="22849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54120" y="22849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56880" y="22849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49320" y="25711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1360" y="25711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54120" y="2571120"/>
              <a:ext cx="30240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56880" y="2571120"/>
              <a:ext cx="302040" cy="28584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849320" y="2887560"/>
            <a:ext cx="1209600" cy="1141200"/>
            <a:chOff x="1849320" y="2887560"/>
            <a:chExt cx="1209600" cy="1141200"/>
          </a:xfrm>
        </p:grpSpPr>
        <p:sp>
          <p:nvSpPr>
            <p:cNvPr id="928" name=""/>
            <p:cNvSpPr/>
            <p:nvPr/>
          </p:nvSpPr>
          <p:spPr>
            <a:xfrm>
              <a:off x="1849320" y="288756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1360" y="288756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54120" y="288756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56880" y="288756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49320" y="317268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51360" y="317268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54120" y="317268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56880" y="317268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49320" y="345816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51360" y="345816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54120" y="345816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56880" y="345816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374364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51360" y="374364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54120" y="3743640"/>
              <a:ext cx="30240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56880" y="3743640"/>
              <a:ext cx="302040" cy="285120"/>
            </a:xfrm>
            <a:prstGeom prst="rect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17400" y="2887560"/>
            <a:ext cx="1206360" cy="1141200"/>
            <a:chOff x="617400" y="2887560"/>
            <a:chExt cx="1206360" cy="1141200"/>
          </a:xfrm>
        </p:grpSpPr>
        <p:sp>
          <p:nvSpPr>
            <p:cNvPr id="945" name=""/>
            <p:cNvSpPr/>
            <p:nvPr/>
          </p:nvSpPr>
          <p:spPr>
            <a:xfrm>
              <a:off x="617400" y="288756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18720" y="288756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20760" y="288756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22440" y="288756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7400" y="317268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18720" y="317268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20760" y="317268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22440" y="317268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7400" y="345816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18720" y="345816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20760" y="345816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22440" y="345816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7400" y="374364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18720" y="374364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20760" y="3743640"/>
              <a:ext cx="30168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22440" y="3743640"/>
              <a:ext cx="301320" cy="28512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17400" y="1712880"/>
            <a:ext cx="1206360" cy="1144080"/>
            <a:chOff x="617400" y="1712880"/>
            <a:chExt cx="1206360" cy="1144080"/>
          </a:xfrm>
        </p:grpSpPr>
        <p:sp>
          <p:nvSpPr>
            <p:cNvPr id="962" name=""/>
            <p:cNvSpPr/>
            <p:nvPr/>
          </p:nvSpPr>
          <p:spPr>
            <a:xfrm>
              <a:off x="617400" y="171288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18720" y="171288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20760" y="171288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22440" y="171288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7400" y="19987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18720" y="19987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20760" y="19987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2440" y="19987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400" y="22849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8720" y="22849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20760" y="22849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22440" y="22849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7400" y="25711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18720" y="25711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20760" y="2571120"/>
              <a:ext cx="30168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22440" y="2571120"/>
              <a:ext cx="301320" cy="285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 rot="16200000">
            <a:off x="6872040" y="3503160"/>
            <a:ext cx="142920" cy="107928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rot="16200000">
            <a:off x="6987960" y="3918960"/>
            <a:ext cx="140040" cy="107640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7120800" y="4344120"/>
            <a:ext cx="141120" cy="107640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"/>
          <p:cNvCxnSpPr>
            <a:stCxn id="982" idx="0"/>
            <a:endCxn id="978" idx="0"/>
          </p:cNvCxnSpPr>
          <p:nvPr/>
        </p:nvCxnSpPr>
        <p:spPr>
          <a:xfrm flipH="1" flipV="1" rot="5400000">
            <a:off x="5804640" y="3593880"/>
            <a:ext cx="149760" cy="10483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983" name=""/>
          <p:cNvCxnSpPr>
            <a:stCxn id="984" idx="4"/>
            <a:endCxn id="979" idx="0"/>
          </p:cNvCxnSpPr>
          <p:nvPr/>
        </p:nvCxnSpPr>
        <p:spPr>
          <a:xfrm flipH="1" rot="16200000">
            <a:off x="5670360" y="3609000"/>
            <a:ext cx="229320" cy="146916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sp>
        <p:nvSpPr>
          <p:cNvPr id="982" name=""/>
          <p:cNvSpPr/>
          <p:nvPr/>
        </p:nvSpPr>
        <p:spPr>
          <a:xfrm>
            <a:off x="5340240" y="4192560"/>
            <a:ext cx="3204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35680" y="4192560"/>
            <a:ext cx="3168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87560" y="3011400"/>
            <a:ext cx="3024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rot="16200000">
            <a:off x="6233040" y="1391040"/>
            <a:ext cx="141480" cy="107928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rot="16200000">
            <a:off x="6366600" y="1815120"/>
            <a:ext cx="141480" cy="107604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16200000">
            <a:off x="6484320" y="2240640"/>
            <a:ext cx="141120" cy="107640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9" name=""/>
          <p:cNvCxnSpPr>
            <a:stCxn id="990" idx="5"/>
            <a:endCxn id="986" idx="0"/>
          </p:cNvCxnSpPr>
          <p:nvPr/>
        </p:nvCxnSpPr>
        <p:spPr>
          <a:xfrm flipH="1" rot="16200000">
            <a:off x="5533560" y="1700640"/>
            <a:ext cx="64440" cy="39924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991" name=""/>
          <p:cNvCxnSpPr>
            <a:stCxn id="992" idx="4"/>
            <a:endCxn id="987" idx="0"/>
          </p:cNvCxnSpPr>
          <p:nvPr/>
        </p:nvCxnSpPr>
        <p:spPr>
          <a:xfrm flipH="1" rot="16200000">
            <a:off x="5234400" y="1688760"/>
            <a:ext cx="482040" cy="84996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sp>
        <p:nvSpPr>
          <p:cNvPr id="990" name=""/>
          <p:cNvSpPr/>
          <p:nvPr/>
        </p:nvSpPr>
        <p:spPr>
          <a:xfrm>
            <a:off x="5340240" y="1839960"/>
            <a:ext cx="32040" cy="33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035680" y="1839960"/>
            <a:ext cx="31680" cy="33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95480" y="1828800"/>
            <a:ext cx="30240" cy="33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17400" y="1940040"/>
            <a:ext cx="11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Bookman Old Style"/>
              </a:rPr>
              <a:t>LL</a:t>
            </a:r>
            <a:r>
              <a:rPr b="1" i="1" lang="en-US" sz="1800" spc="-1" strike="noStrike" baseline="-25000">
                <a:solidFill>
                  <a:srgbClr val="008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034640" y="310680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Bookman Old Style"/>
              </a:rPr>
              <a:t>LH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170800" y="31003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Bookman Old Style"/>
              </a:rPr>
              <a:t>HH</a:t>
            </a:r>
            <a:r>
              <a:rPr b="1" i="1" lang="en-US" sz="1800" spc="-1" strike="noStrike" baseline="-25000">
                <a:solidFill>
                  <a:srgbClr val="bbe0e3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271600" y="19400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Bookman Old Style"/>
              </a:rPr>
              <a:t>HL</a:t>
            </a:r>
            <a:r>
              <a:rPr b="1" i="1" lang="en-US" sz="1800" spc="-1" strike="noStrike" baseline="-25000">
                <a:solidFill>
                  <a:srgbClr val="ff9933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010400" y="25052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Bookman Old Style"/>
              </a:rPr>
              <a:t>HL</a:t>
            </a:r>
            <a:r>
              <a:rPr b="1" i="1" lang="en-US" sz="1800" spc="-1" strike="noStrike" baseline="-25000">
                <a:solidFill>
                  <a:srgbClr val="ff9933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104360" y="48751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Bookman Old Style"/>
              </a:rPr>
              <a:t>HH</a:t>
            </a:r>
            <a:r>
              <a:rPr b="1" i="1" lang="en-US" sz="1800" spc="-1" strike="noStrike" baseline="-25000">
                <a:solidFill>
                  <a:srgbClr val="bbe0e3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631520" y="487512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Bookman Old Style"/>
              </a:rPr>
              <a:t>LH</a:t>
            </a:r>
            <a:r>
              <a:rPr b="1" i="1" lang="en-US" sz="1800" spc="-1" strike="noStrike" baseline="-25000">
                <a:solidFill>
                  <a:srgbClr val="0066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581200" y="1838160"/>
            <a:ext cx="30240" cy="33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6622200" y="2689920"/>
            <a:ext cx="141120" cy="1076400"/>
          </a:xfrm>
          <a:prstGeom prst="rect">
            <a:avLst/>
          </a:prstGeom>
          <a:gradFill rotWithShape="0">
            <a:gsLst>
              <a:gs pos="0">
                <a:srgbClr val="fe6700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90920" y="3027240"/>
            <a:ext cx="29880" cy="3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7271640" y="4801320"/>
            <a:ext cx="141120" cy="1076400"/>
          </a:xfrm>
          <a:prstGeom prst="rect">
            <a:avLst/>
          </a:prstGeom>
          <a:gradFill rotWithShape="0">
            <a:gsLst>
              <a:gs pos="0">
                <a:srgbClr val="00dc00"/>
              </a:gs>
              <a:gs pos="100000">
                <a:srgbClr val="20828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765760" y="1859040"/>
            <a:ext cx="1041480" cy="3876480"/>
          </a:xfrm>
          <a:custGeom>
            <a:avLst/>
            <a:gdLst/>
            <a:ahLst/>
            <a:rect l="l" t="t" r="r" b="b"/>
            <a:pathLst>
              <a:path w="656" h="2442">
                <a:moveTo>
                  <a:pt x="0" y="0"/>
                </a:moveTo>
                <a:lnTo>
                  <a:pt x="0" y="90"/>
                </a:lnTo>
                <a:lnTo>
                  <a:pt x="86" y="269"/>
                </a:lnTo>
                <a:lnTo>
                  <a:pt x="86" y="355"/>
                </a:lnTo>
                <a:lnTo>
                  <a:pt x="160" y="535"/>
                </a:lnTo>
                <a:lnTo>
                  <a:pt x="160" y="621"/>
                </a:lnTo>
                <a:lnTo>
                  <a:pt x="246" y="819"/>
                </a:lnTo>
                <a:lnTo>
                  <a:pt x="246" y="903"/>
                </a:lnTo>
                <a:lnTo>
                  <a:pt x="400" y="1325"/>
                </a:lnTo>
                <a:lnTo>
                  <a:pt x="400" y="1424"/>
                </a:lnTo>
                <a:lnTo>
                  <a:pt x="477" y="1587"/>
                </a:lnTo>
                <a:lnTo>
                  <a:pt x="477" y="1683"/>
                </a:lnTo>
                <a:lnTo>
                  <a:pt x="560" y="1859"/>
                </a:lnTo>
                <a:lnTo>
                  <a:pt x="560" y="1946"/>
                </a:lnTo>
                <a:lnTo>
                  <a:pt x="656" y="2147"/>
                </a:lnTo>
                <a:lnTo>
                  <a:pt x="656" y="2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03800" y="1863720"/>
            <a:ext cx="1041480" cy="3876840"/>
          </a:xfrm>
          <a:custGeom>
            <a:avLst/>
            <a:gdLst/>
            <a:ahLst/>
            <a:rect l="l" t="t" r="r" b="b"/>
            <a:pathLst>
              <a:path w="656" h="2442">
                <a:moveTo>
                  <a:pt x="0" y="0"/>
                </a:moveTo>
                <a:lnTo>
                  <a:pt x="0" y="90"/>
                </a:lnTo>
                <a:lnTo>
                  <a:pt x="33" y="269"/>
                </a:lnTo>
                <a:lnTo>
                  <a:pt x="33" y="356"/>
                </a:lnTo>
                <a:lnTo>
                  <a:pt x="193" y="532"/>
                </a:lnTo>
                <a:lnTo>
                  <a:pt x="193" y="618"/>
                </a:lnTo>
                <a:lnTo>
                  <a:pt x="264" y="820"/>
                </a:lnTo>
                <a:lnTo>
                  <a:pt x="264" y="906"/>
                </a:lnTo>
                <a:lnTo>
                  <a:pt x="414" y="1328"/>
                </a:lnTo>
                <a:lnTo>
                  <a:pt x="417" y="1428"/>
                </a:lnTo>
                <a:lnTo>
                  <a:pt x="459" y="1594"/>
                </a:lnTo>
                <a:lnTo>
                  <a:pt x="462" y="1677"/>
                </a:lnTo>
                <a:lnTo>
                  <a:pt x="603" y="1856"/>
                </a:lnTo>
                <a:lnTo>
                  <a:pt x="606" y="1946"/>
                </a:lnTo>
                <a:lnTo>
                  <a:pt x="656" y="2147"/>
                </a:lnTo>
                <a:lnTo>
                  <a:pt x="656" y="2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5240" y="1863720"/>
            <a:ext cx="1062360" cy="3867120"/>
          </a:xfrm>
          <a:custGeom>
            <a:avLst/>
            <a:gdLst/>
            <a:ahLst/>
            <a:rect l="l" t="t" r="r" b="b"/>
            <a:pathLst>
              <a:path w="669" h="2436">
                <a:moveTo>
                  <a:pt x="0" y="0"/>
                </a:moveTo>
                <a:lnTo>
                  <a:pt x="0" y="90"/>
                </a:lnTo>
                <a:lnTo>
                  <a:pt x="70" y="260"/>
                </a:lnTo>
                <a:lnTo>
                  <a:pt x="70" y="349"/>
                </a:lnTo>
                <a:lnTo>
                  <a:pt x="266" y="528"/>
                </a:lnTo>
                <a:lnTo>
                  <a:pt x="266" y="621"/>
                </a:lnTo>
                <a:lnTo>
                  <a:pt x="282" y="819"/>
                </a:lnTo>
                <a:lnTo>
                  <a:pt x="282" y="903"/>
                </a:lnTo>
                <a:lnTo>
                  <a:pt x="400" y="1325"/>
                </a:lnTo>
                <a:lnTo>
                  <a:pt x="403" y="1418"/>
                </a:lnTo>
                <a:lnTo>
                  <a:pt x="528" y="1584"/>
                </a:lnTo>
                <a:lnTo>
                  <a:pt x="531" y="1680"/>
                </a:lnTo>
                <a:lnTo>
                  <a:pt x="630" y="1850"/>
                </a:lnTo>
                <a:lnTo>
                  <a:pt x="630" y="1949"/>
                </a:lnTo>
                <a:lnTo>
                  <a:pt x="669" y="2141"/>
                </a:lnTo>
                <a:lnTo>
                  <a:pt x="669" y="24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42080" y="1863720"/>
            <a:ext cx="1041480" cy="3876840"/>
          </a:xfrm>
          <a:custGeom>
            <a:avLst/>
            <a:gdLst/>
            <a:ahLst/>
            <a:rect l="l" t="t" r="r" b="b"/>
            <a:pathLst>
              <a:path w="656" h="2442">
                <a:moveTo>
                  <a:pt x="0" y="0"/>
                </a:moveTo>
                <a:lnTo>
                  <a:pt x="0" y="90"/>
                </a:lnTo>
                <a:lnTo>
                  <a:pt x="86" y="269"/>
                </a:lnTo>
                <a:lnTo>
                  <a:pt x="86" y="355"/>
                </a:lnTo>
                <a:lnTo>
                  <a:pt x="160" y="535"/>
                </a:lnTo>
                <a:lnTo>
                  <a:pt x="160" y="621"/>
                </a:lnTo>
                <a:lnTo>
                  <a:pt x="246" y="819"/>
                </a:lnTo>
                <a:lnTo>
                  <a:pt x="246" y="903"/>
                </a:lnTo>
                <a:lnTo>
                  <a:pt x="400" y="1325"/>
                </a:lnTo>
                <a:lnTo>
                  <a:pt x="400" y="1424"/>
                </a:lnTo>
                <a:lnTo>
                  <a:pt x="477" y="1587"/>
                </a:lnTo>
                <a:lnTo>
                  <a:pt x="477" y="1683"/>
                </a:lnTo>
                <a:lnTo>
                  <a:pt x="560" y="1859"/>
                </a:lnTo>
                <a:lnTo>
                  <a:pt x="560" y="1946"/>
                </a:lnTo>
                <a:lnTo>
                  <a:pt x="656" y="2147"/>
                </a:lnTo>
                <a:lnTo>
                  <a:pt x="656" y="2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rot="4275000">
            <a:off x="6126480" y="3511440"/>
            <a:ext cx="63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rot="4275000">
            <a:off x="6436080" y="3506760"/>
            <a:ext cx="63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4275000">
            <a:off x="6744960" y="3501720"/>
            <a:ext cx="63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365960" y="3591000"/>
            <a:ext cx="363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12560" y="572292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742080" y="57927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57280" y="1676520"/>
            <a:ext cx="6437160" cy="4724280"/>
          </a:xfrm>
          <a:custGeom>
            <a:avLst/>
            <a:gdLst/>
            <a:ahLst/>
            <a:rect l="l" t="t" r="r" b="b"/>
            <a:pathLst>
              <a:path w="4055" h="2976">
                <a:moveTo>
                  <a:pt x="1584" y="0"/>
                </a:moveTo>
                <a:lnTo>
                  <a:pt x="1584" y="1488"/>
                </a:lnTo>
                <a:lnTo>
                  <a:pt x="0" y="1488"/>
                </a:lnTo>
                <a:lnTo>
                  <a:pt x="0" y="2976"/>
                </a:lnTo>
                <a:lnTo>
                  <a:pt x="3168" y="2976"/>
                </a:lnTo>
                <a:lnTo>
                  <a:pt x="3167" y="638"/>
                </a:lnTo>
                <a:lnTo>
                  <a:pt x="4055" y="638"/>
                </a:lnTo>
                <a:lnTo>
                  <a:pt x="4055" y="0"/>
                </a:lnTo>
                <a:lnTo>
                  <a:pt x="1584" y="0"/>
                </a:lnTo>
                <a:close/>
              </a:path>
            </a:pathLst>
          </a:custGeom>
          <a:gradFill rotWithShape="0">
            <a:gsLst>
              <a:gs pos="0">
                <a:srgbClr val="a1c6d3"/>
              </a:gs>
              <a:gs pos="100000">
                <a:srgbClr val="cde9e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6" name=""/>
          <p:cNvCxnSpPr>
            <a:stCxn id="993" idx="5"/>
            <a:endCxn id="988" idx="0"/>
          </p:cNvCxnSpPr>
          <p:nvPr/>
        </p:nvCxnSpPr>
        <p:spPr>
          <a:xfrm flipH="1" rot="16200000">
            <a:off x="4007520" y="769680"/>
            <a:ext cx="923040" cy="30978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1017" name=""/>
          <p:cNvCxnSpPr>
            <a:stCxn id="1001" idx="3"/>
            <a:endCxn id="1002" idx="0"/>
          </p:cNvCxnSpPr>
          <p:nvPr/>
        </p:nvCxnSpPr>
        <p:spPr>
          <a:xfrm flipH="1" rot="16200000">
            <a:off x="3690000" y="762120"/>
            <a:ext cx="1362600" cy="35712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1018" name=""/>
          <p:cNvCxnSpPr>
            <a:stCxn id="985" idx="5"/>
            <a:endCxn id="980" idx="0"/>
          </p:cNvCxnSpPr>
          <p:nvPr/>
        </p:nvCxnSpPr>
        <p:spPr>
          <a:xfrm flipH="1" rot="16200000">
            <a:off x="3863880" y="2091600"/>
            <a:ext cx="1840680" cy="374256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cxnSp>
        <p:nvCxnSpPr>
          <p:cNvPr id="1019" name=""/>
          <p:cNvCxnSpPr>
            <a:stCxn id="1003" idx="5"/>
            <a:endCxn id="1004" idx="0"/>
          </p:cNvCxnSpPr>
          <p:nvPr/>
        </p:nvCxnSpPr>
        <p:spPr>
          <a:xfrm flipH="1" rot="16200000">
            <a:off x="3569400" y="2104920"/>
            <a:ext cx="2281680" cy="419004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DF16-8F78-410C-9C8F-AEB1DB996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S Taubman</dc:creator>
  <dc:description>Be sure to quote the author and event (Plenary, ICIP2006) when re-using any of this material.</dc:description>
  <dc:language>en-US</dc:language>
  <cp:lastModifiedBy>David S. Taubman</cp:lastModifiedBy>
  <dcterms:modified xsi:type="dcterms:W3CDTF">2006-10-20T08:39:40Z</dcterms:modified>
  <cp:revision>769</cp:revision>
  <dc:subject/>
  <dc:title>Tuesday Plenary Talk, ICIP2006 (Atlant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